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F7E-39F1-4FA7-8FD8-49856C18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BB5-973A-4909-9849-F532E956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6F6-74C1-4A49-BBC4-8E0EBF9C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0CF-EA81-4965-B9C0-70F34638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F06F-C05D-4119-93C7-45E4D718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0C31-2C29-4440-A9CE-D1610375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376F-1ACB-4B10-8AE3-658D112F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E684-2628-4784-9354-081D1616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5689-B5C9-45FF-805B-B5D4FA42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B259-A23D-42C0-B436-09836645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8151-EEE7-4442-A253-763C957B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578-A837-4090-A61C-8EBCF2B0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558D-74DD-49D3-BF03-21F8B282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62AD-9F4F-42F1-AEA9-33AE3570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A6B7-118D-4993-8384-68D9A21A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3A92-3CB1-4AA6-8077-36A30D9B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4FBE-D3EB-4960-8EBD-572070BC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C3DC1-A76E-42BB-8F7A-ED01C7F6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329EF-1CB3-4B36-AFC4-9B5D28DF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F6300-80ED-42B8-A3DF-9B2B23DF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05DC9-8AC7-46BC-97DA-5F0E2E11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898ED-6D85-4940-A89A-7E1409AB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479-AC6F-4E74-9DB1-B82E19B7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144CF-AE98-4E25-B4AA-6EA5314E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D4FBD-94DF-412D-B5A8-7D3F3E68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E5B17-8A9B-4D50-A66F-804B403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B91AA-45E3-4C3E-9C48-0506702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D4E86-71FA-4B35-9063-EFE3B655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1B36E-5CFC-4141-8FFA-79F8E3D7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29BFE-4ADE-46AE-ACD6-20633919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AB42-8909-46EF-A4C4-D9339991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08349-BC1C-4B92-8C70-C545DE0E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09EE-A90A-4A61-86EB-D19C8A70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705-2936-473B-B466-C159D8A5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D41A-5A72-4EA1-9AC4-F3E790C5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BA57-8C2D-45C9-A89F-6B9BEFE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B630-ACE9-4081-991F-4C47026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304B9-5283-4F32-9EA6-7F4873E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6412-12FE-48C5-9933-39E4328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9359-1850-4AE1-A1D3-22E5289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EBF6-A6BE-42FB-9321-66DF41AD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6AE9-D12A-4E8F-81E2-C73DA9A5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D4D5-1562-43ED-A7F7-9A1DFA1A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70098-75E0-4A99-A072-62E19E51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788-9D16-4B89-A36A-5023052F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5BB4E-B359-4642-AD3A-B88BB5B4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C9D79-97F9-4E5D-82F7-CA6065A4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42592-7CD7-473C-A74F-115383B1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ED6B0-CA41-4017-A683-9D238B80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D14EB-A317-475F-ADC1-E0E1EB73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B09F3-91D5-4D98-890E-0291A64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5D59D-B744-4ABF-A3DE-9C2E363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CD995-15DD-44B1-B237-3AEDF208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7253D-AFB2-4220-8443-6FF0580F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7A150-3AF2-4D88-A3C2-3F8B0570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F8B-E2C4-4C3D-BB1B-AE89E835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ABEC1-2C58-4561-A93F-0FD95A39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844-1A4B-4704-AF2C-10292FE1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490-1519-4CE7-9F5B-9246BC1E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7D6-C0EF-45B6-A1EE-E0B5258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FB79-3AB6-4591-B2F1-2BD78C05F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B83D-F536-4042-8267-A9ED117E1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21C2-2591-4A0B-AF50-A82E1CAC5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99C0-3ACB-4B67-A1FE-A9D777F4A7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451D-8D5B-4DE5-849C-83FC16DFF1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1052640"/>
            <a:ext cx="8497800" cy="18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ЧАСТЛИВОГО РОЖДЕСТВА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356400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68360" y="3665520"/>
            <a:ext cx="40323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005360" cy="4657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3421080" cy="5400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68400" y="32940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здравляю с Рождеств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381480" cy="4653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037400" y="-3240"/>
            <a:ext cx="510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снега укроют землю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Рождество наступит внов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кал за счастье поднимит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мир, за дружбу, за любовь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чтоб без горя и сомнени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жить Вам много светлых дней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еречь уют, покой семейны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уважение друзей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067280" y="3357720"/>
            <a:ext cx="47131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753080" cy="3719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828680" y="1335960"/>
            <a:ext cx="431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частливого Рождества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 сердечно поздравляю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Рождеством всех вас!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частья искренне желаю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тот светлый час!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усть Вас озарит сиянье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звездной высоты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исполнятся желанья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аны и мечты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усть нежданная удача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збудоражит кровь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конечно, много значат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ружба и любовь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753080" cy="4243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443640" y="2349360"/>
            <a:ext cx="2297160" cy="2665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132000" y="5391000"/>
            <a:ext cx="54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ОЖДЕСТВЕНСКОЕ ПОЗД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иселёвой  Ольги  Викторовны.                                                             г. Ульян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6:55:53Z</dcterms:created>
  <dc:creator>WiZaRd</dc:creator>
  <dc:description/>
  <dc:language>en-US</dc:language>
  <cp:lastModifiedBy>Ольга</cp:lastModifiedBy>
  <dcterms:modified xsi:type="dcterms:W3CDTF">2012-01-06T18:55:12Z</dcterms:modified>
  <cp:revision>6</cp:revision>
  <dc:subject/>
  <dc:title>Слайд 1</dc:title>
</cp:coreProperties>
</file>