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883-3BD5-431B-A5EB-A4EBF2A7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2DA-EB08-4BB5-A231-5E55950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B25-1087-4E85-9E64-FCE2DF54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F99-5596-4D3D-BE25-CE592FB5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C89C-3ECC-4769-82EB-A39D8158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F4F5-7B4D-4ED8-A89D-9BD0ECBC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A9E1-220A-4C39-BD32-EE09BC49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A8A7-60AB-41D3-85A1-2A46C1B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9A99-CBCB-43C6-BA36-0D2A3C06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B9A-880B-470D-A2BE-9B3D7A7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5D18-8D72-423E-977F-8FE726EB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2FC-0157-4443-BAB3-BAB697D3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815E-CE03-4943-B2CD-1C74A82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36D8-64E9-4479-82CB-8984840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0885-9174-48B3-8C84-A29986AE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AF6-CE83-4123-91C9-88320E5E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D8D5-D03A-4390-94A6-53DB105B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2C77E-7CFA-45D4-8360-A9B53171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A4AD1-088B-45C0-852D-3ABB7726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50E9B-979F-46AA-B4A9-31045AEB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0F132-567A-4E1D-94EE-A613295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8D748-F101-4F01-82D9-39B88DCE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F51-B383-498C-8B75-F884391D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F3FC0-75B3-4ADC-B251-755C660B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64E2B-59DD-4F42-AED9-BF47F7FF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24B6A-168E-4F7A-810D-3955709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E9983-5506-421B-9A64-E379BAA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A9FA9-52D1-44BB-B0C8-DC925395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66513-EBA2-4456-AC63-AB896663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BA8EB-56A6-4E1E-8D12-612AE935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D018-3655-46C2-9621-938A4AB3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CF42-D1E1-4670-A5BB-4497B810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E151-0A5F-444D-BD82-693AF2F2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68C-2CB8-4F0E-B432-EA3DD00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D52D-F97A-4362-8743-B425DD0D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510D-8F76-496D-BD9E-46C6ED99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BFF5F-7C6E-43AF-8F2C-55B91A95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4814-E346-4B15-B585-73ADBE56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33BB-6C1C-4D12-B5CB-10B9285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BD64-E483-495E-BF63-A51D2002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FE531-ADE5-462E-8489-77DBEFDC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5C0D-FB70-48AD-8082-DB4BFC8D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D4E6-00D2-420A-8042-BEBE988A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C0394-E124-44A7-857B-C6BE1E90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066-F1A4-48EE-B3C4-30B88867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D89C3-C531-4692-A289-F1184155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79A1C-D3C6-469B-90A2-967908AE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C300B-17FE-4E25-88DF-9D5EFD9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98978-C515-4F9D-9F59-EAE9EEB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7DD61-1695-4498-B1DA-A8E3F745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F265A-D22B-4872-B69A-6761B01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1E0DB-7AC7-4FE0-A4F3-0B134AD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CDC00-4AEE-469B-9A0A-FE2BCF15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0F52D-C0BB-4723-8628-842EEDDF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53C54-1F32-47AC-928C-12711A9D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2E3-1C31-452C-A6BD-2C233F04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95458-F0CF-4D3A-885F-BF165C10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F6D-2B46-47FB-91E6-AB04DFB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42D-D290-40AF-BA33-847D341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5AB-F69E-4D1F-BD35-4880881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67D9-B3DF-4CF6-9D8E-013731C64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6ADE-FFAD-41F3-AFB5-4316B654E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0364-5FBE-411A-AB23-33F7ED19D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BF7-D735-4D71-B775-47D4C6321B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D2FE-D75C-44B7-B047-611185FE97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1052640"/>
            <a:ext cx="849780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ОГО РОЖДЕСТВА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56400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68360" y="3665520"/>
            <a:ext cx="40323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005360" cy="4657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3421080" cy="5400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68400" y="32940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здравляю с Рождеств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381480" cy="4653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037400" y="-3240"/>
            <a:ext cx="510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снега укроют землю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ождество наступит внов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кал за счастье поднимит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мир, за дружбу, за любовь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чтоб без горя и сомнени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жить Вам много светлых дней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еречь уют, покой семейны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уважение друзей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067280" y="3357720"/>
            <a:ext cx="47131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753080" cy="3719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828680" y="1335960"/>
            <a:ext cx="431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частливого Рождества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 сердечно поздравляю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Рождеством всех вас!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частья искренне желаю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тот светлый час!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сть Вас озарит сиянье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звездной высоты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исполнятся желанья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аны и мечты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усть нежданная удача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збудоражит кровь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конечно, много значат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ружба и любовь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753080" cy="4243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443640" y="2349360"/>
            <a:ext cx="2297160" cy="2665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132000" y="5391000"/>
            <a:ext cx="54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ОЖДЕСТВЕНСКОЕ ПОЗД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иселёвой  Ольги  Викторовны.                                                             г. Ульян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6:55:53Z</dcterms:created>
  <dc:creator>WiZaRd</dc:creator>
  <dc:description/>
  <dc:language>en-US</dc:language>
  <cp:lastModifiedBy>Ольга</cp:lastModifiedBy>
  <dcterms:modified xsi:type="dcterms:W3CDTF">2012-01-06T18:55:12Z</dcterms:modified>
  <cp:revision>6</cp:revision>
  <dc:subject/>
  <dc:title>Слайд 1</dc:title>
</cp:coreProperties>
</file>