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4E6-960E-46CD-AA48-ECBB467F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807-EB68-4A6E-B4BE-1E5AAC91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582-2E58-4057-8EE6-41637E98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8C6-B774-44AF-8D3F-0673E05F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273-C929-4B8D-9E0B-4C705F94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3CA-9DB2-4F82-8513-0AB2755D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ED0-4561-42B3-9DF4-3FCA14DF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F3F-BEE8-4CDE-8CC0-9E1DC044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D17-628B-4DD0-A81F-682055D3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39F-1B76-483A-87E9-0599FFDE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DCF-F813-4BCD-887E-F7E923FA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D97F-2C29-4AC4-A79A-166F730C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ff"/>
            </a:gs>
            <a:gs pos="100000">
              <a:srgbClr val="e5e5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874B-6AE8-47B7-A273-0FCFE68A2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ff"/>
            </a:gs>
            <a:gs pos="100000">
              <a:srgbClr val="e5e5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12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360" y="2492280"/>
            <a:ext cx="56516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Уважаемые коллег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Пусть в Новом году с Вами будет любовь,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И нежность, и счастье, и радость,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Хорошие люди встречаются вновь,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И будут проблемы не в тягость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Пусть в Новом году с Вами будет любовь,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Оставьте всё старое в старом.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Улыбки, удачи, мечты вновь и вновь,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Пойдут с Вами об руку ряд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         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Людмила Ив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ff"/>
            </a:gs>
            <a:gs pos="100000">
              <a:srgbClr val="e5e5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d0b1d0b8d182d0bed0b5-d181d182d0b5d0bad0bbd0be (480x360, 48 Kb)"/>
          <p:cNvPicPr/>
          <p:nvPr/>
        </p:nvPicPr>
        <p:blipFill>
          <a:blip r:embed="rId1"/>
          <a:stretch/>
        </p:blipFill>
        <p:spPr>
          <a:xfrm>
            <a:off x="468360" y="260280"/>
            <a:ext cx="8136000" cy="2737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Советую приготовить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-4 пачки разноцветного желе; • 1 пачка желатина (25 гр.); • 1/2 литра жирной сметаны; • 2 банана; • 50 гр. мелкого печенья типа крекер; • 1/2 стакана сахар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творите каждую пачку желе в 1 стакане кипятка и дайте засты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том порежьте желе на небольшие кубики и сложите в любую подходящую форму (например пластиковый лоток), перекладывая разноцветное желе кусочками банана и печень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творите желатин в 1 стакане кипятка и введите сметану и сахар, размешайте до однородной массы и залейте приготовленное же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авьте в холодильник до полного застывания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 желейный торт затвердеет, поставьте форму в емкость с очень горячей водой буквально на несколько секунд, чтобы торт отстал от стенок и переверните его на блюдо, порежьте на квадраты или ломтики любой понравившейся формы и подавайте на стол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ff"/>
            </a:gs>
            <a:gs pos="100000">
              <a:srgbClr val="e5e5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12:12:54Z</dcterms:created>
  <dc:creator>Admin</dc:creator>
  <dc:description/>
  <dc:language>en-US</dc:language>
  <cp:lastModifiedBy>Admin</cp:lastModifiedBy>
  <dcterms:modified xsi:type="dcterms:W3CDTF">2011-12-23T14:23:04Z</dcterms:modified>
  <cp:revision>3</cp:revision>
  <dc:subject/>
  <dc:title>Слайд 1</dc:title>
</cp:coreProperties>
</file>