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E1E-9FC0-466B-AB2C-6BCCBC3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BC7-95A4-4611-ACEA-1F39216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60A-130E-4E13-96DA-459BCC20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43B-5ED8-468F-8069-9E1CB66D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E18-97D3-4F8E-987B-F13494FC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00B-6EBD-4F8E-A33C-5AABDA4C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764-1F24-45D9-82FA-263E0391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2D5-3A11-4B77-A54C-7006EEC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BBA-E58A-45B8-82C0-9A7E38CA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4EC-8CFC-4F2B-99AF-6B1C506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9DB-294E-4EF7-871C-AADAD80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1B7-A31C-4942-B9F6-8C3BF56B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BA1-1D25-4F07-9FFE-82B3FCC7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1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360" y="2492280"/>
            <a:ext cx="56516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Уважаемые колле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Пусть в Новом году с Вами будет люб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И нежность, и счастье, и радост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Хорошие люди встречаются вн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И будут проблемы не в тягость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Пусть в Новом году с Вами будет люб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ставьте всё старое в старом.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Улыбки, удачи, мечты вновь и вновь,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Пойдут с Вами об руку ряд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Людмила Ив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d0b1d0b8d182d0bed0b5-d181d182d0b5d0bad0bbd0be (480x360, 48 Kb)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273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Советую приготовить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-4 пачки разноцветного желе; • 1 пачка желатина (25 гр.); • 1/2 литра жирной сметаны; • 2 банана; • 50 гр. мелкого печенья типа крекер; • 1/2 стакана сахар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творите каждую пачку желе в 1 стакане кипятка и дайте засты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том порежьте желе на небольшие кубики и сложите в любую подходящую форму (например пластиковый лоток), перекладывая разноцветное желе кусочками банана и печень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творите желатин в 1 стакане кипятка и введите сметану и сахар, размешайте до однородной массы и залейте приготовленное же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авьте в холодильник до полного застывани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желейный торт затвердеет, поставьте форму в емкость с очень горячей водой буквально на несколько секунд, чтобы торт отстал от стенок и переверните его на блюдо, порежьте на квадраты или ломтики любой понравившейся формы и подавайте на стол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f"/>
            </a:gs>
            <a:gs pos="100000">
              <a:srgbClr val="e5e5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12:12:54Z</dcterms:created>
  <dc:creator>Admin</dc:creator>
  <dc:description/>
  <dc:language>en-US</dc:language>
  <cp:lastModifiedBy>Admin</cp:lastModifiedBy>
  <dcterms:modified xsi:type="dcterms:W3CDTF">2011-12-23T14:23:04Z</dcterms:modified>
  <cp:revision>3</cp:revision>
  <dc:subject/>
  <dc:title>Слайд 1</dc:title>
</cp:coreProperties>
</file>