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45.png" ContentType="image/png"/>
  <Override PartName="/ppt/media/image36.jpeg" ContentType="image/jpeg"/>
  <Override PartName="/ppt/media/image37.jpeg" ContentType="image/jpeg"/>
  <Override PartName="/ppt/media/image46.png" ContentType="image/png"/>
  <Override PartName="/ppt/media/image31.jpeg" ContentType="image/jpeg"/>
  <Override PartName="/ppt/media/image53.jpeg" ContentType="image/jpeg"/>
  <Override PartName="/ppt/media/image43.png" ContentType="image/png"/>
  <Override PartName="/ppt/media/image38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30.jpeg" ContentType="image/jpeg"/>
  <Override PartName="/ppt/media/image55.png" ContentType="image/png"/>
  <Override PartName="/ppt/media/image40.jpeg" ContentType="image/jpeg"/>
  <Override PartName="/ppt/media/image4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47.png" ContentType="image/png"/>
  <Override PartName="/ppt/media/image35.jpeg" ContentType="image/jpeg"/>
  <Override PartName="/ppt/media/image29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DB6-B5D9-41C7-AA8E-A0658444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532-49F5-4812-8B34-885CF641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8BD1-3553-4B1C-A84E-7C1E39EB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02C7-E22C-482E-A8A5-4F711E93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CC0A-24C8-4707-BB5B-5F5A89A56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B8E0-7E95-44B2-98B4-5B710598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F577-D4B7-4340-925F-9FA530B8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CCB7-615A-46C8-B44C-C1D3128F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802-75E4-4976-973A-57533F86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F8CD-EDD1-4BD2-9D45-FB99A493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3913-6479-4E12-A6DA-770F82D8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2CE-DD38-4701-AB7D-94387D9D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51D8-9BC0-489E-9547-982BAC6E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C179-543F-4EC2-9041-2795C62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733E-8CFC-4362-97E5-B3FD5D49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3D445-9DA6-4725-9C3A-D649F57D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B98-8C8B-48BB-A56C-D6F7E221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55C6-AD49-4A56-8C99-25635A8D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FA7F1-7C6D-42BD-8E13-59BA46C6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24F5D-9AB9-431E-95E0-2C0BD8AF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DDE0F-37CA-47CB-B5EB-ED107006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36C7-6B5A-4AF8-BDD6-2D5E293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C332-5BAD-42B7-91BD-AD9FA5A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DF3B-FEA7-4D1B-9EBA-13A6C1D5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68190-008B-416A-9577-A96BE16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A3472-C322-4A87-86A1-AAA43602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3A07-5CCF-4F1B-998F-F4F75BAE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A4E1-CC40-4F6F-831F-CBD10613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812EE-30D9-4EC8-8030-C4E57CC6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BCA72-87FF-41A2-83EE-A1CBE3DC0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2A230-B745-4099-AD0F-19999DDC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5E24-3787-4B2B-898C-69607A46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72C90-E5A0-42F9-9EC0-0B1430F8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2CF4-79AF-4A5B-8978-05F34754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BF556-3F71-42A6-921C-24D6581C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69218-3AAB-46AA-94C4-D65CD07E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59D0E-3C1A-4187-8308-88B4093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182B5-2792-4804-A190-0B1A37C2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28B6F-5B90-4181-B197-77C8AFD0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EF43E-DEA3-4D56-937F-B42A4A04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C215-3473-418E-A05C-32876B54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B2C00-B367-4C3F-86DD-52A4B532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8284-796F-4546-ABEF-4B785D32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27E-127F-49B0-A403-AD960BE1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204-667A-4A53-8457-A7F7A3E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D60-3FE5-498D-BA07-24F5206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ABB3-7A9E-4E0D-B48D-55D79334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9A2-4474-4D47-BF4C-BD8DD2F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51D-7684-48CA-A491-A09D727C817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D184-7DA8-43A1-919A-CDCB2ADE2A2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EF3B-7C8E-4A7A-A0DD-F116E6A2E31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3999-BDB3-473B-94A6-0C96CE50BBB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2"/>
          <a:stretch/>
        </p:blipFill>
        <p:spPr>
          <a:xfrm>
            <a:off x="500040" y="1214280"/>
            <a:ext cx="669600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3"/>
          <a:stretch/>
        </p:blipFill>
        <p:spPr>
          <a:xfrm>
            <a:off x="500040" y="292896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5214960" y="1000080"/>
            <a:ext cx="36669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"/>
          <p:cNvSpPr/>
          <p:nvPr/>
        </p:nvSpPr>
        <p:spPr>
          <a:xfrm>
            <a:off x="1285920" y="428760"/>
            <a:ext cx="642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ГОРИЗОНТАЛЬНАЯ   ЛИНИЯ    В 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823896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142920"/>
            <a:ext cx="2000160" cy="4286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"/>
          <p:cNvPicPr/>
          <p:nvPr/>
        </p:nvPicPr>
        <p:blipFill>
          <a:blip r:embed="rId3"/>
          <a:stretch/>
        </p:blipFill>
        <p:spPr>
          <a:xfrm>
            <a:off x="3429000" y="285840"/>
            <a:ext cx="230508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4"/>
          <a:stretch/>
        </p:blipFill>
        <p:spPr>
          <a:xfrm>
            <a:off x="7000920" y="285840"/>
            <a:ext cx="1933560" cy="4976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5"/>
          <a:stretch/>
        </p:blipFill>
        <p:spPr>
          <a:xfrm>
            <a:off x="5008680" y="2714760"/>
            <a:ext cx="2125440" cy="3786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6"/>
          <a:stretch/>
        </p:blipFill>
        <p:spPr>
          <a:xfrm>
            <a:off x="1785960" y="2643120"/>
            <a:ext cx="198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428760" y="64296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ДИАГОНАЛЬ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   </a:t>
            </a: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ЛИНИЯ    В  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D:\Света\зрительные иллюзии в одежде\eee.jpg"/>
          <p:cNvPicPr/>
          <p:nvPr/>
        </p:nvPicPr>
        <p:blipFill>
          <a:blip r:embed="rId2"/>
          <a:stretch/>
        </p:blipFill>
        <p:spPr>
          <a:xfrm>
            <a:off x="1643040" y="1989000"/>
            <a:ext cx="58579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D:\Света\зрительные иллюзии в одежде\24.jpg"/>
          <p:cNvPicPr/>
          <p:nvPr/>
        </p:nvPicPr>
        <p:blipFill>
          <a:blip r:embed="rId2"/>
          <a:stretch/>
        </p:blipFill>
        <p:spPr>
          <a:xfrm>
            <a:off x="6429240" y="3000240"/>
            <a:ext cx="2357640" cy="3535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3"/>
          <a:stretch/>
        </p:blipFill>
        <p:spPr>
          <a:xfrm>
            <a:off x="428760" y="214200"/>
            <a:ext cx="2171520" cy="51436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D:\Света\зрительные иллюзии в одежде\Polosa1.jpg"/>
          <p:cNvPicPr/>
          <p:nvPr/>
        </p:nvPicPr>
        <p:blipFill>
          <a:blip r:embed="rId4"/>
          <a:stretch/>
        </p:blipFill>
        <p:spPr>
          <a:xfrm>
            <a:off x="2500200" y="2714760"/>
            <a:ext cx="2428920" cy="3795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5"/>
          <a:stretch/>
        </p:blipFill>
        <p:spPr>
          <a:xfrm>
            <a:off x="4786200" y="214200"/>
            <a:ext cx="1676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285840" y="285840"/>
            <a:ext cx="195264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/>
          <a:stretch/>
        </p:blipFill>
        <p:spPr>
          <a:xfrm>
            <a:off x="2500200" y="928800"/>
            <a:ext cx="1962360" cy="5500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4"/>
          <a:stretch/>
        </p:blipFill>
        <p:spPr>
          <a:xfrm>
            <a:off x="4643280" y="357120"/>
            <a:ext cx="2333880" cy="4572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5"/>
          <a:stretch/>
        </p:blipFill>
        <p:spPr>
          <a:xfrm>
            <a:off x="7143840" y="1428840"/>
            <a:ext cx="166680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2"/>
          <p:cNvSpPr/>
          <p:nvPr/>
        </p:nvSpPr>
        <p:spPr>
          <a:xfrm>
            <a:off x="398880" y="642960"/>
            <a:ext cx="838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7e"/>
                </a:solidFill>
                <a:latin typeface="Georgia"/>
              </a:rPr>
              <a:t>КАКИМ  ЗРИТЕЛЬНЫМИ  ИЛЛЮЗ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a7e"/>
                </a:solidFill>
                <a:latin typeface="Georgia"/>
              </a:rPr>
              <a:t>ДОСТИГАЕТСЯ ЭФФЕКТ  СТРОЙ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571680" y="1928880"/>
            <a:ext cx="2152440" cy="45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3357720" y="1928880"/>
            <a:ext cx="2131920" cy="4500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4"/>
          <a:stretch/>
        </p:blipFill>
        <p:spPr>
          <a:xfrm>
            <a:off x="6357960" y="1857240"/>
            <a:ext cx="19684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1000080" y="235728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наиболее сильный эффект строй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создают  горизонтальные лини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расположен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высоко или низко на фигу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"/>
          <p:cNvSpPr/>
          <p:nvPr/>
        </p:nvSpPr>
        <p:spPr>
          <a:xfrm>
            <a:off x="2071800" y="2428920"/>
            <a:ext cx="5429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чем ближ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диагональ к вертика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тем сильне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a7e"/>
                </a:solidFill>
                <a:latin typeface="Georgia"/>
              </a:rPr>
              <a:t>эффект строй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1857240" y="1143000"/>
            <a:ext cx="6201000" cy="60948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"/>
          <p:cNvSpPr/>
          <p:nvPr/>
        </p:nvSpPr>
        <p:spPr>
          <a:xfrm>
            <a:off x="2286000" y="24289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удлинить рос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ожно при помощ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вертикальных  линий  кр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1214280" y="1143000"/>
            <a:ext cx="7248600" cy="609480"/>
          </a:xfrm>
          <a:prstGeom prst="rect">
            <a:avLst/>
          </a:prstGeom>
          <a:ln w="0">
            <a:noFill/>
          </a:ln>
        </p:spPr>
      </p:pic>
      <p:sp>
        <p:nvSpPr>
          <p:cNvPr id="246" name="Прямоугольник 2"/>
          <p:cNvSpPr/>
          <p:nvPr/>
        </p:nvSpPr>
        <p:spPr>
          <a:xfrm>
            <a:off x="785880" y="2000160"/>
            <a:ext cx="7715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ля  создания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иллюзии  стройност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промежут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ежду  вертикальными  ли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олжны   бы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как  можно  дальш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руг  от  дру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71625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" descr=""/>
          <p:cNvPicPr/>
          <p:nvPr/>
        </p:nvPicPr>
        <p:blipFill>
          <a:blip r:embed="rId2"/>
          <a:stretch/>
        </p:blipFill>
        <p:spPr>
          <a:xfrm>
            <a:off x="1071720" y="1071720"/>
            <a:ext cx="7248240" cy="60948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2"/>
          <p:cNvSpPr/>
          <p:nvPr/>
        </p:nvSpPr>
        <p:spPr>
          <a:xfrm>
            <a:off x="2000160" y="2357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горизонтальные ли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можно располаг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на проблемных зонах фиг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"/>
          <p:cNvPicPr/>
          <p:nvPr/>
        </p:nvPicPr>
        <p:blipFill>
          <a:blip r:embed="rId2"/>
          <a:stretch/>
        </p:blipFill>
        <p:spPr>
          <a:xfrm>
            <a:off x="1143000" y="1143000"/>
            <a:ext cx="7248600" cy="6094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1357200" y="2214720"/>
            <a:ext cx="65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вертикальные ли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делают фигуру зрительно  выш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 </a:t>
            </a: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если  они расположе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a7e"/>
                </a:solidFill>
                <a:latin typeface="Georgia"/>
              </a:rPr>
              <a:t>на линии тал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428760" y="571680"/>
            <a:ext cx="8248680" cy="1143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"/>
          <p:cNvPicPr/>
          <p:nvPr/>
        </p:nvPicPr>
        <p:blipFill>
          <a:blip r:embed="rId3"/>
          <a:stretch/>
        </p:blipFill>
        <p:spPr>
          <a:xfrm>
            <a:off x="285840" y="1500120"/>
            <a:ext cx="1798560" cy="5148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4"/>
          <a:stretch/>
        </p:blipFill>
        <p:spPr>
          <a:xfrm>
            <a:off x="2786040" y="1785960"/>
            <a:ext cx="2759040" cy="47624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5"/>
          <a:stretch/>
        </p:blipFill>
        <p:spPr>
          <a:xfrm>
            <a:off x="5500800" y="1836720"/>
            <a:ext cx="28098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642960" y="857160"/>
            <a:ext cx="3606840" cy="5191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3"/>
          <a:stretch/>
        </p:blipFill>
        <p:spPr>
          <a:xfrm>
            <a:off x="4533840" y="857160"/>
            <a:ext cx="3732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ЯВЛЕНИЕ    ИРРАДИАЦИ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2" descr="D:\Света\зрительные иллюзии в одежде\15.jpg"/>
          <p:cNvPicPr/>
          <p:nvPr/>
        </p:nvPicPr>
        <p:blipFill>
          <a:blip r:embed="rId2"/>
          <a:stretch/>
        </p:blipFill>
        <p:spPr>
          <a:xfrm>
            <a:off x="1143000" y="1928880"/>
            <a:ext cx="6715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D:\Света\зрительные иллюзии в одежде\IMG_1252.jpg"/>
          <p:cNvPicPr/>
          <p:nvPr/>
        </p:nvPicPr>
        <p:blipFill>
          <a:blip r:embed="rId2"/>
          <a:stretch/>
        </p:blipFill>
        <p:spPr>
          <a:xfrm>
            <a:off x="500040" y="1000080"/>
            <a:ext cx="3533760" cy="52866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:\Света\зрительные иллюзии в одежде\x_c03239d1.jpg"/>
          <p:cNvPicPr/>
          <p:nvPr/>
        </p:nvPicPr>
        <p:blipFill>
          <a:blip r:embed="rId3"/>
          <a:stretch/>
        </p:blipFill>
        <p:spPr>
          <a:xfrm>
            <a:off x="4429080" y="1571760"/>
            <a:ext cx="4283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Georgia"/>
              </a:rPr>
              <a:t>ИЛЛЮЗИЯ    КОНТРАС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2" name="Picture 7" descr="D:\Света\зрительные иллюзии в одежде\Копия 071022_st_nevisok1.jpg"/>
          <p:cNvPicPr/>
          <p:nvPr/>
        </p:nvPicPr>
        <p:blipFill>
          <a:blip r:embed="rId2"/>
          <a:stretch/>
        </p:blipFill>
        <p:spPr>
          <a:xfrm>
            <a:off x="1285920" y="1857240"/>
            <a:ext cx="647712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D:\Света\зрительные иллюзии в одежде\меньше.png"/>
          <p:cNvPicPr/>
          <p:nvPr/>
        </p:nvPicPr>
        <p:blipFill>
          <a:blip r:embed="rId2"/>
          <a:stretch/>
        </p:blipFill>
        <p:spPr>
          <a:xfrm>
            <a:off x="100080" y="642960"/>
            <a:ext cx="86202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1"/>
          <p:cNvSpPr/>
          <p:nvPr/>
        </p:nvSpPr>
        <p:spPr>
          <a:xfrm>
            <a:off x="1340640" y="714240"/>
            <a:ext cx="67550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2060"/>
                </a:solidFill>
                <a:latin typeface="Georgia"/>
              </a:rPr>
              <a:t>ЗРИТЕЛЬНЫЕ  ИЛЛЮЗИИ –</a:t>
            </a:r>
            <a:r>
              <a:rPr b="0" lang="en-US" sz="36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искажён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восприятие  глазо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Georgia"/>
              </a:rPr>
              <a:t>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3" descr="D:\Света\оптические иллюзии\иллюзии зрительного восприятия\006.jpg"/>
          <p:cNvPicPr/>
          <p:nvPr/>
        </p:nvPicPr>
        <p:blipFill>
          <a:blip r:embed="rId2"/>
          <a:stretch/>
        </p:blipFill>
        <p:spPr>
          <a:xfrm>
            <a:off x="1428840" y="4071960"/>
            <a:ext cx="62611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D:\Света\оптические иллюзии\иллюзии зрительного восприятия\ris2.gif"/>
          <p:cNvPicPr/>
          <p:nvPr/>
        </p:nvPicPr>
        <p:blipFill>
          <a:blip r:embed="rId2"/>
          <a:stretch/>
        </p:blipFill>
        <p:spPr>
          <a:xfrm>
            <a:off x="357120" y="2928960"/>
            <a:ext cx="4500720" cy="8906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2"/>
          <p:cNvSpPr/>
          <p:nvPr/>
        </p:nvSpPr>
        <p:spPr>
          <a:xfrm>
            <a:off x="571680" y="571680"/>
            <a:ext cx="8072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2060"/>
                </a:solidFill>
                <a:latin typeface="Georgia"/>
              </a:rPr>
              <a:t>ОПТИКО – ГЕОМЕТРИЧЕСКАЯ  ИЛЛЮЗ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2060"/>
                </a:solidFill>
                <a:uFillTx/>
                <a:latin typeface="Georgia"/>
              </a:rPr>
              <a:t>МЮЛЛЕРА - ЛАЙ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5357880" y="1714680"/>
            <a:ext cx="319068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ИЛЛЮЗИЯ    ПЕРЕОЦЕНКИ  ВЕРТИКА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Рисунок 6" descr="http://tvorim.e-gloryon.com/userdata/images/pereocenka%20vertikali3.jpg"/>
          <p:cNvPicPr/>
          <p:nvPr/>
        </p:nvPicPr>
        <p:blipFill>
          <a:blip r:embed="rId2"/>
          <a:stretch/>
        </p:blipFill>
        <p:spPr>
          <a:xfrm>
            <a:off x="500040" y="2643120"/>
            <a:ext cx="4786200" cy="221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D:\Света\зрительные иллюзии в одежде\910103.jpg"/>
          <p:cNvPicPr/>
          <p:nvPr/>
        </p:nvPicPr>
        <p:blipFill>
          <a:blip r:embed="rId3"/>
          <a:stretch/>
        </p:blipFill>
        <p:spPr>
          <a:xfrm>
            <a:off x="6072120" y="1857240"/>
            <a:ext cx="229248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:\Света\зрительные иллюзии в одежде\ттт.jpg"/>
          <p:cNvPicPr/>
          <p:nvPr/>
        </p:nvPicPr>
        <p:blipFill>
          <a:blip r:embed="rId2"/>
          <a:stretch/>
        </p:blipFill>
        <p:spPr>
          <a:xfrm>
            <a:off x="928800" y="785880"/>
            <a:ext cx="725004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3"/>
          <p:cNvSpPr/>
          <p:nvPr/>
        </p:nvSpPr>
        <p:spPr>
          <a:xfrm>
            <a:off x="734400" y="642960"/>
            <a:ext cx="79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Georgia"/>
              </a:rPr>
              <a:t>ВЕРТИКАЛЬНАЯ  ЛИНИЯ  В  ОДЕЖ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4500720" y="1357200"/>
            <a:ext cx="2000160" cy="4762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0" y="1285920"/>
            <a:ext cx="4335480" cy="361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"/>
          <p:cNvPicPr/>
          <p:nvPr/>
        </p:nvPicPr>
        <p:blipFill>
          <a:blip r:embed="rId4"/>
          <a:stretch/>
        </p:blipFill>
        <p:spPr>
          <a:xfrm>
            <a:off x="6858000" y="1643040"/>
            <a:ext cx="194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:\Света\зрительные иллюзии в одежде\ооо.jpg"/>
          <p:cNvPicPr/>
          <p:nvPr/>
        </p:nvPicPr>
        <p:blipFill>
          <a:blip r:embed="rId2"/>
          <a:stretch/>
        </p:blipFill>
        <p:spPr>
          <a:xfrm>
            <a:off x="0" y="1071720"/>
            <a:ext cx="3094200" cy="51433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3"/>
          <a:stretch/>
        </p:blipFill>
        <p:spPr>
          <a:xfrm>
            <a:off x="3214800" y="1000080"/>
            <a:ext cx="2619360" cy="36194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4"/>
          <a:stretch/>
        </p:blipFill>
        <p:spPr>
          <a:xfrm>
            <a:off x="6286680" y="1000080"/>
            <a:ext cx="25048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D:\Света\зрительные иллюзии в одежде\юю.jpg"/>
          <p:cNvPicPr/>
          <p:nvPr/>
        </p:nvPicPr>
        <p:blipFill>
          <a:blip r:embed="rId2"/>
          <a:stretch/>
        </p:blipFill>
        <p:spPr>
          <a:xfrm>
            <a:off x="0" y="1214280"/>
            <a:ext cx="3807000" cy="51436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3"/>
          <a:stretch/>
        </p:blipFill>
        <p:spPr>
          <a:xfrm>
            <a:off x="4071960" y="2143080"/>
            <a:ext cx="2286000" cy="4048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4"/>
          <a:stretch/>
        </p:blipFill>
        <p:spPr>
          <a:xfrm>
            <a:off x="6572160" y="714240"/>
            <a:ext cx="2286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2:38:31Z</dcterms:created>
  <dc:creator>СВЕТЛАНА</dc:creator>
  <dc:description/>
  <dc:language>en-US</dc:language>
  <cp:lastModifiedBy>Ольга</cp:lastModifiedBy>
  <dcterms:modified xsi:type="dcterms:W3CDTF">2011-12-16T22:47:45Z</dcterms:modified>
  <cp:revision>46</cp:revision>
  <dc:subject/>
  <dc:title>Слайд 1</dc:title>
</cp:coreProperties>
</file>