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D27-FCF4-404F-B75B-014727A6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E50-7156-4888-BDF7-4EE7256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85C-B966-4773-8919-9946CFA2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8F2-E1CE-42BC-B944-2B29C0BF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F48B-2BA1-4EDF-8C44-C5B6D63F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7215-C986-492E-A832-CD874BFF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416-8065-4376-BB5E-192D2D0F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FA48-8559-4B82-B7B3-1D84BDE6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B84C-2579-48CC-87D3-CB0A4E53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4EC-459E-4D9F-8589-94AD643B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899C-AD3F-4673-A703-BD80AFC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F29-87AD-4E46-873B-4B73CC0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0B00-9D5E-4E52-9B4F-B46C3BA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E505-B60A-46DE-8CE3-BDD8DB5D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9BA3-DE86-4BD5-BC54-01F47D0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75B4-8BA4-49CF-963C-4BFB6E45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1490-6B18-48A7-A0E9-AFDF9DC1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3EF-DEA8-4526-9B9D-9BE1B67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19B-0CAA-4533-B0CD-0B7D6E3E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BCB-DC98-4569-8B08-B43DEC7A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FDA-3303-46E8-B422-E139C06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28E-53D4-47DD-8C99-0019E6B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D28-6433-468D-9590-193C8F8D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190-0E32-4926-BD81-6B37FAE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E64B-1F30-4CB7-B68B-BEEBEBD384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5D7D-B653-41B1-B711-9CF1CF87A5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hnologiya.ucoz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ovikova-art.ru/" TargetMode="External"/><Relationship Id="rId2" Type="http://schemas.openxmlformats.org/officeDocument/2006/relationships/hyperlink" Target="http://www.livemaster.ru/topic/8811-malenkij-master-klass-ili-o-tom-kak-eto-delayu-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3933360"/>
            <a:ext cx="7061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торая жизнь стеклянной бутылки</a:t>
            </a:r>
            <a:br>
              <a:rPr sz="4400"/>
            </a:br>
            <a:br>
              <a:rPr sz="4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йдарова Анастасия, МОУ «СОШ  № 142»  г. Омс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Ивлева Людмила Григорьевна.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765000"/>
            <a:ext cx="622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прерывная  подготовка  учителя  технологии» </a:t>
            </a:r>
            <a:r>
              <a:rPr b="0" lang="ru-RU" sz="16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http://tehnologiya.ucoz.r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 Всероссийский Интернет-конкурс-выстав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"Украшаем дом своими руками"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070000" cy="2665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место заключения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68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чно, все это можно купить. Тема стеклянных фантазий сейчас очень популярна, но стоимость этих изделий значительн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 такая вещь стоит  в пределах 300-350 рублей, поэтому своими изделиями, кроме подарка, я старалась  принести радость моему учителю  и оставить о себе память, украсив интерьер каби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Успехов в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е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641760" cy="4105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спользованные источни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т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гин В., Хиггинс М. Искусство витража. От истоков к современности. М.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рья Люцкевич., Роспись по стеклу. Издательство: Эксмо,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ма Седман.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пись по стеклу. Практическое руководство, Издательство: Никола-Пресс,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йцева А.А. Роспись по стеклу: Оригинальные техники и прием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Художественное стекло и витраж» Каталог. Выпуск 1. – М.: Металлургиздат,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http://www.novikova-ar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http://www.livemaster.ru/topic/8811-malenkij-master-klass-ili-o-tom-kak-eto-delay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http://www.zzorik.ru/site/masters/master3.htmhttp://kis-tochka.ucoz.ru/publ/master_klassy/rospis_stekla/uroki_rospisi_po_steklu/7-1-0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Стекло  – замечательный материал…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425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ыту встречается  много  ненужных вещей, которые каждый из нас использует по-разному. Кто-то их выкидывает, а кто-то и нет. Многие на первый взгляд ненужные вещи можно использовать в интерьере.  Дизайнеры всего мира используют в украшении своих проектов всякое вторичное сырье: бутылки, кусочки тканей, веточки и тому подоб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ближается день, когда я уйду из школы. Мне очень захотелось оставить в кабинете технологии  о себе память. Я долго думала и решила,  что это будет роспись по стеклу  серия -   «Русское поле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29264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Цель работ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 декоративных стеклянных изделий  серии «Русское поле» из вторичного сырья в подарок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51640" y="4797360"/>
            <a:ext cx="1378080" cy="1627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Материалы и инструменты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работы мне необходимы следующие материалы и инстр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клянная бутылка (различной формы и цве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ющие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ляные крас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ашевые крас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тные пало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Поэтапный мастер-класс росписи стекла."/>
          <p:cNvPicPr/>
          <p:nvPr/>
        </p:nvPicPr>
        <p:blipFill>
          <a:blip r:embed="rId1"/>
          <a:stretch/>
        </p:blipFill>
        <p:spPr>
          <a:xfrm>
            <a:off x="4140360" y="4797360"/>
            <a:ext cx="2735280" cy="184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2543400" cy="190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4167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бор материала для роспис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1484280"/>
          <a:ext cx="8353440" cy="4249800"/>
        </p:xfrm>
        <a:graphic>
          <a:graphicData uri="http://schemas.openxmlformats.org/drawingml/2006/table">
            <a:tbl>
              <a:tblPr/>
              <a:tblGrid>
                <a:gridCol w="1546200"/>
                <a:gridCol w="4125960"/>
                <a:gridCol w="268128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В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Достои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итражные кр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ее практичны, устойчивы к влаге, удобны в использовании, есть опыт работы с ни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о сохнут, текут, требуют большого опыта работы с ними, дорого стоя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Масляные кр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ьма устойчивы, хорошо   «ложатся» на стекло. Позволяют сделать изделие более «легким» по восприятию. Имею опыт работы с ни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специфический зап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Гуаше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кр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о смешиваются для получения нужных колеров и хорошо ложатся, при добавлении клея П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стойчивы к влаге, осыпаются, недолговечны. Покрывают стекло, скрывая его прозра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11280" y="5950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для работы выбираю  краски в зависимости от идеи росписи, как правило или гуашь, или масляные краски, как  более дешевый материа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1871640" cy="280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ехнология выполнения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2565000"/>
            <a:ext cx="468144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д началом работы проводиться подготовка поверхно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орируемого предм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ка стеклянной поверхности сводится к ее очистке от грязи и пыли способом  обезжир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любым удобным средством для мытья стекол, мыльным раствором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2305080" cy="21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84360" y="1557360"/>
            <a:ext cx="813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того чтобы добиться успеха, и эстетический вид изделия,  нас радовал, мне  необходимо продумать  последовательность   технологического процесса по изготовлению издел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вободная роспись по стеклу.            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4149360"/>
            <a:ext cx="78483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Технология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ступая к росписи наносим краску, аккуратно размазывая тонкой ки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уем травинки зеленой, темно-зеленой и желтой крас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лишки краски убираем ватной палоч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ём высохнуть, и производим корректировку (не все получается так как хотелось бы  сраз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2016000" cy="223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195280" cy="223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012000" y="1700280"/>
            <a:ext cx="2232000" cy="223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812000" y="836640"/>
            <a:ext cx="117648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ехнология выполнения: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4221000"/>
            <a:ext cx="8281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сторона изделия должна находиться в горизонтально положении до полного высыхания крас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высохшей краске можно нанести добавления другим   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так, работа закончена, при желании бутылку можно  покрыть лаком, но это не обяз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Используя данный алгоритм, выполняю серию работ под названием   «Русское п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2050920" cy="230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Серия «Русское поле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 техникой свободной росписи по стеклу я работаю не первый го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усское поле» это новая тема в моем твор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чником вдохновения новой серии «Русское поле» послужила идея отражения красоты природы в стекле, которое долгой сибирской зимой будет напоминать нам о л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4" descr="100_1736.JPG"/>
          <p:cNvPicPr/>
          <p:nvPr/>
        </p:nvPicPr>
        <p:blipFill>
          <a:blip r:embed="rId1"/>
          <a:stretch/>
        </p:blipFill>
        <p:spPr>
          <a:xfrm>
            <a:off x="1116000" y="3429000"/>
            <a:ext cx="189540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8" name="Содержимое 4" descr="100_1735.JPG"/>
          <p:cNvPicPr/>
          <p:nvPr/>
        </p:nvPicPr>
        <p:blipFill>
          <a:blip r:embed="rId2"/>
          <a:stretch/>
        </p:blipFill>
        <p:spPr>
          <a:xfrm>
            <a:off x="5508720" y="3429000"/>
            <a:ext cx="200160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250920" y="6165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омашки, ромашки, ромашки цветы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623736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61657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Маки, маки, красные маки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ерия   «Смешная девчонка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а в этой серии выполнялась по  эскизам и гуашевыми красками с добавлением клея ПВА, для предохранения красок от осып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4149720"/>
            <a:ext cx="212112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2041560" cy="2532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800" y="8625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5530680" y="2565360"/>
            <a:ext cx="3022920" cy="4103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24T11:25:21Z</dcterms:modified>
  <cp:revision>164</cp:revision>
  <dc:subject/>
  <dc:title>PowerPoint Presentation</dc:title>
</cp:coreProperties>
</file>