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3F8-BF04-447A-82C2-361AFE8E3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B21-8E1D-436F-A595-BB72BED64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229A-37F2-4B1B-A392-1AB85BE8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7CE-C297-4D2F-B700-1D9A8C35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E59-A2F9-45CE-8CDF-9F60344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4D0-F7CC-4169-AD7D-7C0EE359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E54-C229-4385-A002-A802F2A0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C24-66B1-49F4-B564-1AB88FF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9CD-2DBA-4437-999B-345270A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2EC-32B7-4F62-A389-CEB44654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C27-F35B-488D-B2CF-428A967F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47A-6F4E-4D29-BCE3-E5B6033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331-D407-49AB-AD89-D30F018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501-E5AF-40CF-9DF0-EC2D446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915-D73E-411A-88DE-B565F0E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F187-F57F-4421-8BAA-1E453399F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571680"/>
            <a:ext cx="7236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сероссийский  Интерне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тавка-конкурс 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Украшаем дом своими руками», проводимой на портале«Непрерывная подготовка учителя технологии» номинация- «Диванные подушки, валики, пуфики»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е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ванная подушка с «розами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чникова Лидия Николаевна учитель технологии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шкортостан г.Агидель 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БУ СОШ №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928880" y="2872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очки из атласной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57120" y="714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те зеленую ленту шириной 5 см, длиной 10 с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ем верхний правый и левый углы. Получаем треуголь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Admin\Мои документы\Мои рисунки\лидаВ\лидаВ 294.jpg"/>
          <p:cNvPicPr/>
          <p:nvPr/>
        </p:nvPicPr>
        <p:blipFill>
          <a:blip r:embed="rId1"/>
          <a:stretch/>
        </p:blipFill>
        <p:spPr>
          <a:xfrm>
            <a:off x="785880" y="19288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Admin\Мои документы\Мои рисунки\лидаВ\лидаВ 295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719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Admin\Мои документы\Мои рисунки\лидаВ\лидаВ 298.jpg"/>
          <p:cNvPicPr/>
          <p:nvPr/>
        </p:nvPicPr>
        <p:blipFill>
          <a:blip r:embed="rId3"/>
          <a:stretch/>
        </p:blipFill>
        <p:spPr>
          <a:xfrm>
            <a:off x="785880" y="43578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Admin\Мои документы\Мои рисунки\лидаВ\лидаВ 305.jpg"/>
          <p:cNvPicPr/>
          <p:nvPr/>
        </p:nvPicPr>
        <p:blipFill>
          <a:blip r:embed="rId4"/>
          <a:stretch/>
        </p:blipFill>
        <p:spPr>
          <a:xfrm>
            <a:off x="4857840" y="4357800"/>
            <a:ext cx="350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928880" y="5727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дываем нижние углы к цент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Мои рисунки\лидаВ\лидаВ 299.jpg"/>
          <p:cNvPicPr/>
          <p:nvPr/>
        </p:nvPicPr>
        <p:blipFill>
          <a:blip r:embed="rId1"/>
          <a:stretch/>
        </p:blipFill>
        <p:spPr>
          <a:xfrm>
            <a:off x="2000160" y="2071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928880" y="42876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ываем снизу срезы на нитку. Стягиваем. Получился лист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Мои рисунки\лидаВ\лидаВ 300.jpg"/>
          <p:cNvPicPr/>
          <p:nvPr/>
        </p:nvPicPr>
        <p:blipFill>
          <a:blip r:embed="rId1"/>
          <a:stretch/>
        </p:blipFill>
        <p:spPr>
          <a:xfrm>
            <a:off x="1643040" y="192888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\Мои документы\Мои рисунки\лидаВ\лидаВ 304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4500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542880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АЮ ТВОРЧЕСКИХ УСПЕХОВ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ойте 2 квадрата размером 40см * 40 см (припуск на шов 1 см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лидаВ 219.jpg"/>
          <p:cNvPicPr/>
          <p:nvPr/>
        </p:nvPicPr>
        <p:blipFill>
          <a:blip r:embed="rId1"/>
          <a:stretch/>
        </p:blipFill>
        <p:spPr>
          <a:xfrm>
            <a:off x="1857240" y="1600200"/>
            <a:ext cx="54295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шаблон корзины и раскроите по нему ткань, прибавив по всем сторонам 0.5 с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лидаВ 25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лидаВ 252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4718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3179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ка. Ширина - 7с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атласная лента. Ширина - 5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ные ленты для «роз». Ширина 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лидаВ 252.jpg"/>
          <p:cNvPicPr/>
          <p:nvPr/>
        </p:nvPicPr>
        <p:blipFill>
          <a:blip r:embed="rId2"/>
          <a:stretch/>
        </p:blipFill>
        <p:spPr>
          <a:xfrm>
            <a:off x="3571920" y="1214280"/>
            <a:ext cx="51116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подкрахмальте, отутюжьте и вырежьте корзинку. Наложите деталь корзинки на фон, прикрепите булавками (можно пришить вручную потайным швом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лидаВ 220.jpg"/>
          <p:cNvPicPr/>
          <p:nvPr/>
        </p:nvPicPr>
        <p:blipFill>
          <a:blip r:embed="rId1"/>
          <a:stretch/>
        </p:blipFill>
        <p:spPr>
          <a:xfrm>
            <a:off x="1714680" y="2286000"/>
            <a:ext cx="50004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829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оза» из атласной лен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лидаВ 229.jpg"/>
          <p:cNvPicPr/>
          <p:nvPr/>
        </p:nvPicPr>
        <p:blipFill>
          <a:blip r:embed="rId1"/>
          <a:stretch/>
        </p:blipFill>
        <p:spPr>
          <a:xfrm>
            <a:off x="357120" y="1285920"/>
            <a:ext cx="337356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лидаВ 230.jpg"/>
          <p:cNvPicPr/>
          <p:nvPr/>
        </p:nvPicPr>
        <p:blipFill>
          <a:blip r:embed="rId2"/>
          <a:stretch/>
        </p:blipFill>
        <p:spPr>
          <a:xfrm>
            <a:off x="357120" y="4000680"/>
            <a:ext cx="3357720" cy="25160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143240" y="12988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рите ленту 1 м. От конца  ленты оставьте 15 см и перекидываем другую часть ленты,  теперь держа правым большим пальцем середину (где образовался сгиб) левую сторону ленты загибаем вниз, чтобы образовался треуголь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286160" y="485784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ую сторону ленты загибаем налево, чтобы образовался  квадрат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лидаВ 232.jpg"/>
          <p:cNvPicPr/>
          <p:nvPr/>
        </p:nvPicPr>
        <p:blipFill>
          <a:blip r:embed="rId1"/>
          <a:stretch/>
        </p:blipFill>
        <p:spPr>
          <a:xfrm>
            <a:off x="42876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лидаВ 233.jpg"/>
          <p:cNvPicPr/>
          <p:nvPr/>
        </p:nvPicPr>
        <p:blipFill>
          <a:blip r:embed="rId2"/>
          <a:stretch/>
        </p:blipFill>
        <p:spPr>
          <a:xfrm>
            <a:off x="357120" y="3643200"/>
            <a:ext cx="3500640" cy="2692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4143240" y="500040"/>
            <a:ext cx="44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ленты, который оказался внизу сгибаем наверх, как бы покрывая этот квадрат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357800" y="37861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 поочерёдно до ко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лидаВ 234.jpg"/>
          <p:cNvPicPr/>
          <p:nvPr/>
        </p:nvPicPr>
        <p:blipFill>
          <a:blip r:embed="rId1"/>
          <a:stretch/>
        </p:blipFill>
        <p:spPr>
          <a:xfrm>
            <a:off x="428760" y="57168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лидаВ 240.jpg"/>
          <p:cNvPicPr/>
          <p:nvPr/>
        </p:nvPicPr>
        <p:blipFill>
          <a:blip r:embed="rId2"/>
          <a:stretch/>
        </p:blipFill>
        <p:spPr>
          <a:xfrm>
            <a:off x="428760" y="3697200"/>
            <a:ext cx="3571920" cy="2589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714920" y="93636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й рукой зажмите два конца ленты между большим и указательным пальцами и отпустите квадра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786200" y="3583800"/>
            <a:ext cx="371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полученной гирлянды будем формировать розу. Берите длинный конец ленты и тяните на себя, чтобы собрать розу. Делать это нужно медлен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357200" y="435240"/>
            <a:ext cx="64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очка сформировалась, ее нужно закрепить швом, как на концах, так и через серединку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пришить в середину бисер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лось обреза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искосок длинный конец 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C:\Documents and Settings\Admin\Мои документы\Мои рисунки\лидаВ\лидаВ 293.jpg"/>
          <p:cNvPicPr/>
          <p:nvPr/>
        </p:nvPicPr>
        <p:blipFill>
          <a:blip r:embed="rId1"/>
          <a:stretch/>
        </p:blipFill>
        <p:spPr>
          <a:xfrm>
            <a:off x="2071800" y="2286000"/>
            <a:ext cx="48099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8:05:35Z</dcterms:created>
  <dc:creator>Admin</dc:creator>
  <dc:description/>
  <dc:language>en-US</dc:language>
  <cp:lastModifiedBy>Admin</cp:lastModifiedBy>
  <dcterms:modified xsi:type="dcterms:W3CDTF">2011-05-22T15:35:52Z</dcterms:modified>
  <cp:revision>29</cp:revision>
  <dc:subject/>
  <dc:title>БАШКОРТОСТАН Г. АГИДЕЛЬ МОБУ СОШ № 2 УЧИТЕЛЬ ТЕХНОЛОГИИ ПЕЧНИКОВА ЛИДИЯ НИКОЛАЕВНА</dc:title>
</cp:coreProperties>
</file>