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8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42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9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450-EA65-455E-9271-7A3F7267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A5C-4ECB-4642-AEFB-38799D7B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63F-F77B-4DAC-9F39-AB92A744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326-184C-4315-A050-8294764F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8232-A32B-4928-ADC0-C94A714C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737-9252-48A5-9326-E204B2E5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F1B6-389F-442A-9A8D-8E82455C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5EB-DBCA-4A6C-B83D-D30E945D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74E-0DCB-4EF9-8A4B-C001F39A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B584-6637-44BD-8D19-082AD8A7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7EA7-1A0E-447E-BF35-5A08564C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2B5-EE85-46CB-8BE3-DEC9F15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A446-0591-4F26-8920-D37805C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3BA9-745E-4571-BC56-638E05E3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ABD2-8057-48FD-A59D-E7D66785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5BBD-6BD1-40A0-849F-43104C8A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85A9-4001-4422-A624-CE53363B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5CE44-CCE3-456F-885C-64E6CA77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A6B0-2F79-47FF-B277-E0E6E008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4DEE-79D3-460A-8C32-C9AC5283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A4AA-C2E5-4571-B553-7FDAF600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FB48-C289-460C-93B7-95B7450B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E04-065A-4B61-898A-0EC88F83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EA5A-6ADC-46B0-A883-53C607EC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9882-0123-4839-BB97-DC2A2AA9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60A3-861C-4BF5-9A22-C797178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C7DF-CBF4-47A8-8ED9-573CC23E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4B81-B9A4-4626-8467-818247EA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A430-8836-4A5D-8C0D-1332B03E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3098-03F8-4EFF-BDFC-3F18D217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EE0D-0771-4610-A9A3-BBDFCE6E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52318-6C20-4C12-9792-33603C7C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322BD-81F1-473B-8D38-61E2DFB9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F88-7163-4A76-8BBE-811F4CF7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2EF4-E959-45D2-BF4C-E237EDA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09ED-3B29-4BDF-9B5F-C40735EF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6E823-2B68-4358-B52E-297CC9B8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E8EE-FAE6-4FAC-87CF-2A1785BA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28F5-757C-4542-BD2D-284768A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5886-DCA5-46F2-AD44-FF12982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E36B8-F5A2-4EED-98CA-ECB5DF60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14251-3323-4D08-8542-8D2BF649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DB53A-9170-4ABB-8F9B-41274429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A2BF-FB10-4246-BA65-A322E792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B51-B6EB-49F3-91CF-5A36FEE1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721C-11D7-4577-A966-CC1F05A7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BD0E5-98DF-4C40-B75A-7F989FDF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7C73D-B402-4705-80BF-7D8E5C5C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0EB5-5101-4937-9985-9F63D73B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FAD5-F08A-4894-A46A-4D0CBF2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5CCB0-AA9A-4D8C-9098-B0C9613B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170F4-88F7-4830-83E9-94DEC003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12A0-9B05-4880-AB7B-E3718D6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9D8F5-3920-474E-8274-4DCC315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5C14B-E3BB-4202-8D93-8845D3D7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A82-FFF0-45CE-A313-07E1E6D5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BCBC-7854-432B-98D2-A3DA493B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892C1-882C-4BA6-ADA1-D1FC20C8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9E159-E02A-48A9-9435-B1A23DC5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491D8-E533-4BD0-BCD2-C1E81CA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035E5-CDF0-4DEC-9D80-A253ABB8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BAD20-7060-4092-84EF-ACBA20C1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5600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E782D-7797-47C5-B2CA-2B61E00F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5E7C-FD1B-4492-B863-CE276A6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008C1-878D-4483-B21F-32C2424D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79EBB-9A8F-41ED-997C-A8B7F08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703-D3F7-43A9-867E-430AA2CA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CA566-62CE-41D2-8F3F-5D400D39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72087-ED10-4276-B42D-39EEE9A2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2366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30280" y="21333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2366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4130280" y="5285160"/>
            <a:ext cx="18032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A28C-205E-4348-B93A-18625A68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12640" y="52851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A1D-5873-43A2-A664-FE59E217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12640" y="2133360"/>
            <a:ext cx="2732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56005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8D6-D158-4DA2-AB64-C6C0D92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3B54-A09F-4AC7-AAF4-C2D5F04C3975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886D-F0AF-4A58-8D10-7D020279236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4579920" y="0"/>
            <a:ext cx="227808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B524-7DAE-4E6D-BFBB-E072BDFA54F4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E3B9-DC6A-41A3-AF93-B42ABEDB8266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6335640"/>
            <a:ext cx="6858000" cy="28177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5486400" y="0"/>
            <a:ext cx="1371600" cy="9144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116400" y="8562960"/>
            <a:ext cx="5713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39E4-26FE-4B9E-B488-8B91CD111F8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60052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42720" y="8562960"/>
            <a:ext cx="1600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343240" y="8562960"/>
            <a:ext cx="217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114960" y="8562960"/>
            <a:ext cx="5716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476C-A24E-405E-B3AF-BA8A17A98ECE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35.jpe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image" Target="../media/image38.jpeg"/><Relationship Id="rId19" Type="http://schemas.openxmlformats.org/officeDocument/2006/relationships/image" Target="../media/image39.jpeg"/><Relationship Id="rId20" Type="http://schemas.openxmlformats.org/officeDocument/2006/relationships/image" Target="../media/image40.jpeg"/><Relationship Id="rId21" Type="http://schemas.openxmlformats.org/officeDocument/2006/relationships/image" Target="../media/image41.jpeg"/><Relationship Id="rId22" Type="http://schemas.openxmlformats.org/officeDocument/2006/relationships/image" Target="../media/image42.jpeg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hyperlink" Target="http://www.sanext.ru/ru/stat-mebel2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69800" y="1219320"/>
            <a:ext cx="5943600" cy="18478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80640" y="5500440"/>
            <a:ext cx="5591160" cy="22143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втор   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ник 9 класс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епанов В. А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аканов А. 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0" y="28584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О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Шолоховская средняя общеобразовательная шко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расносельского района костромской област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1428840" y="7715160"/>
            <a:ext cx="37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олох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7" descr="DSC02568"/>
          <p:cNvPicPr/>
          <p:nvPr/>
        </p:nvPicPr>
        <p:blipFill>
          <a:blip r:embed="rId2"/>
          <a:stretch/>
        </p:blipFill>
        <p:spPr>
          <a:xfrm>
            <a:off x="1628640" y="2987640"/>
            <a:ext cx="357048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Заголовок 1" descr=""/>
          <p:cNvPicPr/>
          <p:nvPr/>
        </p:nvPicPr>
        <p:blipFill>
          <a:blip r:embed="rId1"/>
          <a:stretch/>
        </p:blipFill>
        <p:spPr>
          <a:xfrm>
            <a:off x="317520" y="353880"/>
            <a:ext cx="6315120" cy="1541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356760" y="2071800"/>
            <a:ext cx="60721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следовательность изготовления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3" descr="DSC02201.JPG"/>
          <p:cNvPicPr/>
          <p:nvPr/>
        </p:nvPicPr>
        <p:blipFill>
          <a:blip r:embed="rId2"/>
          <a:stretch/>
        </p:blipFill>
        <p:spPr>
          <a:xfrm>
            <a:off x="928800" y="385776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4" descr="DSC02200.JPG"/>
          <p:cNvPicPr/>
          <p:nvPr/>
        </p:nvPicPr>
        <p:blipFill>
          <a:blip r:embed="rId3"/>
          <a:stretch/>
        </p:blipFill>
        <p:spPr>
          <a:xfrm>
            <a:off x="928800" y="385776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6" descr="DSC02199.JPG"/>
          <p:cNvPicPr/>
          <p:nvPr/>
        </p:nvPicPr>
        <p:blipFill>
          <a:blip r:embed="rId4"/>
          <a:stretch/>
        </p:blipFill>
        <p:spPr>
          <a:xfrm>
            <a:off x="928800" y="385776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7" descr="DSC02262.JPG"/>
          <p:cNvPicPr/>
          <p:nvPr/>
        </p:nvPicPr>
        <p:blipFill>
          <a:blip r:embed="rId5"/>
          <a:stretch/>
        </p:blipFill>
        <p:spPr>
          <a:xfrm>
            <a:off x="928800" y="385776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8" descr="DSC02202.JPG"/>
          <p:cNvPicPr/>
          <p:nvPr/>
        </p:nvPicPr>
        <p:blipFill>
          <a:blip r:embed="rId6"/>
          <a:stretch/>
        </p:blipFill>
        <p:spPr>
          <a:xfrm>
            <a:off x="928800" y="385776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9" descr="DSC02215.JPG"/>
          <p:cNvPicPr/>
          <p:nvPr/>
        </p:nvPicPr>
        <p:blipFill>
          <a:blip r:embed="rId7"/>
          <a:stretch/>
        </p:blipFill>
        <p:spPr>
          <a:xfrm>
            <a:off x="928800" y="385776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10" descr="DSC02242.JPG"/>
          <p:cNvPicPr/>
          <p:nvPr/>
        </p:nvPicPr>
        <p:blipFill>
          <a:blip r:embed="rId8"/>
          <a:stretch/>
        </p:blipFill>
        <p:spPr>
          <a:xfrm>
            <a:off x="928800" y="385776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12" descr="DSC02256.JPG"/>
          <p:cNvPicPr/>
          <p:nvPr/>
        </p:nvPicPr>
        <p:blipFill>
          <a:blip r:embed="rId9"/>
          <a:stretch/>
        </p:blipFill>
        <p:spPr>
          <a:xfrm>
            <a:off x="928800" y="385776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13" descr="DSC02316.JPG"/>
          <p:cNvPicPr/>
          <p:nvPr/>
        </p:nvPicPr>
        <p:blipFill>
          <a:blip r:embed="rId10"/>
          <a:stretch/>
        </p:blipFill>
        <p:spPr>
          <a:xfrm>
            <a:off x="928800" y="385776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15" descr="DSC02361.JPG"/>
          <p:cNvPicPr/>
          <p:nvPr/>
        </p:nvPicPr>
        <p:blipFill>
          <a:blip r:embed="rId11"/>
          <a:stretch/>
        </p:blipFill>
        <p:spPr>
          <a:xfrm>
            <a:off x="928800" y="385776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16" descr="DSC02371.JPG"/>
          <p:cNvPicPr/>
          <p:nvPr/>
        </p:nvPicPr>
        <p:blipFill>
          <a:blip r:embed="rId12"/>
          <a:stretch/>
        </p:blipFill>
        <p:spPr>
          <a:xfrm>
            <a:off x="928800" y="3857760"/>
            <a:ext cx="5143320" cy="385740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14" descr="DSC02515.JPG"/>
          <p:cNvPicPr/>
          <p:nvPr/>
        </p:nvPicPr>
        <p:blipFill>
          <a:blip r:embed="rId13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17" descr="DSC02519.JPG"/>
          <p:cNvPicPr/>
          <p:nvPr/>
        </p:nvPicPr>
        <p:blipFill>
          <a:blip r:embed="rId14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8" descr="DSC02542.JPG"/>
          <p:cNvPicPr/>
          <p:nvPr/>
        </p:nvPicPr>
        <p:blipFill>
          <a:blip r:embed="rId15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9" descr="DSC02513.JPG"/>
          <p:cNvPicPr/>
          <p:nvPr/>
        </p:nvPicPr>
        <p:blipFill>
          <a:blip r:embed="rId16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20" descr="DSC02516.JPG"/>
          <p:cNvPicPr/>
          <p:nvPr/>
        </p:nvPicPr>
        <p:blipFill>
          <a:blip r:embed="rId17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21" descr="DSC02538.JPG"/>
          <p:cNvPicPr/>
          <p:nvPr/>
        </p:nvPicPr>
        <p:blipFill>
          <a:blip r:embed="rId18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22" descr="DSC02556.JPG"/>
          <p:cNvPicPr/>
          <p:nvPr/>
        </p:nvPicPr>
        <p:blipFill>
          <a:blip r:embed="rId19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23" descr="DSC02555.JPG"/>
          <p:cNvPicPr/>
          <p:nvPr/>
        </p:nvPicPr>
        <p:blipFill>
          <a:blip r:embed="rId20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24" descr="DSC02563.JPG"/>
          <p:cNvPicPr/>
          <p:nvPr/>
        </p:nvPicPr>
        <p:blipFill>
          <a:blip r:embed="rId21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5" descr="DSC02568.JPG"/>
          <p:cNvPicPr/>
          <p:nvPr/>
        </p:nvPicPr>
        <p:blipFill>
          <a:blip r:embed="rId22"/>
          <a:stretch/>
        </p:blipFill>
        <p:spPr>
          <a:xfrm>
            <a:off x="907920" y="385128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3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3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8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3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8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3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8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3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8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3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317520" y="353880"/>
            <a:ext cx="6315120" cy="15415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42720" y="2133720"/>
            <a:ext cx="6172200" cy="65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храна труда и правила техники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готовление мебели производилось в школьной мастерской. Работа выполнялась на обычных верстаках. Освещение естественное – слева. Искусственное  - 1000 вт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закрепления заготовок использовались струбцины и  зажимы верста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 резчика  во время работы держится в специальных держател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организации рабочего места все должно быть под рукой, отвечать правилам пожарной безопасности и техники без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д занятиями проводились инструктажи по Технике Безопасности при работе с электрооборудованием, столярным и резчицким инструментом, во время работы постоянно осуществлялся контроль за соблюдением правил техники без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53880" y="353880"/>
            <a:ext cx="6180120" cy="15782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714240" y="2571480"/>
            <a:ext cx="5214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бестоимость проекта включает материальные затраты и оплату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риальные затраты состав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72,75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лата труда составил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00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бестоимость проекта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172,75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334800" y="360360"/>
            <a:ext cx="6188400" cy="1359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28400" y="3642840"/>
            <a:ext cx="6172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вы любите красоту и хотите приобрести эксклюзивные изделия, украшенные резьбой, приходите к нам. Наши изделия станут украшением вашего до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 адрес: д. Шолохово Красносельского района, средняя шко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Содержимое 4" descr="img213.jpg"/>
          <p:cNvPicPr/>
          <p:nvPr/>
        </p:nvPicPr>
        <p:blipFill>
          <a:blip r:embed="rId2"/>
          <a:stretch/>
        </p:blipFill>
        <p:spPr>
          <a:xfrm>
            <a:off x="2571840" y="1785960"/>
            <a:ext cx="1714320" cy="163044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4" descr="DSC02484.JPG"/>
          <p:cNvPicPr/>
          <p:nvPr/>
        </p:nvPicPr>
        <p:blipFill>
          <a:blip r:embed="rId3"/>
          <a:stretch/>
        </p:blipFill>
        <p:spPr>
          <a:xfrm>
            <a:off x="285840" y="6072120"/>
            <a:ext cx="1933560" cy="29289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DSC02483.JPG"/>
          <p:cNvPicPr/>
          <p:nvPr/>
        </p:nvPicPr>
        <p:blipFill>
          <a:blip r:embed="rId4"/>
          <a:stretch/>
        </p:blipFill>
        <p:spPr>
          <a:xfrm>
            <a:off x="2500200" y="6643800"/>
            <a:ext cx="1873440" cy="221436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6" descr="DSC02485.JPG"/>
          <p:cNvPicPr/>
          <p:nvPr/>
        </p:nvPicPr>
        <p:blipFill>
          <a:blip r:embed="rId5"/>
          <a:stretch/>
        </p:blipFill>
        <p:spPr>
          <a:xfrm>
            <a:off x="4714920" y="6072120"/>
            <a:ext cx="1928880" cy="290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55440" y="244440"/>
            <a:ext cx="6302520" cy="1657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342720" y="2133360"/>
            <a:ext cx="560052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елие имеет красивый вид.  Все технологические операции соблюдены. Изделие полностью соответствует намеченной цели. Такое изделие украсит интерьер вашей комнаты.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жительные сторо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достигну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атериалы общедоступ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хнология изготовления посиль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зделие соответствует назначе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тоимость невысо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зделие эксклюзивн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334800" y="244440"/>
            <a:ext cx="5669280" cy="1657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343080" y="2133360"/>
            <a:ext cx="60148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ет-ресур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sanext.ru/ru/stat-mebel2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http://www.klm-mebel.ru/article_2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hkolazhizni.ru/archive/0/n-144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plus-mebel.ru/?pade_id=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ейндлин Л.Н. Столярные работы. –Москва.: Высшая школа, 198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бедева Е.И., Бургунова Е.М. Резьба по дереву домовая и художественная. - Москва.: Аделант, 200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омарева Н.А. Технология 5-11 классы. Проектная деятельность на уроках. – Волгоград. : Учитель, 2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281160" y="-55440"/>
            <a:ext cx="6180120" cy="920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57120" y="857160"/>
            <a:ext cx="6143760" cy="707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Выбор темы и обоснование про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Исследование 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Цели и задач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Историческая справ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) С какими проблемами сталкивается потребитель желая приобрести издел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.Альтернативные варианты проек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.Выбор оптимального варианта проек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.Технология изготовления 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Выбор материала и инструм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) Технологическая документац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) Последовательность изготовления проек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) Охрана труда и правила техники безопас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. Расчет себестоимости проек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. Рекла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9. Анализ выполненной работ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0. Информационные ресурс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53880" y="-23760"/>
            <a:ext cx="6180120" cy="950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0" y="2357280"/>
            <a:ext cx="685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Знакомство с историей изготовления стола и сту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Совершенствование навыков и умений в деревообработке и резьбе по дере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Разработать и изготовить детскую мебель (стульчик и столи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353880" y="-30240"/>
            <a:ext cx="6180120" cy="1382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0" y="1834920"/>
            <a:ext cx="6858000" cy="70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с пятого класса занимаюсь в кружке «Резьба по дереву». До настоящего времени я изготавливал различные несложные изделия, украшенные резьбой. Но захотелось испробовать свои силы, сделать что-то более сложное, серьезн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меня есть маленькая сестренка. Она подросла немножко и ей нужен стульчик со столиком. В магазине, к сожалению, трудно найти подходящий комплект детской мебели , который бы подходил по размерам, был прочным, удобным, экологичным и красиво оформленным, поэтому было решено изготовить в качестве проекта детский стул со стол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334800" y="-55440"/>
            <a:ext cx="6188400" cy="9205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356760" y="1357200"/>
            <a:ext cx="4643640" cy="75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ля разработки проекта было проведено исследование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закрыть глаза на каменные подобия из пещерной жизни, тогда настоящими изобретателями, создавшими первые столы и стулья, стали египтяне. Именно на родине пирамид появился прообраз современных стульев, а также обеденные и рабочие столы. б)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блемы приобретения детской мебе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поиске детской мебели в магазинах мы сталкиваемся с такими проблемами: высокая стоимость, ограниченность ассортимента, низкий уровень дизай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Рисунок 1" descr=" Табурет. Балуба, Заир.Табурет. Афо, Нигерия."/>
          <p:cNvPicPr/>
          <p:nvPr/>
        </p:nvPicPr>
        <p:blipFill>
          <a:blip r:embed="rId2"/>
          <a:srcRect l="50063" t="23086" r="0" b="0"/>
          <a:stretch/>
        </p:blipFill>
        <p:spPr>
          <a:xfrm>
            <a:off x="5197320" y="150012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#86  Стул-стол Непоседа-7 Фламенко Премиум"/>
          <p:cNvPicPr/>
          <p:nvPr/>
        </p:nvPicPr>
        <p:blipFill>
          <a:blip r:embed="rId3"/>
          <a:srcRect l="0" t="0" r="-4456" b="0"/>
          <a:stretch/>
        </p:blipFill>
        <p:spPr>
          <a:xfrm>
            <a:off x="5214960" y="6786720"/>
            <a:ext cx="1428840" cy="17143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7" descr=""/>
          <p:cNvPicPr/>
          <p:nvPr/>
        </p:nvPicPr>
        <p:blipFill>
          <a:blip r:embed="rId4"/>
          <a:stretch/>
        </p:blipFill>
        <p:spPr>
          <a:xfrm>
            <a:off x="5229360" y="3276720"/>
            <a:ext cx="1360440" cy="15825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8" descr=""/>
          <p:cNvPicPr/>
          <p:nvPr/>
        </p:nvPicPr>
        <p:blipFill>
          <a:blip r:embed="rId5"/>
          <a:stretch/>
        </p:blipFill>
        <p:spPr>
          <a:xfrm>
            <a:off x="5229360" y="5364000"/>
            <a:ext cx="1346040" cy="110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92160" y="-109440"/>
            <a:ext cx="6746760" cy="14745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13840" y="1357200"/>
            <a:ext cx="4000680" cy="742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выборе конструкции и технологии возможны различные вариант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остоинст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расивый эстетический вид; мягкое сид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достатки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ложность изготовления; дорог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остоинст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временный дизайн; мягкие сидение, спин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достат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таллический каркас, что усложняет или делает невозможным изготовление в  условиях школы; дорог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6" descr="DSC02566"/>
          <p:cNvPicPr/>
          <p:nvPr/>
        </p:nvPicPr>
        <p:blipFill>
          <a:blip r:embed="rId2"/>
          <a:stretch/>
        </p:blipFill>
        <p:spPr>
          <a:xfrm>
            <a:off x="4292640" y="2556000"/>
            <a:ext cx="2362320" cy="17730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" descr=""/>
          <p:cNvPicPr/>
          <p:nvPr/>
        </p:nvPicPr>
        <p:blipFill>
          <a:blip r:embed="rId3"/>
          <a:stretch/>
        </p:blipFill>
        <p:spPr>
          <a:xfrm>
            <a:off x="4281480" y="5796000"/>
            <a:ext cx="235116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353880" y="-79200"/>
            <a:ext cx="6180120" cy="1506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28760" y="2499840"/>
            <a:ext cx="6000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я предложенные варианты, решено было выполнить свой вариант, в котором бы учитывались размеры мебели в соответствии с возрастом, прочность, экологичность, удобство и красивый дизай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сительная простота технологии изготовления данного изделия, доступность материалов, а так же небольшие финансовые затраты, позволяют сделать вывод об удачном выборе проек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682560" y="-66600"/>
            <a:ext cx="6181920" cy="1346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04640" y="1999800"/>
            <a:ext cx="43927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ы и инстру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изготовления стульчика выбрана древесина осины т. к. она прочна и хорошо режется геометрической резьб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струменты: Разметочный инструмент, столярный инструмент, электрический инструмент ( Фрезер, лобзик, шлиф- машинка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материалы: Клей – ПВА, морилка, л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8" descr="DSC02364"/>
          <p:cNvPicPr/>
          <p:nvPr/>
        </p:nvPicPr>
        <p:blipFill>
          <a:blip r:embed="rId2"/>
          <a:stretch/>
        </p:blipFill>
        <p:spPr>
          <a:xfrm>
            <a:off x="4941720" y="4500720"/>
            <a:ext cx="1670040" cy="12380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1" descr="DSC02367"/>
          <p:cNvPicPr/>
          <p:nvPr/>
        </p:nvPicPr>
        <p:blipFill>
          <a:blip r:embed="rId3"/>
          <a:stretch/>
        </p:blipFill>
        <p:spPr>
          <a:xfrm>
            <a:off x="4941720" y="6012000"/>
            <a:ext cx="1657440" cy="12319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8" descr="DSC02366"/>
          <p:cNvPicPr/>
          <p:nvPr/>
        </p:nvPicPr>
        <p:blipFill>
          <a:blip r:embed="rId4"/>
          <a:stretch/>
        </p:blipFill>
        <p:spPr>
          <a:xfrm>
            <a:off x="4924440" y="3182760"/>
            <a:ext cx="1673280" cy="80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334800" y="208080"/>
            <a:ext cx="6102360" cy="1511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42720" y="1856880"/>
            <a:ext cx="6157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хнологическая докумен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изготовления детской мебели выполнен эскиз изделия и чертежи детал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готовление выполнялось в соответствии с технологической карто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Рисунок 4" descr="img219.jpg"/>
          <p:cNvPicPr/>
          <p:nvPr/>
        </p:nvPicPr>
        <p:blipFill>
          <a:blip r:embed="rId2"/>
          <a:stretch/>
        </p:blipFill>
        <p:spPr>
          <a:xfrm>
            <a:off x="2082960" y="4788000"/>
            <a:ext cx="3132000" cy="3778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7:15:50Z</dcterms:created>
  <dc:creator>User</dc:creator>
  <dc:description/>
  <dc:language>en-US</dc:language>
  <cp:lastModifiedBy>Админ</cp:lastModifiedBy>
  <dcterms:modified xsi:type="dcterms:W3CDTF">2011-05-10T19:03:13Z</dcterms:modified>
  <cp:revision>92</cp:revision>
  <dc:subject/>
  <dc:title>Проект по технологии  Посижу семян по ем</dc:title>
</cp:coreProperties>
</file>