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49.png" ContentType="image/pn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27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7.png" ContentType="image/png"/>
  <Override PartName="/ppt/media/image48.jpeg" ContentType="image/jpeg"/>
  <Override PartName="/ppt/media/image41.jpeg" ContentType="image/jpeg"/>
  <Override PartName="/ppt/media/image45.jpeg" ContentType="image/jpeg"/>
  <Override PartName="/ppt/media/image43.jpeg" ContentType="image/jpeg"/>
  <Override PartName="/ppt/media/image46.png" ContentType="image/png"/>
  <Override PartName="/ppt/media/image47.jpeg" ContentType="image/jpeg"/>
  <Override PartName="/ppt/media/image31.jpeg" ContentType="image/jpeg"/>
  <Override PartName="/ppt/media/image53.png" ContentType="image/png"/>
  <Override PartName="/ppt/media/image54.jpeg" ContentType="image/jpeg"/>
  <Override PartName="/ppt/media/image32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38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0C98-2B2C-410F-998D-B7CA904538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3B4A-52CF-4AF2-B531-0F00B62C84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9920" cy="31654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062000" y="4349520"/>
            <a:ext cx="4740480" cy="35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100" spc="-1" strike="noStrike">
              <a:solidFill>
                <a:srgbClr val="000000"/>
              </a:solidFill>
              <a:latin typeface="Calibri"/>
              <a:ea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9FA3-D85C-42A7-BF52-22D9B7B367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9920" cy="31654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1062000" y="4349520"/>
            <a:ext cx="4740480" cy="35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100" spc="-1" strike="noStrike">
              <a:solidFill>
                <a:srgbClr val="000000"/>
              </a:solidFill>
              <a:latin typeface="Calibri"/>
              <a:ea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64C5-8DDB-456C-B0B6-9E13A4B83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C92D-9E15-42C4-BFEB-0BB56FAD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9EDB-98E3-4112-A968-8E75D850C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6CFB-8E70-419A-B28E-5B36D7B00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1DA7-5360-4456-A8B8-40A1A4FB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605E-0945-434A-B14A-BCEC441B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B70A-615A-40BF-A0B9-3B67E67D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1CA0-3665-4502-A0F4-A773B649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AE99-2008-4220-A0C2-AC4BA571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B2C2-7A48-4036-BDA3-B6011BF6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9EEF-4552-4463-922B-AA476620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253F-DA07-437A-9DAC-43579935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7D2D-F32A-4FAB-80F4-D37032BF13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tehnologiya.ucoz.ru/" TargetMode="External"/><Relationship Id="rId2" Type="http://schemas.openxmlformats.org/officeDocument/2006/relationships/hyperlink" Target="http://tehnologiya4.ucoz.ru/index/konkurs_master_klassov/0-144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dublirin.com.ua/we_sew_razrez.files/fis08.jpg" TargetMode="External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softexpressions.com/Merchant2/graphics/00000001/bkS/SimplyStn10.gif" TargetMode="External"/><Relationship Id="rId2" Type="http://schemas.openxmlformats.org/officeDocument/2006/relationships/image" Target="../media/image43.jpeg"/><Relationship Id="rId3" Type="http://schemas.openxmlformats.org/officeDocument/2006/relationships/hyperlink" Target="http://www.softexpressions.com/Merchant2/graphics/00000001/bkS/SimplyStn6.gif" TargetMode="External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oftexpressions.com/Merchant2/graphics/00000001/bkS/SimplyStn7.gif" TargetMode="External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hyperlink" Target="http://www.softexpressions.com/Merchant2/graphics/00000001/bkS/SimplyStn9.gif" TargetMode="External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http://1.bp.blogspot.com/_sm0LYEfdqJQ/SbL5yPUk3UI/AAAAAAAAAKQ/NHNDVkUGAhs/s320/Blog_ButGarden1.jpg" TargetMode="External"/><Relationship Id="rId3" Type="http://schemas.openxmlformats.org/officeDocument/2006/relationships/hyperlink" Target="http://4.bp.blogspot.com/_2ssunQr1FDY/TBQIj1c65SI/AAAAAAAAF30/40v6_39IF0k/s1600/Kathy+Woven+Quilt+3.jpg" TargetMode="External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softexpressions.com/Merchant2/graphics/00000001/bkS/SimplyStn4.gif" TargetMode="External"/><Relationship Id="rId2" Type="http://schemas.openxmlformats.org/officeDocument/2006/relationships/image" Target="../media/image49.png"/><Relationship Id="rId3" Type="http://schemas.openxmlformats.org/officeDocument/2006/relationships/hyperlink" Target="http://www.softexpressions.com/Merchant2/graphics/00000001/bkS/SimplyStn3.gif" TargetMode="External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4.bp.blogspot.com/_2ssunQr1FDY/TBQADMPBEPI/AAAAAAAAF3U/-NVa-jbQKm4/s1600/Kathy+Woven+Quilt+4.jpg" TargetMode="External"/><Relationship Id="rId2" Type="http://schemas.openxmlformats.org/officeDocument/2006/relationships/image" Target="../media/image51.jpeg"/><Relationship Id="rId3" Type="http://schemas.openxmlformats.org/officeDocument/2006/relationships/hyperlink" Target="http://www.crazydoglady.com/images/WovenPondQuilt5.jpg" TargetMode="External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s55.radikal.ru/i150/0903/d1/8705c5022c04.jpg" TargetMode="External"/><Relationship Id="rId2" Type="http://schemas.openxmlformats.org/officeDocument/2006/relationships/image" Target="../media/image53.png"/><Relationship Id="rId3" Type="http://schemas.openxmlformats.org/officeDocument/2006/relationships/hyperlink" Target="http://s55.radikal.ru/i150/0903/d1/8705c5022c04.jpg" TargetMode="Externa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dublirin.com.ua/we_sew_razrez.files/fis08.jpg" TargetMode="External"/><Relationship Id="rId2" Type="http://schemas.openxmlformats.org/officeDocument/2006/relationships/hyperlink" Target="http://www.softexpressions.com/Merchant2/graphics/00000001/bkS/SimplyStn10.gif" TargetMode="External"/><Relationship Id="rId3" Type="http://schemas.openxmlformats.org/officeDocument/2006/relationships/hyperlink" Target="http://www.softexpressions.com/Merchant2/graphics/00000001/bkS/SimplyStn6.gif" TargetMode="External"/><Relationship Id="rId4" Type="http://schemas.openxmlformats.org/officeDocument/2006/relationships/hyperlink" Target="http://www.softexpressions.com/Merchant2/graphics/00000001/bkS/SimplyStn9.gif" TargetMode="External"/><Relationship Id="rId5" Type="http://schemas.openxmlformats.org/officeDocument/2006/relationships/hyperlink" Target="http://www.softexpressions.com/Merchant2/graphics/00000001/bkS/SimplyStn7.gif" TargetMode="External"/><Relationship Id="rId6" Type="http://schemas.openxmlformats.org/officeDocument/2006/relationships/hyperlink" Target="http://www.softexpressions.com/Merchant2/graphics/00000001/bkS/SimplyStn7.gif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17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«Лоскутные иллюзии»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857160" y="3286080"/>
            <a:ext cx="72867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Учитель техн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МОУ  СОШ № 4 с углубленным изучением отдельных предм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2357280" y="648828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Сыктывкар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1"/>
          <p:cNvSpPr/>
          <p:nvPr/>
        </p:nvSpPr>
        <p:spPr>
          <a:xfrm>
            <a:off x="3040200" y="1289160"/>
            <a:ext cx="369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2"/>
          <p:cNvSpPr/>
          <p:nvPr/>
        </p:nvSpPr>
        <p:spPr>
          <a:xfrm>
            <a:off x="1000080" y="285840"/>
            <a:ext cx="695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Непрерывная подготовка учителей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ернет-конкурс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«Прекрасное – своими руками»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5"/>
          <p:cNvSpPr/>
          <p:nvPr/>
        </p:nvSpPr>
        <p:spPr>
          <a:xfrm>
            <a:off x="857160" y="271476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Автор: Вишератина Надежда Владими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6"/>
          <p:cNvSpPr/>
          <p:nvPr/>
        </p:nvSpPr>
        <p:spPr>
          <a:xfrm>
            <a:off x="2357280" y="150012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Мастер-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Documents and Settings\Надежда\Рабочий стол\иллюзии\DSC07068.JPG"/>
          <p:cNvPicPr/>
          <p:nvPr/>
        </p:nvPicPr>
        <p:blipFill>
          <a:blip r:embed="rId3"/>
          <a:stretch/>
        </p:blipFill>
        <p:spPr>
          <a:xfrm>
            <a:off x="214200" y="4573440"/>
            <a:ext cx="1571760" cy="1581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Documents and Settings\Надежда\Рабочий стол\иллюзии\DSC07065.JPG"/>
          <p:cNvPicPr/>
          <p:nvPr/>
        </p:nvPicPr>
        <p:blipFill>
          <a:blip r:embed="rId4"/>
          <a:stretch/>
        </p:blipFill>
        <p:spPr>
          <a:xfrm>
            <a:off x="5500800" y="4429080"/>
            <a:ext cx="1671480" cy="1631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Documents and Settings\Надежда\Рабочий стол\иллюзии\DSC07059.JPG"/>
          <p:cNvPicPr/>
          <p:nvPr/>
        </p:nvPicPr>
        <p:blipFill>
          <a:blip r:embed="rId5"/>
          <a:stretch/>
        </p:blipFill>
        <p:spPr>
          <a:xfrm>
            <a:off x="2000160" y="4572000"/>
            <a:ext cx="1579680" cy="1560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C:\Documents and Settings\Надежда\Рабочий стол\иллюзии\DSC07069.JPG"/>
          <p:cNvPicPr/>
          <p:nvPr/>
        </p:nvPicPr>
        <p:blipFill>
          <a:blip r:embed="rId6"/>
          <a:stretch/>
        </p:blipFill>
        <p:spPr>
          <a:xfrm>
            <a:off x="3714840" y="4500720"/>
            <a:ext cx="1677960" cy="1643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C:\Documents and Settings\Надежда\Рабочий стол\иллюзии\DSC07058.JPG"/>
          <p:cNvPicPr/>
          <p:nvPr/>
        </p:nvPicPr>
        <p:blipFill>
          <a:blip r:embed="rId7"/>
          <a:stretch/>
        </p:blipFill>
        <p:spPr>
          <a:xfrm>
            <a:off x="7358040" y="4429080"/>
            <a:ext cx="156528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85840" y="785520"/>
            <a:ext cx="8400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нет флизелина, или неохота с ним возиться, то можно обойтись и без него. Для этого под плетенку подкладываем ткань для обратной  стороны работы. Закалываем булавками и сразу начинаем шить на машине строчкой зиг-за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C:\Documents and Settings\Надежда\Рабочий стол\иллюзии\DSC07099.JPG"/>
          <p:cNvPicPr/>
          <p:nvPr/>
        </p:nvPicPr>
        <p:blipFill>
          <a:blip r:embed="rId1"/>
          <a:stretch/>
        </p:blipFill>
        <p:spPr>
          <a:xfrm>
            <a:off x="357120" y="3000240"/>
            <a:ext cx="3571920" cy="3373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F:\иллюзии\DSC07090.JPG"/>
          <p:cNvPicPr/>
          <p:nvPr/>
        </p:nvPicPr>
        <p:blipFill>
          <a:blip r:embed="rId2"/>
          <a:stretch/>
        </p:blipFill>
        <p:spPr>
          <a:xfrm>
            <a:off x="4357800" y="2633760"/>
            <a:ext cx="429408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357120"/>
            <a:ext cx="840096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вниваем заготов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аем квадр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C:\Documents and Settings\Надежда\Рабочий стол\иллюзии\DSC07096.JPG"/>
          <p:cNvPicPr/>
          <p:nvPr/>
        </p:nvPicPr>
        <p:blipFill>
          <a:blip r:embed="rId1"/>
          <a:stretch/>
        </p:blipFill>
        <p:spPr>
          <a:xfrm>
            <a:off x="285840" y="1785960"/>
            <a:ext cx="3929040" cy="4478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Documents and Settings\Надежда\Рабочий стол\иллюзии\DSC07097.JPG"/>
          <p:cNvPicPr/>
          <p:nvPr/>
        </p:nvPicPr>
        <p:blipFill>
          <a:blip r:embed="rId2"/>
          <a:stretch/>
        </p:blipFill>
        <p:spPr>
          <a:xfrm>
            <a:off x="4572000" y="1785960"/>
            <a:ext cx="431784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cc"/>
                </a:solidFill>
                <a:latin typeface="Arial"/>
              </a:rPr>
              <a:t>ОБРАБОТКА КРАЯ ЗАГОТОВ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я плетенки можно обработать по – разном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но обтачать и выверну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антовать косой бейко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мет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предлагаю вариант, который нравится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21384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ираем ткань для обратной стороны будущего изделия, выкраиваем из него квадрат, больше нашей заготовки на 2,5 см со всех стор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этого воспользуемся деревянной линейкой. Ее ширина как раз 2, 5 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кладываем линейку встык к заготовке, по другой стороне линейки проводим линию. И так со всех 4-х сторон (работая таким способом получаем ровные припуски со всех сторон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реза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C:\Documents and Settings\Надежда\Рабочий стол\иллюзии\DSC07098.JPG"/>
          <p:cNvPicPr/>
          <p:nvPr/>
        </p:nvPicPr>
        <p:blipFill>
          <a:blip r:embed="rId1"/>
          <a:stretch/>
        </p:blipFill>
        <p:spPr>
          <a:xfrm>
            <a:off x="1214280" y="3649680"/>
            <a:ext cx="2857680" cy="2892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Documents and Settings\Надежда\Рабочий стол\иллюзии\DSC07099.JPG"/>
          <p:cNvPicPr/>
          <p:nvPr/>
        </p:nvPicPr>
        <p:blipFill>
          <a:blip r:embed="rId2"/>
          <a:stretch/>
        </p:blipFill>
        <p:spPr>
          <a:xfrm>
            <a:off x="5143680" y="3274920"/>
            <a:ext cx="34290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начала обрабатываем 2 противоположные стороны квадр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утюживаем припуск ткани, так, чтобы срез был встык со срезом плетен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лее перегибаем еще раз, по стыку, снова  заутюжива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C:\Documents and Settings\Надежда\Рабочий стол\иллюзии\DSC07100.JPG"/>
          <p:cNvPicPr/>
          <p:nvPr/>
        </p:nvPicPr>
        <p:blipFill>
          <a:blip r:embed="rId1"/>
          <a:stretch/>
        </p:blipFill>
        <p:spPr>
          <a:xfrm>
            <a:off x="357120" y="2571840"/>
            <a:ext cx="3500640" cy="3643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Documents and Settings\Надежда\Рабочий стол\иллюзии\DSC07101.JPG"/>
          <p:cNvPicPr/>
          <p:nvPr/>
        </p:nvPicPr>
        <p:blipFill>
          <a:blip r:embed="rId2"/>
          <a:stretch/>
        </p:blipFill>
        <p:spPr>
          <a:xfrm>
            <a:off x="4253040" y="2428920"/>
            <a:ext cx="453384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2876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страчиваем на 1-2 мм от сги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C:\Documents and Settings\Надежда\Рабочий стол\иллюзии\DSC07102.JPG"/>
          <p:cNvPicPr/>
          <p:nvPr/>
        </p:nvPicPr>
        <p:blipFill>
          <a:blip r:embed="rId1"/>
          <a:stretch/>
        </p:blipFill>
        <p:spPr>
          <a:xfrm>
            <a:off x="857160" y="785880"/>
            <a:ext cx="7167600" cy="50022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5"/>
          <p:cNvSpPr/>
          <p:nvPr/>
        </p:nvSpPr>
        <p:spPr>
          <a:xfrm>
            <a:off x="428760" y="607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же самое делаем с оставшимися 2-я сторон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cc"/>
                </a:solidFill>
                <a:latin typeface="Arial"/>
              </a:rPr>
              <a:t>ГОТОВ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C:\Documents and Settings\Надежда\Рабочий стол\иллюзии\DSC07103.JPG"/>
          <p:cNvPicPr/>
          <p:nvPr/>
        </p:nvPicPr>
        <p:blipFill>
          <a:blip r:embed="rId1"/>
          <a:stretch/>
        </p:blipFill>
        <p:spPr>
          <a:xfrm>
            <a:off x="2071800" y="1428840"/>
            <a:ext cx="50688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cc"/>
                </a:solidFill>
                <a:latin typeface="Arial"/>
              </a:rPr>
              <a:t>Переплетать можно по круг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aa91220b613446171f"/>
          <p:cNvPicPr/>
          <p:nvPr/>
        </p:nvPicPr>
        <p:blipFill>
          <a:blip r:embed="rId1"/>
          <a:stretch/>
        </p:blipFill>
        <p:spPr>
          <a:xfrm>
            <a:off x="2857680" y="2571840"/>
            <a:ext cx="3003480" cy="2786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4f702f2ef7ff960e7a"/>
          <p:cNvPicPr/>
          <p:nvPr/>
        </p:nvPicPr>
        <p:blipFill>
          <a:blip r:embed="rId2"/>
          <a:stretch/>
        </p:blipFill>
        <p:spPr>
          <a:xfrm>
            <a:off x="214200" y="1500120"/>
            <a:ext cx="2571840" cy="2689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7e389defa5f63f4e4d"/>
          <p:cNvPicPr/>
          <p:nvPr/>
        </p:nvPicPr>
        <p:blipFill>
          <a:blip r:embed="rId3"/>
          <a:stretch/>
        </p:blipFill>
        <p:spPr>
          <a:xfrm>
            <a:off x="6072120" y="3733920"/>
            <a:ext cx="276552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cc"/>
                </a:solidFill>
                <a:latin typeface="Arial"/>
              </a:rPr>
              <a:t>И прямоугольные дета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7120" y="6215040"/>
            <a:ext cx="8229600" cy="33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ublirin.com.ua/we_sew_razrez.files/fis08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РРП"/>
          <p:cNvPicPr/>
          <p:nvPr/>
        </p:nvPicPr>
        <p:blipFill>
          <a:blip r:embed="rId2"/>
          <a:srcRect l="0" t="3664" r="0" b="4469"/>
          <a:stretch/>
        </p:blipFill>
        <p:spPr>
          <a:xfrm>
            <a:off x="1000080" y="1285920"/>
            <a:ext cx="678672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hjcur-01"/>
          <p:cNvPicPr/>
          <p:nvPr/>
        </p:nvPicPr>
        <p:blipFill>
          <a:blip r:embed="rId1"/>
          <a:stretch/>
        </p:blipFill>
        <p:spPr>
          <a:xfrm>
            <a:off x="2500200" y="1143000"/>
            <a:ext cx="2071800" cy="1295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hjhih-02"/>
          <p:cNvPicPr/>
          <p:nvPr/>
        </p:nvPicPr>
        <p:blipFill>
          <a:blip r:embed="rId2"/>
          <a:stretch/>
        </p:blipFill>
        <p:spPr>
          <a:xfrm>
            <a:off x="4786200" y="1214280"/>
            <a:ext cx="1739880" cy="1203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hjsta-04"/>
          <p:cNvPicPr/>
          <p:nvPr/>
        </p:nvPicPr>
        <p:blipFill>
          <a:blip r:embed="rId3"/>
          <a:stretch/>
        </p:blipFill>
        <p:spPr>
          <a:xfrm>
            <a:off x="6643800" y="857160"/>
            <a:ext cx="2334960" cy="1525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hjstr-01"/>
          <p:cNvPicPr/>
          <p:nvPr/>
        </p:nvPicPr>
        <p:blipFill>
          <a:blip r:embed="rId4"/>
          <a:stretch/>
        </p:blipFill>
        <p:spPr>
          <a:xfrm>
            <a:off x="214200" y="928800"/>
            <a:ext cx="2071800" cy="1562040"/>
          </a:xfrm>
          <a:prstGeom prst="rect">
            <a:avLst/>
          </a:prstGeom>
          <a:ln w="0">
            <a:noFill/>
          </a:ln>
        </p:spPr>
      </p:pic>
      <p:sp>
        <p:nvSpPr>
          <p:cNvPr id="119" name="TextBox 5"/>
          <p:cNvSpPr/>
          <p:nvPr/>
        </p:nvSpPr>
        <p:spPr>
          <a:xfrm>
            <a:off x="214200" y="21420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Arial"/>
              </a:rPr>
              <a:t>А ЕЩЕ МОЖНО СДЕЛАТЬ «СЕРДЕЧНЫЕ» ПРИХВАТ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642960" y="2500200"/>
            <a:ext cx="7858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хемы можно найт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вина З.Ф Изделия в технике плетения из бумаг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а и производство.-2007.-№3.-с.46-4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/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namasterov.ru/node/1876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d=451%2C30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F:\иллюзии\ро.JPG"/>
          <p:cNvPicPr/>
          <p:nvPr/>
        </p:nvPicPr>
        <p:blipFill>
          <a:blip r:embed="rId5"/>
          <a:stretch/>
        </p:blipFill>
        <p:spPr>
          <a:xfrm>
            <a:off x="2500200" y="3957480"/>
            <a:ext cx="3500640" cy="26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428760" y="142920"/>
            <a:ext cx="82278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7600"/>
                <a:tab algn="l" pos="3316320"/>
                <a:tab algn="l" pos="4146480"/>
                <a:tab algn="l" pos="4975200"/>
                <a:tab algn="l" pos="5805360"/>
                <a:tab algn="l" pos="6634080"/>
                <a:tab algn="l" pos="7464600"/>
                <a:tab algn="l" pos="8292960"/>
                <a:tab algn="l" pos="912348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3366"/>
                </a:solidFill>
                <a:latin typeface="Arial"/>
                <a:ea typeface="Mangal"/>
              </a:rPr>
              <a:t>ЛОСКУТНЫЕ ИЛЛЮ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326880" y="1514520"/>
            <a:ext cx="8228160" cy="45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C:\Documents and Settings\Надежда\Рабочий стол\иллюзии\DSC07073.JPG"/>
          <p:cNvPicPr/>
          <p:nvPr/>
        </p:nvPicPr>
        <p:blipFill>
          <a:blip r:embed="rId1"/>
          <a:stretch/>
        </p:blipFill>
        <p:spPr>
          <a:xfrm>
            <a:off x="3000240" y="1214280"/>
            <a:ext cx="3214800" cy="3184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C:\Documents and Settings\Надежда\Рабочий стол\иллюзии\DSC07061.JPG"/>
          <p:cNvPicPr/>
          <p:nvPr/>
        </p:nvPicPr>
        <p:blipFill>
          <a:blip r:embed="rId2"/>
          <a:stretch/>
        </p:blipFill>
        <p:spPr>
          <a:xfrm>
            <a:off x="2357280" y="1357200"/>
            <a:ext cx="4592880" cy="4714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C:\Documents and Settings\Надежда\Рабочий стол\иллюзии\DSC07062.JPG"/>
          <p:cNvPicPr/>
          <p:nvPr/>
        </p:nvPicPr>
        <p:blipFill>
          <a:blip r:embed="rId3"/>
          <a:stretch/>
        </p:blipFill>
        <p:spPr>
          <a:xfrm>
            <a:off x="2286000" y="1300320"/>
            <a:ext cx="4714920" cy="470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C:\Documents and Settings\Надежда\Рабочий стол\иллюзии\DSC07063.JPG"/>
          <p:cNvPicPr/>
          <p:nvPr/>
        </p:nvPicPr>
        <p:blipFill>
          <a:blip r:embed="rId4"/>
          <a:stretch/>
        </p:blipFill>
        <p:spPr>
          <a:xfrm>
            <a:off x="2286000" y="1357200"/>
            <a:ext cx="4672080" cy="4643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C:\Documents and Settings\Надежда\Рабочий стол\иллюзии\DSC07067.JPG"/>
          <p:cNvPicPr/>
          <p:nvPr/>
        </p:nvPicPr>
        <p:blipFill>
          <a:blip r:embed="rId5"/>
          <a:stretch/>
        </p:blipFill>
        <p:spPr>
          <a:xfrm>
            <a:off x="2357280" y="1357200"/>
            <a:ext cx="4572000" cy="4662720"/>
          </a:xfrm>
          <a:prstGeom prst="rect">
            <a:avLst/>
          </a:prstGeom>
          <a:ln w="0">
            <a:noFill/>
          </a:ln>
        </p:spPr>
      </p:pic>
      <p:sp>
        <p:nvSpPr>
          <p:cNvPr id="67" name="TextBox 9"/>
          <p:cNvSpPr/>
          <p:nvPr/>
        </p:nvSpPr>
        <p:spPr>
          <a:xfrm>
            <a:off x="642960" y="4549680"/>
            <a:ext cx="80722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м интересны зрительные иллюзии? Мне - д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первый взгляд создается впечатление, что узор состоит из множества маленьких деталей причудливой формы, и совершенно непонятно, как удалось их так точно собрать, но…  Все не так уж и сложно, и можно довольно быстро создать такую замысловатую картин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3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3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3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3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готовку-плетенку можно использовать и как фон для друг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ример, нашить на нее аппликац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500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oftexpressions.com/Merchant2/graphics/00000001/bkS/SimplyStn10.gif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091"/>
          <p:cNvPicPr/>
          <p:nvPr/>
        </p:nvPicPr>
        <p:blipFill>
          <a:blip r:embed="rId2"/>
          <a:stretch/>
        </p:blipFill>
        <p:spPr>
          <a:xfrm>
            <a:off x="4857840" y="1428840"/>
            <a:ext cx="4071960" cy="45590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3"/>
          <p:cNvSpPr/>
          <p:nvPr/>
        </p:nvSpPr>
        <p:spPr>
          <a:xfrm>
            <a:off x="3143160" y="6072120"/>
            <a:ext cx="57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oftexpressions.com/Merchant2/graphics/00000001/bkS/SimplyStn6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Безымянный"/>
          <p:cNvPicPr/>
          <p:nvPr/>
        </p:nvPicPr>
        <p:blipFill>
          <a:blip r:embed="rId4"/>
          <a:stretch/>
        </p:blipFill>
        <p:spPr>
          <a:xfrm>
            <a:off x="285840" y="1071720"/>
            <a:ext cx="333540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3"/>
          <p:cNvSpPr/>
          <p:nvPr/>
        </p:nvSpPr>
        <p:spPr>
          <a:xfrm>
            <a:off x="4286160" y="6000840"/>
            <a:ext cx="46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oftexpressions.com/Merchant2/graphics/00000001/bkS/SimplyStn7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C:\Documents and Settings\Надежда\Рабочий стол\иллюзии\конкурс\иллюзиии\Woven Sunshine Machine Quilted 9.jpg"/>
          <p:cNvPicPr/>
          <p:nvPr/>
        </p:nvPicPr>
        <p:blipFill>
          <a:blip r:embed="rId2"/>
          <a:stretch/>
        </p:blipFill>
        <p:spPr>
          <a:xfrm>
            <a:off x="4857840" y="1143000"/>
            <a:ext cx="4013280" cy="4757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"/>
          <p:cNvPicPr/>
          <p:nvPr/>
        </p:nvPicPr>
        <p:blipFill>
          <a:blip r:embed="rId3"/>
          <a:stretch/>
        </p:blipFill>
        <p:spPr>
          <a:xfrm>
            <a:off x="214200" y="1285920"/>
            <a:ext cx="4216680" cy="41990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6"/>
          <p:cNvSpPr/>
          <p:nvPr/>
        </p:nvSpPr>
        <p:spPr>
          <a:xfrm>
            <a:off x="214200" y="285840"/>
            <a:ext cx="42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softexpressions.com/Merchant2/graphics/00000001/bkS/SimplyStn9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C:\Documents and Settings\Надежда\Рабочий стол\иллюзии\конкурс\иллюзиии\Blog_ButGarden1.jpg"/>
          <p:cNvPicPr/>
          <p:nvPr/>
        </p:nvPicPr>
        <p:blipFill>
          <a:blip r:embed="rId1"/>
          <a:stretch/>
        </p:blipFill>
        <p:spPr>
          <a:xfrm>
            <a:off x="357120" y="1571760"/>
            <a:ext cx="2857680" cy="4010040"/>
          </a:xfrm>
          <a:prstGeom prst="rect">
            <a:avLst/>
          </a:prstGeom>
          <a:ln w="0">
            <a:noFill/>
          </a:ln>
        </p:spPr>
      </p:pic>
      <p:sp>
        <p:nvSpPr>
          <p:cNvPr id="132" name="TextBox 6"/>
          <p:cNvSpPr/>
          <p:nvPr/>
        </p:nvSpPr>
        <p:spPr>
          <a:xfrm>
            <a:off x="214200" y="285840"/>
            <a:ext cx="607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1.bp.blogspot.com/_sm0LYEfdqJQ/SbL5yPUk3UI/AAAAAAAAAKQ/NHNDVkUGAhs/s320/Blog_ButGarden1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2571840" y="5929200"/>
            <a:ext cx="63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4.bp.blogspot.com/_2ssunQr1FDY/TBQIj1c65SI/AAAAAAAAF30/40v6_39IF0k/s1600/Kathy+Woven+Quilt+3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C:\Documents and Settings\Надежда\Рабочий стол\иллюзии\конкурс\иллюзиии\Kathy Woven Quilt 3.jpg"/>
          <p:cNvPicPr/>
          <p:nvPr/>
        </p:nvPicPr>
        <p:blipFill>
          <a:blip r:embed="rId4"/>
          <a:stretch/>
        </p:blipFill>
        <p:spPr>
          <a:xfrm>
            <a:off x="5214960" y="1808280"/>
            <a:ext cx="3284640" cy="37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213840" y="213840"/>
            <a:ext cx="471492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oftexpressions.com/Merchant2/graphics/00000001/bkS/SimplyStn4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C:\Documents and Settings\Надежда\Рабочий стол\иллюзии\конкурс\иллюзиии\SimplyStn4.gif"/>
          <p:cNvPicPr/>
          <p:nvPr/>
        </p:nvPicPr>
        <p:blipFill>
          <a:blip r:embed="rId2"/>
          <a:stretch/>
        </p:blipFill>
        <p:spPr>
          <a:xfrm>
            <a:off x="571680" y="1143000"/>
            <a:ext cx="3816000" cy="4500720"/>
          </a:xfrm>
          <a:prstGeom prst="rect">
            <a:avLst/>
          </a:prstGeom>
          <a:ln w="0">
            <a:noFill/>
          </a:ln>
        </p:spPr>
      </p:pic>
      <p:sp>
        <p:nvSpPr>
          <p:cNvPr id="137" name="TextBox 4"/>
          <p:cNvSpPr/>
          <p:nvPr/>
        </p:nvSpPr>
        <p:spPr>
          <a:xfrm>
            <a:off x="3143160" y="5857920"/>
            <a:ext cx="57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oftexpressions.com/Merchant2/graphics/00000001/bkS/SimplyStn3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C:\Documents and Settings\Надежда\Рабочий стол\иллюзии\конкурс\иллюзиии\SimplyStn3.gif"/>
          <p:cNvPicPr/>
          <p:nvPr/>
        </p:nvPicPr>
        <p:blipFill>
          <a:blip r:embed="rId4"/>
          <a:stretch/>
        </p:blipFill>
        <p:spPr>
          <a:xfrm>
            <a:off x="5440320" y="285840"/>
            <a:ext cx="330516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3"/>
          <p:cNvSpPr/>
          <p:nvPr/>
        </p:nvSpPr>
        <p:spPr>
          <a:xfrm>
            <a:off x="4357800" y="5715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4.bp.blogspot.com/_2ssunQr1FDY/TBQADMPBEPI/AAAAAAAAF3U/-NVa-jbQKm4/s1600/Kathy+Woven+Quilt+4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C:\Documents and Settings\Надежда\Рабочий стол\иллюзии\конкурс\иллюзиии\Kathy Woven Quilt 4.jpg"/>
          <p:cNvPicPr/>
          <p:nvPr/>
        </p:nvPicPr>
        <p:blipFill>
          <a:blip r:embed="rId2"/>
          <a:stretch/>
        </p:blipFill>
        <p:spPr>
          <a:xfrm>
            <a:off x="4684680" y="1428840"/>
            <a:ext cx="4178160" cy="402588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5"/>
          <p:cNvSpPr/>
          <p:nvPr/>
        </p:nvSpPr>
        <p:spPr>
          <a:xfrm>
            <a:off x="428760" y="285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crazydoglady.com/images/WovenPondQuilt5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C:\Documents and Settings\Надежда\Рабочий стол\иллюзии\конкурс\иллюзиии\WovenPondQuilt5.jpg"/>
          <p:cNvPicPr/>
          <p:nvPr/>
        </p:nvPicPr>
        <p:blipFill>
          <a:blip r:embed="rId4"/>
          <a:stretch/>
        </p:blipFill>
        <p:spPr>
          <a:xfrm>
            <a:off x="285840" y="1143000"/>
            <a:ext cx="414324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8760" y="621504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55.radikal.ru/i150/0903/d1/8705c5022c04.jpg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2"/>
          <a:srcRect l="3904" t="6101" r="5859" b="8536"/>
          <a:stretch/>
        </p:blipFill>
        <p:spPr>
          <a:xfrm>
            <a:off x="1197000" y="1143000"/>
            <a:ext cx="6678720" cy="4857840"/>
          </a:xfrm>
          <a:prstGeom prst="rect">
            <a:avLst/>
          </a:prstGeom>
          <a:ln w="0">
            <a:noFill/>
          </a:ln>
        </p:spPr>
      </p:pic>
      <p:sp>
        <p:nvSpPr>
          <p:cNvPr id="145" name="TextBox 3"/>
          <p:cNvSpPr/>
          <p:nvPr/>
        </p:nvSpPr>
        <p:spPr>
          <a:xfrm>
            <a:off x="428760" y="214200"/>
            <a:ext cx="85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Arial"/>
              </a:rPr>
              <a:t>Или сделать просто панно, покрывало, накидку на кресло и т.д</a:t>
            </a: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Заголовок 1"/>
          <p:cNvSpPr/>
          <p:nvPr/>
        </p:nvSpPr>
        <p:spPr>
          <a:xfrm>
            <a:off x="428760" y="6215040"/>
            <a:ext cx="8229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s55.radikal.ru/i150/0903/d1/8705c5022c04.jpg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т метод очень интересен в работе. Он несложен, и в тоже время результат его всегда неожиданный. Ни один блок не повторит друг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пробуйте, надеюсь, вам тоже понравится складывать и плести эти «разрезалки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00cc"/>
                </a:solidFill>
                <a:latin typeface="Arial"/>
              </a:rPr>
              <a:t>Маленькие советы 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85680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но разрезать заготовки и по отдельности, особенно если используется плотная ткань (драп). При этом разрезы на деталях могут быть сделаны по-разн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ы для такого способа «плетения» можно использовать любые, но все же предпочтительнее несыпуч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желании сыпучесть можно уменьшить продублировав ткань флизели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рошо использовать сочетание однотонной ткани и ткани с рисунк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дельные «щупальца» для усиления декоративного эффекта можно заменить тканью другого цве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99"/>
                </a:solidFill>
                <a:latin typeface="Arial"/>
              </a:rPr>
              <a:t>ИСПОЛЬЗОВАНН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ublirin.com.ua/we_sew_razrez.files/fis08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oftexpressions.com/Merchant2/graphics/00000001/bkS/SimplyStn10.g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oftexpressions.com/Merchant2/graphics/00000001/bkS/SimplyStn6.g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softexpressions.com/Merchant2/graphics/00000001/bkS/SimplyStn9.g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softexpressions.com/Merchant2/graphics/00000001/bkS/SimplyStn7.g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softexpressions.com/Merchant2/graphics/00000001/bkS/SimplyStn7.g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http://4.bp.blogspot.com/_2ssunQr1FDY/TBQIj1c65SI/AAAAAAAAF30/40v6_39IF0k/s1600/Kathy+Woven+Quilt+3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http://www.softexpressions.com/Merchant2/graphics/00000001/bkS/SimplyStn4.g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http://www.softexpressions.com/Merchant2/graphics/00000001/bkS/SimplyStn3.g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http://www.crazydoglady.com/images/WovenPondQuilt5.jp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http://4.bp.blogspot.com/_2ssunQr1FDY/TBQADMPBEPI/AAAAAAAAF3U/-NVa-jbQKm4/s1600/Kathy+Woven+Quilt+4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http://s55.radikal.ru/i150/0903/d1/8705c5022c04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 также фото автор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99"/>
                </a:solidFill>
                <a:latin typeface="Arial"/>
              </a:rPr>
              <a:t>Для работы нам понадобитс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85560"/>
            <a:ext cx="44956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лфетки для уборки двух цве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еевой флизелин (не обязательно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жниц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вейная маши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тки для шит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DSC06114"/>
          <p:cNvPicPr/>
          <p:nvPr/>
        </p:nvPicPr>
        <p:blipFill>
          <a:blip r:embed="rId1"/>
          <a:stretch/>
        </p:blipFill>
        <p:spPr>
          <a:xfrm>
            <a:off x="4427640" y="2128680"/>
            <a:ext cx="447012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2876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c8c93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c8c93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3c8c93"/>
                </a:solidFill>
                <a:latin typeface="Arial"/>
              </a:rPr>
              <a:t>ЖЕЛАЮ УДАЧИ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C:\Documents and Settings\Надежда\Рабочий стол\иллюзии\DSC07105.JPG"/>
          <p:cNvPicPr/>
          <p:nvPr/>
        </p:nvPicPr>
        <p:blipFill>
          <a:blip r:embed="rId1"/>
          <a:stretch/>
        </p:blipFill>
        <p:spPr>
          <a:xfrm>
            <a:off x="2500200" y="2571840"/>
            <a:ext cx="3929040" cy="39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39280" y="189000"/>
            <a:ext cx="8363160" cy="28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работы нам нужна мало осыпающаяся ткань. Мне очень нравится использовать в работе (особенно с детьми) самые обыкновенные салфетки для уборки, которые продаются во всех хозяйственных магазинах. Стоят недорого и бывают разных цветов (розовые, голубые, желтые, зеленые). Они мягкие, легко режутся, не осыпаются, с ними легко работ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DSC06114"/>
          <p:cNvPicPr/>
          <p:nvPr/>
        </p:nvPicPr>
        <p:blipFill>
          <a:blip r:embed="rId1"/>
          <a:stretch/>
        </p:blipFill>
        <p:spPr>
          <a:xfrm>
            <a:off x="2357280" y="3214800"/>
            <a:ext cx="459432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6"/>
          <p:cNvSpPr/>
          <p:nvPr/>
        </p:nvSpPr>
        <p:spPr>
          <a:xfrm>
            <a:off x="214200" y="117360"/>
            <a:ext cx="4429080" cy="71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краиваем из ткани два прямоугольника, при этом большая сторона должна быть больше  на 1.5-2 см, чем меньшая.  Размер ткани выбираем в зависимости от желания (прихватка, салфетка), но желательно не меньше, чем 20 с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Складываем их  лицом в одном   направлен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носим линии разреза. Эти линии могут быть совершенно произвольные, как прямые, так и волнистые. Количество линий тоже произвольное, на размер 20 см можно сделать 7-8 разрез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алываем заготовки булавками так, чтобы булавки не попадали на линии разрез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ступаем к разрезани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резаем обе заготовки вместе, при этом не дорезаем до конца на 1,5-2 см. Это необходимо сделать, чтобы заготовка не развалилась, а получившиеся «щупальца» не перепуталис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5143680" y="1857240"/>
            <a:ext cx="3743280" cy="379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57120" y="50004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нимаем из ткани булавки и аккуратно разделяем две наши заготов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ились две «осьминожк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поминаем, что собой представляет полотняное переплетение, затем разворачиваем одну заготовку относительно другой на 90 градусов и начинаем пле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C:\Documents and Settings\Надежда\Рабочий стол\иллюзии\DSC07076.JPG"/>
          <p:cNvPicPr/>
          <p:nvPr/>
        </p:nvPicPr>
        <p:blipFill>
          <a:blip r:embed="rId1"/>
          <a:stretch/>
        </p:blipFill>
        <p:spPr>
          <a:xfrm>
            <a:off x="1071720" y="2500200"/>
            <a:ext cx="68562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очередно вплетаем «щупальца», закрепляя их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:\Documents and Settings\Надежда\Рабочий стол\иллюзии\DSC07079.JPG"/>
          <p:cNvPicPr/>
          <p:nvPr/>
        </p:nvPicPr>
        <p:blipFill>
          <a:blip r:embed="rId1"/>
          <a:stretch/>
        </p:blipFill>
        <p:spPr>
          <a:xfrm>
            <a:off x="4572000" y="785880"/>
            <a:ext cx="4248000" cy="3068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C:\Documents and Settings\Надежда\Рабочий стол\иллюзии\DSC07077.JPG"/>
          <p:cNvPicPr/>
          <p:nvPr/>
        </p:nvPicPr>
        <p:blipFill>
          <a:blip r:embed="rId2"/>
          <a:stretch/>
        </p:blipFill>
        <p:spPr>
          <a:xfrm>
            <a:off x="214200" y="1214280"/>
            <a:ext cx="4102200" cy="2397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Надежда\Рабочий стол\иллюзии\DSC07080.JPG"/>
          <p:cNvPicPr/>
          <p:nvPr/>
        </p:nvPicPr>
        <p:blipFill>
          <a:blip r:embed="rId3"/>
          <a:stretch/>
        </p:blipFill>
        <p:spPr>
          <a:xfrm>
            <a:off x="357120" y="3929040"/>
            <a:ext cx="3971880" cy="2643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Documents and Settings\Надежда\Рабочий стол\иллюзии\DSC07081.JPG"/>
          <p:cNvPicPr/>
          <p:nvPr/>
        </p:nvPicPr>
        <p:blipFill>
          <a:blip r:embed="rId4"/>
          <a:stretch/>
        </p:blipFill>
        <p:spPr>
          <a:xfrm>
            <a:off x="5357880" y="3935520"/>
            <a:ext cx="285732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28584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 разрезанные детали можно положить клеевой флизелин, клеевым слоем к заготовке. Проутюжить ( это облегчит дальнейшую работу на швейной машине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C:\Documents and Settings\Надежда\Рабочий стол\иллюзии\DSC07084.JPG"/>
          <p:cNvPicPr/>
          <p:nvPr/>
        </p:nvPicPr>
        <p:blipFill>
          <a:blip r:embed="rId1"/>
          <a:stretch/>
        </p:blipFill>
        <p:spPr>
          <a:xfrm>
            <a:off x="285840" y="1571760"/>
            <a:ext cx="4122720" cy="3786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C:\Documents and Settings\Надежда\Рабочий стол\иллюзии\DSC07087.JPG"/>
          <p:cNvPicPr/>
          <p:nvPr/>
        </p:nvPicPr>
        <p:blipFill>
          <a:blip r:embed="rId2"/>
          <a:stretch/>
        </p:blipFill>
        <p:spPr>
          <a:xfrm>
            <a:off x="4722840" y="2428920"/>
            <a:ext cx="413532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трочить зиг-загом или декоративной строчкой по открытым срезам плет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C:\Documents and Settings\Надежда\Рабочий стол\иллюзии\DSC07090.JPG"/>
          <p:cNvPicPr/>
          <p:nvPr/>
        </p:nvPicPr>
        <p:blipFill>
          <a:blip r:embed="rId1"/>
          <a:stretch/>
        </p:blipFill>
        <p:spPr>
          <a:xfrm>
            <a:off x="285840" y="1357200"/>
            <a:ext cx="4521240" cy="3929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C:\Documents and Settings\Надежда\Рабочий стол\иллюзии\DSC07093.JPG"/>
          <p:cNvPicPr/>
          <p:nvPr/>
        </p:nvPicPr>
        <p:blipFill>
          <a:blip r:embed="rId2"/>
          <a:stretch/>
        </p:blipFill>
        <p:spPr>
          <a:xfrm>
            <a:off x="5018040" y="2643120"/>
            <a:ext cx="392760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21:04:49Z</dcterms:created>
  <dc:creator>Вова</dc:creator>
  <dc:description/>
  <dc:language>en-US</dc:language>
  <cp:lastModifiedBy>админ</cp:lastModifiedBy>
  <dcterms:modified xsi:type="dcterms:W3CDTF">2011-04-23T09:21:26Z</dcterms:modified>
  <cp:revision>36</cp:revision>
  <dc:subject/>
  <dc:title>Слайд 1</dc:title>
</cp:coreProperties>
</file>