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27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98F-2139-4629-9E8C-4CDAD943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812-41C5-47F8-9C02-EF5C9A52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08B-44C9-4BA7-8E25-586D0D7F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71EF-DA00-4256-BC72-20E11C9B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82C6-06E1-41EF-89E7-26CA17B0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1EC9-2134-41AD-BA98-758DAF04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D3D3-9F85-4299-AD3B-97315253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C886E-26EB-4749-9B94-CC81B843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40C9-B235-4195-A442-B2EFACEA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AB57-F804-4AEF-AE54-6F8BC7C8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7B74-E706-465B-97C8-74A8AD2D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1C3-861D-4AE8-AE72-64C41AC3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2E38-45C9-4BBE-8659-EB5C56B8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8A9-FF08-476D-9790-031F6AB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579C-636C-4446-99D6-C62428B5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3933-7787-48B2-98C1-A8F7B3AA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DA52-11BB-46AA-BBA3-3CE4FEEA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9232A-1A1A-4B3C-BA46-B6904FEE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F24AE-6A4A-44DF-98B3-A7C380E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4AE12-F46E-4D4B-AE2B-23F23843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DA7A84-4EE8-4DFA-8F79-F3134B39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9BEE0-CF06-4039-874D-D2DB7858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304A-99B9-43F6-A801-445EC2B4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4CC2C-8D6B-4D60-8D96-0BF12ED2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AEBE5-E698-47E0-B2F9-5CADB83B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11D6B6-5342-462D-AC4F-685B8EF9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B7A1A-DEE3-4959-B110-A76FE65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D2327-3CB1-46E8-8361-1713A211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0A583-7CD5-4464-BACB-A266396A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0DEB9-2288-4367-ABD4-CB6467890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B03B5-A824-4947-B867-2CB8286D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F3F75-048A-411D-A419-CB9274AC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44476-6FA4-434F-B612-FBD5A56C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C4A-FE1C-4253-B937-1B4C9523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1BD8-CEB7-4E59-AE8E-76D725C6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344ED-19CF-4052-B520-2C0BD6BF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4C5A-4087-4B9E-840F-3D8EB80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C9FB-3752-4821-92F1-E9E54E5D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F740-1ACC-487B-B770-95B2148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AA644-7E6E-40D2-8D62-CFBB0C8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F10E-6CD7-44E9-ABB6-AE8C5DD3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8739-C47D-4C33-A015-40F6460B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EFF4-2578-4FF3-89A2-031F4DFF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CD218-410F-4E70-A612-0F272B51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E17A-A69B-4080-84E3-2D48FD7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C6434-ACBB-4405-ABDB-86FA5C9D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57A9C-EA1F-45B3-A881-95138C53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706B1-BDA6-4757-8A1A-3C5CE6B4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692E7-7B80-4BEB-B7BF-5DFD18D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04B4C-47C6-4D1D-8E3C-3735B61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D20A7-5EE2-4EDD-AEB6-71A6090D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98DEA-9F9A-42ED-98D9-FB83092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6B2D4A-947E-4321-A0FD-85B947A3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D6E2C-BC20-4F13-897F-F1209CB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F4E348-7C3C-4865-B24A-82480A2A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1A6-234E-452E-940E-67E58701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430FE-BCCB-410D-8128-DB4F62A1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22E19-EA77-4E86-A86E-89C32B72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7549E1-EEF2-4259-9F13-69317ED9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2E6E0-09C6-4E02-B897-B497952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D5C78-25FF-4F4C-B387-85688932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EBE3C6-6FE6-4750-8762-C0978735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27C1D-AD08-4DD7-8BED-0F78B698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E300C-D3F2-4E3F-A781-06784C66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AB31A-B2ED-4957-9BC7-DC8E6259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A6707-64B0-4AB3-96FC-18E2FAFD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AD8-934D-4932-B59A-96E365C7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2F240-C486-4F44-8CE9-66FC4AD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752CE6-FAC0-4D19-B8EC-E167BBA9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2BDF2-225B-4882-86CD-60338CB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4E064B-C694-4D81-9587-9AB77847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79F92-5BD9-412E-A8DC-9FEA0FF2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44EBD-9C6A-460C-97EB-73E5A58B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F0BA9F-6619-49FF-805C-AFA37DE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E5638B-4F62-4028-821E-8F570ED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0E76DB-A7B2-4F56-9D81-98853E88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5E5F1-3777-4496-B62C-1BC78350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A62D-151E-4939-9249-955EF9D2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E2796E-D32F-40FB-8567-4C4256FD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DAFDAE-DFA4-4930-BA39-0C1209A8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6DD1E0-A61C-472D-A8BF-6DCD015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EDDA9-874C-4099-9A39-87D1000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6F84EB-A49E-4AA5-9605-3F1DAAD4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7617-60D3-4701-9AB9-F423850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C4F9-DE6A-448B-9E4D-722296E31A3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873F-9B13-4E81-86CF-A7FE1C9264D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A38-729F-4A9E-8D98-489E01E3DF4C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c0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d8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d8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ec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c0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ec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c0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c0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3ded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3ded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8E65-CF78-480F-9E9E-9F2483EA00C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132-65E0-4FB9-B3B9-00C20B8F07D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9EC3-5744-4B39-A571-0EF371CC66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c0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6f07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c0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cdaca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23232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23232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F054-93A5-4486-BA65-36ADE11474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hnologiya.ucoz.ru/" TargetMode="External"/><Relationship Id="rId3" Type="http://schemas.openxmlformats.org/officeDocument/2006/relationships/hyperlink" Target="http://tehnologiya.ucoz.ru/" TargetMode="External"/><Relationship Id="rId4" Type="http://schemas.openxmlformats.org/officeDocument/2006/relationships/hyperlink" Target="http://tehnologiya.ucoz.ru/" TargetMode="External"/><Relationship Id="rId5" Type="http://schemas.openxmlformats.org/officeDocument/2006/relationships/hyperlink" Target="http://tehnologiya.ucoz.ru/" TargetMode="External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hnologiya.ucoz.ru/" TargetMode="External"/><Relationship Id="rId2" Type="http://schemas.openxmlformats.org/officeDocument/2006/relationships/hyperlink" Target="http://tehnologiya.ucoz.ru/" TargetMode="External"/><Relationship Id="rId3" Type="http://schemas.openxmlformats.org/officeDocument/2006/relationships/hyperlink" Target="http://tehnologiya.ucoz.ru/" TargetMode="External"/><Relationship Id="rId4" Type="http://schemas.openxmlformats.org/officeDocument/2006/relationships/hyperlink" Target="http://tehnologiya.ucoz.ru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31640" y="1699920"/>
            <a:ext cx="7489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Волшебный мир бумаги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pic>
        <p:nvPicPr>
          <p:cNvPr id="376" name="Рисунок 3" descr=""/>
          <p:cNvPicPr/>
          <p:nvPr/>
        </p:nvPicPr>
        <p:blipFill>
          <a:blip r:embed="rId1"/>
          <a:stretch/>
        </p:blipFill>
        <p:spPr>
          <a:xfrm>
            <a:off x="179280" y="0"/>
            <a:ext cx="100800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124000" y="4868640"/>
            <a:ext cx="6400800" cy="13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влева Людмила Григорьевн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У «СОШ № 142» г. Омск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2843280" y="3716280"/>
            <a:ext cx="4394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0c0c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стер-класс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0c0c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63640" y="476280"/>
            <a:ext cx="5977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26028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прерывная  подготовка  учителя  технологии»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tehnologiya.ucoz.ru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5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урс мастер - классов «Прекрасное своими ру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Техника выполнения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pic>
        <p:nvPicPr>
          <p:cNvPr id="438" name="Текст 1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6227640" y="404640"/>
            <a:ext cx="2413080" cy="161316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496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ика бумагопластики  делится на 4 част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готовка материал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езка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дание формы элементу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борка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работе   используем чертежную бумагу. При этом на плотную несущую бумагу с помощью клея  мы на наклеиваем тонкую декоративную более красивую, но неспособную держать форму. С помощью шила с закруглённым кончиком намечается план будущей кройки. Далее наступает ответственный момент вырезки. Основная хитрость состоит в угле среза. Основной принцип техники бумагопластики состоит в правильно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езании форм канцелярским ножом под углом 45 градусов. После вырезания к бумаге применяются различные техники для придания ей объёмной формы. При сборке композиции мы обычно не можем применять клей, подходящий для соединения плоских поверхностей, тогда в ход идёт двухсторонний скотч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Инструменты и приспособления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1471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ож по бумаг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Канцелярский нож для бумаги. Ручка предпочтительна прямая, подобная авторучки. Крайне неудобно работать пластмассовым инструмент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инце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Небольшой пинцет с острыми, точно сопрягающимися концами. Таким инструментом будет удобнее работать с маленькими деталями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пециальная дос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на которой мы будем вырезать элементы композиции из бумаги. Она удобна для этой цели и в определённой степени устойчива к порезам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вухсторонний скотч,  клеи ПВ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03280" cy="109548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419640" y="5013360"/>
            <a:ext cx="2447640" cy="11635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4493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6920" y="177300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Century Schoolbook"/>
              </a:rPr>
              <a:t>Информационные источники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740880" y="2997000"/>
            <a:ext cx="800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итератур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гарин Б.Г. Конструирование из бумаги. - Ташкент. 1988 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ибина М.И. Из простой бумаги мастерим как маги. – Ярославль. 1998 г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404640"/>
            <a:ext cx="734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Непрерывная  подготовка  учителя  технологии»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3"/>
              </a:rPr>
              <a:t>tehnologiya.ucoz.ru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Times New Roman"/>
                <a:hlinkClick r:id="rId4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курс мастер - классов «Прекрасное своими рукам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Бумага – удивительный материал. </a:t>
            </a:r>
            <a:r>
              <a:rPr b="0" lang="en-US" sz="2600" spc="-1" strike="noStrike">
                <a:solidFill>
                  <a:srgbClr val="323232"/>
                </a:solidFill>
                <a:latin typeface="Century Schoolbook"/>
              </a:rPr>
              <a:t> </a:t>
            </a:r>
            <a:endParaRPr b="0" lang="en-US" sz="26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природе - натуральный, по происхождению – благородный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процессе работы -  удивительно пластичны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"/>
          <p:cNvSpPr/>
          <p:nvPr/>
        </p:nvSpPr>
        <p:spPr>
          <a:xfrm>
            <a:off x="1187280" y="2997360"/>
            <a:ext cx="1389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2781360"/>
            <a:ext cx="18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042920" y="2349360"/>
          <a:ext cx="7129440" cy="3311640"/>
        </p:xfrm>
        <a:graphic>
          <a:graphicData uri="http://schemas.openxmlformats.org/drawingml/2006/table">
            <a:tbl>
              <a:tblPr/>
              <a:tblGrid>
                <a:gridCol w="1782720"/>
                <a:gridCol w="1782720"/>
                <a:gridCol w="1781280"/>
                <a:gridCol w="1782720"/>
              </a:tblGrid>
              <a:tr h="151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129708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987640" y="2565360"/>
            <a:ext cx="136836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295280" cy="122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6732720" y="2781360"/>
            <a:ext cx="129528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258920" y="4149720"/>
            <a:ext cx="1224000" cy="115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2987640" y="4221000"/>
            <a:ext cx="1368360" cy="115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4859280" y="4292640"/>
            <a:ext cx="1371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8"/>
          <a:stretch/>
        </p:blipFill>
        <p:spPr>
          <a:xfrm>
            <a:off x="6659640" y="4292640"/>
            <a:ext cx="1366920" cy="12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324000" y="573408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яем  криволинейные и прямолинейные надрезы, прогинаем заготовку по надрезу, распрямляем лист, с обратной стороны делаем надрезы .  Лист формируется согласно линиям надрезов,  получая различные фа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Новогодняя елка</a:t>
            </a:r>
            <a:endParaRPr b="0" lang="en-US" sz="3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435640" y="907920"/>
            <a:ext cx="3170160" cy="258156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95280" y="1197000"/>
            <a:ext cx="3741840" cy="54007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5435640" y="3645000"/>
            <a:ext cx="3178080" cy="25192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4788000" y="61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Домик в деревн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6000" y="33336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уд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entury Schoolbook"/>
              </a:rPr>
              <a:t>Красота своими руками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pic>
        <p:nvPicPr>
          <p:cNvPr id="403" name="Текст 12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433600" cy="18259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2113200" cy="2303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539640" y="595008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спользуем резак, трафарет и развертку к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84360" y="1844640"/>
          <a:ext cx="3657600" cy="367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18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826920" y="1989000"/>
            <a:ext cx="158436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826920" y="3933720"/>
            <a:ext cx="1584360" cy="151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2627280" y="1989000"/>
            <a:ext cx="159228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0" name="" descr=""/>
          <p:cNvPicPr/>
          <p:nvPr/>
        </p:nvPicPr>
        <p:blipFill>
          <a:blip r:embed="rId6"/>
          <a:stretch/>
        </p:blipFill>
        <p:spPr>
          <a:xfrm>
            <a:off x="2627280" y="3933720"/>
            <a:ext cx="1548000" cy="1484280"/>
          </a:xfrm>
          <a:prstGeom prst="rect">
            <a:avLst/>
          </a:prstGeom>
          <a:ln w="9360">
            <a:solidFill>
              <a:srgbClr val="080808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7"/>
          <a:stretch/>
        </p:blipFill>
        <p:spPr>
          <a:xfrm>
            <a:off x="6227640" y="1413000"/>
            <a:ext cx="23781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79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entury Schoolbook"/>
              </a:rPr>
              <a:t>Сибирская деревня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24000" y="1197000"/>
            <a:ext cx="849600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Растительный мир: деревья, кусты, ели…</a:t>
            </a:r>
            <a:endParaRPr b="0" lang="en-US" sz="3200" spc="-1" strike="noStrike">
              <a:solidFill>
                <a:srgbClr val="323232"/>
              </a:solidFill>
              <a:latin typeface="Century Schoolbook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324000" y="1628640"/>
          <a:ext cx="8135640" cy="2232000"/>
        </p:xfrm>
        <a:graphic>
          <a:graphicData uri="http://schemas.openxmlformats.org/drawingml/2006/table">
            <a:tbl>
              <a:tblPr/>
              <a:tblGrid>
                <a:gridCol w="2033280"/>
                <a:gridCol w="2035440"/>
                <a:gridCol w="2033640"/>
                <a:gridCol w="2033280"/>
              </a:tblGrid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4000" y="1768320"/>
            <a:ext cx="9037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187164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419" name=""/>
          <p:cNvGraphicFramePr/>
          <p:nvPr/>
        </p:nvGraphicFramePr>
        <p:xfrm>
          <a:off x="324000" y="4005360"/>
          <a:ext cx="8569080" cy="304956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30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07f09"/>
                        </a:buClr>
                        <a:buSzPct val="7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ские элемент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астительного мира кусты и ели,  выполняются по шаблону и состоят из 2 одинаковых деталей, которые по центру разрезаются  до середины и вставляются одна в одну, создавая объем. Одна сторона детали насекается ножницами под углом, и загибается , имитируя ветки, а вторая высекается резаком и отгибается , создавая крон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07f09"/>
                        </a:buClr>
                        <a:buSzPct val="7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ное дерево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Нарезаем полоски бумаги  необходимой ширины, собираем их в пучок и с помощью клея,  одной из полосок, обматываем ствол. Концы-ветви можно оставить в свободном провисании или закрутить концами ножниц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07f09"/>
                        </a:buClr>
                        <a:buSzPct val="7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>
            <a:off x="55440" y="44478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39640" y="1700280"/>
            <a:ext cx="1656000" cy="20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2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2484360" y="1700280"/>
            <a:ext cx="172728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3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6588000" y="1700280"/>
            <a:ext cx="1800360" cy="201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араскева Пятница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356000" y="1268280"/>
            <a:ext cx="4608720" cy="52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резание узоров на бумаге – дело очень увлекательное, но требует усидчивости и терпения. Для создания изделия необходимо сначала нарисовать рисунок, а затем вырезать его канцелярским ножом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агопластика  менее трудоемкая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ем аппликация, и больше напоминает скульптурную инсталляцию на плоскости, где форма создается з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чет объем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мотришь на результат, и с трудом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ерится, что это всего лишь бумага!!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46040" y="1268280"/>
            <a:ext cx="3801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23232"/>
                </a:solidFill>
                <a:latin typeface="Century Schoolbook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Дама с собачкой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38988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хника бумагопластики позволяет придавать обыкновенн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маге объем и превращать ее в очаровательные натюрморты, пейзажи и картины любого жан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писание процесса создания рисунка, как и процесса его вырезания, я опускаю, ввиду того, что у каждого этот процесс будет творчески индивидуальным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 обычного тонкого листа бумаги, а иногда из едва видного рисунка, вдруг приобретя объем, пытаются вырваться на свободу различные персонажи 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356000" y="1628640"/>
            <a:ext cx="4103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Текст 1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3564000" y="1484280"/>
            <a:ext cx="2282760" cy="23605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Оформление кабинета</a:t>
            </a:r>
            <a:endParaRPr b="0" lang="en-US" sz="4000" spc="-1" strike="noStrike">
              <a:solidFill>
                <a:srgbClr val="323232"/>
              </a:solidFill>
              <a:latin typeface="Century Schoolbook"/>
            </a:endParaRPr>
          </a:p>
        </p:txBody>
      </p:sp>
      <p:pic>
        <p:nvPicPr>
          <p:cNvPr id="433" name="Текст 12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8360" y="141300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434" name="Текст 12" descr="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1476360" y="3429000"/>
            <a:ext cx="2303640" cy="2016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4">
            <a:lum bright="42000"/>
          </a:blip>
          <a:stretch/>
        </p:blipFill>
        <p:spPr>
          <a:xfrm>
            <a:off x="5364000" y="3213000"/>
            <a:ext cx="2084400" cy="2232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611280" y="5661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год учителя захотелось разместить его символику на окне, но окон в кабинете 4, поэтому  остальное рождалось по ходу: дерево-символ жизни, манекен- символ предмета и девушка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0:06:01Z</dcterms:created>
  <dc:creator> </dc:creator>
  <dc:description/>
  <dc:language>en-US</dc:language>
  <cp:lastModifiedBy>Admin</cp:lastModifiedBy>
  <dcterms:modified xsi:type="dcterms:W3CDTF">2011-04-23T18:22:32Z</dcterms:modified>
  <cp:revision>42</cp:revision>
  <dc:subject/>
  <dc:title>Слайд 1</dc:title>
</cp:coreProperties>
</file>