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E85-CE87-4B05-A3E8-846B2979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DE4-58F9-468D-B743-A467C38A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DE6-1695-482F-85A6-F8BE4905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65E-1A17-4ACE-BF55-41DAACA8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45C7-8115-490A-AF9C-BF345FA2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FBF1-211E-4DA6-8164-4944F945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D6E4-694C-469F-9BA1-73B58C7F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3357-E847-461D-8B09-F9F409F6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16FA-F249-4F97-9710-BBAD64F3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5202-A08D-44D3-B7D6-381E1D19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387D-9565-46E1-96A5-DB532E80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71D0-06EA-40EA-9AF8-805B71E1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84C8-9DD1-4ED4-9C46-4A5EB8BD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8D49-461F-40F5-BFBC-59D16DF5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DD0D-A136-431E-ADD9-39C9EEF5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FDBB-8B70-43CE-838B-43E2E8F7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1DE4-A779-4F95-9C9F-93B05171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163F-B176-49B6-B120-47239EB2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3D1-9793-4930-A66E-040158A5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1C9-18A1-433E-920B-1A9309CD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EC1-BB31-404F-85E8-86EAFD1E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1B1-56DB-4F36-84C0-8E92EDFB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24E-4C0D-44C6-BB50-D516A548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90F-9007-4D8F-9B2F-42F9A2DC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B40C-B765-462C-9BBA-AB9D8A6DD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B7E8-53DE-4360-AC9E-6E618790F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hnologiya.ucoz.ru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19280" y="2565360"/>
            <a:ext cx="572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астер – класс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64000" y="3573360"/>
            <a:ext cx="5400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Ваза из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ластиковых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утылок - маки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189000"/>
            <a:ext cx="6284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«Непрерывная  подготовка  учителя  технологи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                            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http://tehnologiya.ucoz.ru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Конкурс мастер - классов «Прекрасное своими рукам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УНИЦИПАЛЬНОЕ  ОБРАЗОВАНИЕ  ГОРОД – КУРОРТ  ГЕЛЕНДЖИ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УНИЦИПАЛЬНОЕ  ОБЩЕОБРАЗОВАТЕЛЬНОЕ  УЧРЕЖД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РЕДНЯЯ  ОБЩЕОБРАЗОВАТЕЛЬНАЯ  ШКОЛА №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11840" y="5537160"/>
            <a:ext cx="35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5589720"/>
            <a:ext cx="48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технолог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коркешко Людмила Васильев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39640" y="2637000"/>
            <a:ext cx="2793960" cy="3724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 rot="10800000">
            <a:off x="5006880" y="12679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4221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4084560" cy="3063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4788000" y="1052640"/>
            <a:ext cx="41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резать центральн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асть  ещё  на  4 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716360" y="3500280"/>
            <a:ext cx="4013280" cy="3009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11280" y="45813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делать  2  шту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356000" y="105264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036960" cy="381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635280" y="260280"/>
            <a:ext cx="5256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клеить  к  вазе  полоски  с листиками на  расстоянии  5 см  друг  от  друг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огнуть  листики  в  стороны. Отогнуть  центральные  части (две  наверх  листочка,  две  вниз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867280" y="2852640"/>
            <a:ext cx="2862360" cy="381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250920" y="4941720"/>
            <a:ext cx="56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расить  вазу  золото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ей – крас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348000" cy="446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292720" y="2060640"/>
            <a:ext cx="3294000" cy="43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4067280" y="476280"/>
            <a:ext cx="50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клеить  ленту  сверху  вазы, снизу,  по  местам  приклеивания  листь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5300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клеить  бус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9640" y="2492280"/>
            <a:ext cx="316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вести  и  вырез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  цветоч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2492280"/>
            <a:ext cx="32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красить  акрило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ас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5877000"/>
            <a:ext cx="4319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легка  согнуть  пополам каждый лепесток.  Склеить  цветы  по 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587700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клеить  сердцеви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2950920" cy="2200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148360" y="333360"/>
            <a:ext cx="2879640" cy="214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042920" y="3429000"/>
            <a:ext cx="2932200" cy="2198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148360" y="3429000"/>
            <a:ext cx="2931840" cy="2198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00720" y="692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4941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4157640" cy="554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5435640" y="2637000"/>
            <a:ext cx="28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клеить  цвет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 ваз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00244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атериалы и инструменты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43640" y="4724280"/>
            <a:ext cx="2376360" cy="178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2700360" y="907920"/>
            <a:ext cx="60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стиковые бутыл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5 бутылок  без этикеток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948360" y="2060640"/>
            <a:ext cx="1836720" cy="244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11640" y="2565360"/>
            <a:ext cx="2089080" cy="156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419640" y="4797360"/>
            <a:ext cx="2374560" cy="178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2771640" y="1989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ножниц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56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шил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06864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к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71640" y="3573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ки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43280" y="41497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акриловые  крас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324000" y="4797360"/>
            <a:ext cx="2376360" cy="178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24000" y="1268280"/>
            <a:ext cx="2323800" cy="309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2708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абло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58053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сьма,  бус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3645000"/>
            <a:ext cx="2700360" cy="202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796000" y="5950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обз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64000" y="115920"/>
            <a:ext cx="2214360" cy="29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3276720" y="3213000"/>
            <a:ext cx="28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олот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ей-кра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50920" y="3573360"/>
            <a:ext cx="2808360" cy="21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50920" y="476280"/>
            <a:ext cx="2716200" cy="2038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300720" y="476280"/>
            <a:ext cx="2664000" cy="199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6443640" y="2565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сьма  для сердцеви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348000" y="4365720"/>
            <a:ext cx="2644920" cy="198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3492360" y="63817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марк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ыполнение  работы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157720"/>
            <a:ext cx="62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141300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170028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4581360"/>
            <a:ext cx="36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резать  донышк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жниц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1341360"/>
            <a:ext cx="3816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илом проткнуть            отверстие,  отделив донышко  от  края  на  расстоянии 5 с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788000" y="3716280"/>
            <a:ext cx="3743280" cy="280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9640" y="1052640"/>
            <a:ext cx="3745080" cy="28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4508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4360" y="458640"/>
            <a:ext cx="3743280" cy="280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4859280" y="1052640"/>
            <a:ext cx="374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ставить горлыш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 донышку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716360" y="3267000"/>
            <a:ext cx="3797280" cy="284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971640" y="436572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метить  марке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р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32360" y="620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652560" cy="2739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4932360" y="1268280"/>
            <a:ext cx="324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ткнуть  конту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руга  ши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788000" y="3284640"/>
            <a:ext cx="3797280" cy="284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900000" y="4365720"/>
            <a:ext cx="35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пилить  кру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обзи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148360" y="549360"/>
            <a:ext cx="37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765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436572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3958920" cy="297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859280" y="2997360"/>
            <a:ext cx="3694320" cy="339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5076720" y="765000"/>
            <a:ext cx="3598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мазать  горлыш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коло  кольц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ле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4149720"/>
            <a:ext cx="38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тавить  горлышко 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рстие  доныш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крутить  крыш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5564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103640" cy="307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716360" y="1052640"/>
            <a:ext cx="41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резать  центральн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асть  бутыл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резать  посеред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716360" y="3429000"/>
            <a:ext cx="4032360" cy="3025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395280" y="4365720"/>
            <a:ext cx="410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ступить  от  широ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рая  примерно 5 м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вести  5  лист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429264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959280" cy="297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104000" cy="2932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4859280" y="155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резать  лис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3933720"/>
            <a:ext cx="460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ленькими   ножниц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резать  центральн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асть  каждого  листи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 отрезая  её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1:04:26Z</dcterms:created>
  <dc:creator>Admin</dc:creator>
  <dc:description/>
  <dc:language>en-US</dc:language>
  <cp:lastModifiedBy>саша</cp:lastModifiedBy>
  <dcterms:modified xsi:type="dcterms:W3CDTF">2011-04-18T14:20:54Z</dcterms:modified>
  <cp:revision>59</cp:revision>
  <dc:subject/>
  <dc:title>Мастер – класс.</dc:title>
</cp:coreProperties>
</file>