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6D1-E126-4EEE-B742-6F9C57C2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9B0-5E75-4E17-92BA-08909484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CDE6-2183-4677-893F-E13EA515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18A-0312-43FF-9592-D8258957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E0B2-FEF5-4B7E-B84E-CB3F43A7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B4A-E48B-4493-9B94-C83267EC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97F-87DC-418B-B852-36B0D070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88B0-A563-4590-9267-E4552415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5CF0-A2E8-4C97-87EB-038C40F6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F02-5AD8-4F7F-AF0E-4E238C90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865-DF11-4655-867B-23C1FD7F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3FD-D3F2-45AC-8F66-835C71B6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1092-1174-4CB7-AECC-9372769FBA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tehnologi.su/index/4_zimnie_masterskie/0-648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hitalnya.ru/work/288567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tranamasterov.ru/node/295117" TargetMode="External"/><Relationship Id="rId2" Type="http://schemas.openxmlformats.org/officeDocument/2006/relationships/hyperlink" Target="http://www.youtube.com/watch?v=r7K-n4fOUyE" TargetMode="External"/><Relationship Id="rId3" Type="http://schemas.openxmlformats.org/officeDocument/2006/relationships/hyperlink" Target="http://babairisha.ru/angel-moj-pojdyom-so-mnoj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eader"/>
          <p:cNvPicPr/>
          <p:nvPr/>
        </p:nvPicPr>
        <p:blipFill>
          <a:blip r:embed="rId1"/>
          <a:stretch/>
        </p:blipFill>
        <p:spPr>
          <a:xfrm>
            <a:off x="0" y="457200"/>
            <a:ext cx="5778360" cy="620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0" y="118080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IV</a:t>
            </a:r>
            <a:r>
              <a:rPr b="1" i="1" lang="ru-RU" sz="1600" spc="-1" strike="noStrike">
                <a:solidFill>
                  <a:srgbClr val="333399"/>
                </a:solidFill>
                <a:latin typeface="Times New Roman"/>
              </a:rPr>
              <a:t>  Всероссийские зимние  интернет –мастер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333399"/>
                </a:solidFill>
                <a:latin typeface="Times New Roman"/>
              </a:rPr>
              <a:t>«Новогодняя сказка» (зима 2014-2015г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tehnologi.su/index/4_zimnie_masterskie/0-648</a:t>
            </a:r>
            <a:r>
              <a:rPr b="1" i="1" lang="ru-RU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ns"/>
          <p:cNvPicPr/>
          <p:nvPr/>
        </p:nvPicPr>
        <p:blipFill>
          <a:blip r:embed="rId3"/>
          <a:stretch/>
        </p:blipFill>
        <p:spPr>
          <a:xfrm>
            <a:off x="5867280" y="457200"/>
            <a:ext cx="2667240" cy="1273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4952880" y="251460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Тема: "Рождественский сувенир "Ангел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4"/>
          <a:stretch/>
        </p:blipFill>
        <p:spPr>
          <a:xfrm>
            <a:off x="1066680" y="2133720"/>
            <a:ext cx="3200400" cy="4279680"/>
          </a:xfrm>
          <a:prstGeom prst="rect">
            <a:avLst/>
          </a:prstGeom>
          <a:ln w="0">
            <a:noFill/>
          </a:ln>
        </p:spPr>
      </p:pic>
      <p:sp>
        <p:nvSpPr>
          <p:cNvPr id="46" name="TextBox 7"/>
          <p:cNvSpPr/>
          <p:nvPr/>
        </p:nvSpPr>
        <p:spPr>
          <a:xfrm>
            <a:off x="4724280" y="3733920"/>
            <a:ext cx="396252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Шустрова Наталия Николае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Times New Roman"/>
              </a:rPr>
              <a:t>учитель технологии высшей               квалификационной категории МБОУ «СОШ № 9»,педагог дополнительного образования МБОУДОД ДДТ  г. Сосновый Б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Users\work\Desktop\ангелок\image-12-11-14-04-15.jpeg"/>
          <p:cNvPicPr/>
          <p:nvPr/>
        </p:nvPicPr>
        <p:blipFill>
          <a:blip r:embed="rId1"/>
          <a:stretch/>
        </p:blipFill>
        <p:spPr>
          <a:xfrm>
            <a:off x="609480" y="762120"/>
            <a:ext cx="3452760" cy="2895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work\Desktop\ангелок\image-12-11-14-04-15-4.jpeg"/>
          <p:cNvPicPr/>
          <p:nvPr/>
        </p:nvPicPr>
        <p:blipFill>
          <a:blip r:embed="rId2"/>
          <a:stretch/>
        </p:blipFill>
        <p:spPr>
          <a:xfrm>
            <a:off x="4572000" y="2133720"/>
            <a:ext cx="4181400" cy="289548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762120" y="441972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ыметать ш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иутюж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C:\Users\work\Desktop\ангелок\image-12-11-14-04-15-6.jpeg"/>
          <p:cNvPicPr/>
          <p:nvPr/>
        </p:nvPicPr>
        <p:blipFill>
          <a:blip r:embed="rId2"/>
          <a:stretch/>
        </p:blipFill>
        <p:spPr>
          <a:xfrm>
            <a:off x="762120" y="533520"/>
            <a:ext cx="2771640" cy="2590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work\Desktop\ангелок\image-12-11-14-04-15-8.jpeg"/>
          <p:cNvPicPr/>
          <p:nvPr/>
        </p:nvPicPr>
        <p:blipFill>
          <a:blip r:embed="rId3"/>
          <a:stretch/>
        </p:blipFill>
        <p:spPr>
          <a:xfrm>
            <a:off x="4191120" y="533520"/>
            <a:ext cx="2527200" cy="2620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work\Desktop\ангелок\image-13-11-14-09-15-7.jpeg"/>
          <p:cNvPicPr/>
          <p:nvPr/>
        </p:nvPicPr>
        <p:blipFill>
          <a:blip r:embed="rId4"/>
          <a:stretch/>
        </p:blipFill>
        <p:spPr>
          <a:xfrm>
            <a:off x="5943600" y="3505320"/>
            <a:ext cx="2743200" cy="2701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work\Desktop\ангелок\image-13-11-14-09-15-6.jpeg"/>
          <p:cNvPicPr/>
          <p:nvPr/>
        </p:nvPicPr>
        <p:blipFill>
          <a:blip r:embed="rId5"/>
          <a:stretch/>
        </p:blipFill>
        <p:spPr>
          <a:xfrm>
            <a:off x="2895480" y="358128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393840" y="3886200"/>
            <a:ext cx="206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ложить дет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иутюж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C:\Users\work\Desktop\ангелок\image-12-11-14-04-15-12.jpeg"/>
          <p:cNvPicPr/>
          <p:nvPr/>
        </p:nvPicPr>
        <p:blipFill>
          <a:blip r:embed="rId1"/>
          <a:stretch/>
        </p:blipFill>
        <p:spPr>
          <a:xfrm>
            <a:off x="304920" y="457200"/>
            <a:ext cx="3693960" cy="3019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C:\Users\work\Desktop\ангелок\image-12-11-14-04-15-16.jpeg"/>
          <p:cNvPicPr/>
          <p:nvPr/>
        </p:nvPicPr>
        <p:blipFill>
          <a:blip r:embed="rId2"/>
          <a:stretch/>
        </p:blipFill>
        <p:spPr>
          <a:xfrm>
            <a:off x="2666880" y="2057400"/>
            <a:ext cx="3200400" cy="2933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C:\Users\work\Desktop\ангелок\image-12-11-14-04-15-17.jpeg"/>
          <p:cNvPicPr/>
          <p:nvPr/>
        </p:nvPicPr>
        <p:blipFill>
          <a:blip r:embed="rId3"/>
          <a:stretch/>
        </p:blipFill>
        <p:spPr>
          <a:xfrm>
            <a:off x="5638680" y="3429000"/>
            <a:ext cx="3095640" cy="281952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4648320" y="685800"/>
            <a:ext cx="41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2 слоя нетканого материала сколоть булавками и выкроить крылья без припусков на ш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1371600" y="533412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оложите отделочную строчку по краю крыльев и оси симмет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C:\Users\work\Desktop\ангелок\image-12-11-14-04-16-5.jpeg"/>
          <p:cNvPicPr/>
          <p:nvPr/>
        </p:nvPicPr>
        <p:blipFill>
          <a:blip r:embed="rId1"/>
          <a:stretch/>
        </p:blipFill>
        <p:spPr>
          <a:xfrm>
            <a:off x="990720" y="762120"/>
            <a:ext cx="6796080" cy="327636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990720" y="457200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ыкроить из нетканого материала 2 детали головы без припусков на швы и 1 деталь с припусками на шов  1 см. Приклеить 1 деталь из нетканого материала на картонную дета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work\Desktop\ангелок\image-13-11-14-09-15-2.jpeg"/>
          <p:cNvPicPr/>
          <p:nvPr/>
        </p:nvPicPr>
        <p:blipFill>
          <a:blip r:embed="rId1"/>
          <a:stretch/>
        </p:blipFill>
        <p:spPr>
          <a:xfrm>
            <a:off x="228600" y="380880"/>
            <a:ext cx="3276720" cy="314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work\Desktop\ангелок\image-13-11-14-09-15-3.jpeg"/>
          <p:cNvPicPr/>
          <p:nvPr/>
        </p:nvPicPr>
        <p:blipFill>
          <a:blip r:embed="rId2"/>
          <a:stretch/>
        </p:blipFill>
        <p:spPr>
          <a:xfrm>
            <a:off x="5562720" y="3581280"/>
            <a:ext cx="2958840" cy="304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Users\work\Desktop\ангелок\image-13-11-14-09-15-4.jpeg"/>
          <p:cNvPicPr/>
          <p:nvPr/>
        </p:nvPicPr>
        <p:blipFill>
          <a:blip r:embed="rId3"/>
          <a:stretch/>
        </p:blipFill>
        <p:spPr>
          <a:xfrm>
            <a:off x="3809880" y="380880"/>
            <a:ext cx="2743200" cy="3094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Users\work\Desktop\ангелок\image-13-11-14-09-15-5.jpeg"/>
          <p:cNvPicPr/>
          <p:nvPr/>
        </p:nvPicPr>
        <p:blipFill>
          <a:blip r:embed="rId4"/>
          <a:stretch/>
        </p:blipFill>
        <p:spPr>
          <a:xfrm>
            <a:off x="2514600" y="3657600"/>
            <a:ext cx="2743200" cy="286704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/>
          <p:cNvSpPr/>
          <p:nvPr/>
        </p:nvSpPr>
        <p:spPr>
          <a:xfrm>
            <a:off x="6629400" y="457200"/>
            <a:ext cx="2514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 линии контура стянуть деталь головы с припусками и вложить внутрь клееную деталь. Украшаем голову тесь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457200" y="4114800"/>
            <a:ext cx="1905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ишиваем оставшуюся деталь головы потайными стеж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image-13-11-14-09-20"/>
          <p:cNvPicPr/>
          <p:nvPr/>
        </p:nvPicPr>
        <p:blipFill>
          <a:blip r:embed="rId1"/>
          <a:stretch/>
        </p:blipFill>
        <p:spPr>
          <a:xfrm>
            <a:off x="380880" y="685800"/>
            <a:ext cx="4191120" cy="3079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image-13-11-14-09-57-2"/>
          <p:cNvPicPr/>
          <p:nvPr/>
        </p:nvPicPr>
        <p:blipFill>
          <a:blip r:embed="rId2"/>
          <a:stretch/>
        </p:blipFill>
        <p:spPr>
          <a:xfrm>
            <a:off x="4724280" y="1523880"/>
            <a:ext cx="4081680" cy="426744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914400" y="434340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иклеиваем  дет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клеевым  пистоле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5638680" y="243828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Рисуем глаз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румяним щё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work\Desktop\ангелок\image-13-11-14-09-57-5.jpeg"/>
          <p:cNvPicPr/>
          <p:nvPr/>
        </p:nvPicPr>
        <p:blipFill>
          <a:blip r:embed="rId1"/>
          <a:stretch/>
        </p:blipFill>
        <p:spPr>
          <a:xfrm>
            <a:off x="990720" y="533520"/>
            <a:ext cx="42544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1143000" y="259200"/>
            <a:ext cx="731844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99"/>
                </a:solidFill>
                <a:latin typeface="Times New Roman"/>
              </a:rPr>
              <a:t>Примите поздравленья в Рождество. </a:t>
            </a:r>
            <a:br>
              <a:rPr sz="3000"/>
            </a:br>
            <a:r>
              <a:rPr b="1" i="1" lang="ru-RU" sz="3000" spc="-1" strike="noStrike">
                <a:solidFill>
                  <a:srgbClr val="333399"/>
                </a:solidFill>
                <a:latin typeface="Times New Roman"/>
              </a:rPr>
              <a:t>Пусть в вашей жизни чудо приключится,</a:t>
            </a:r>
            <a:br>
              <a:rPr sz="3000"/>
            </a:br>
            <a:r>
              <a:rPr b="1" i="1" lang="ru-RU" sz="3000" spc="-1" strike="noStrike">
                <a:solidFill>
                  <a:srgbClr val="333399"/>
                </a:solidFill>
                <a:latin typeface="Times New Roman"/>
              </a:rPr>
              <a:t>Пусть радость, вдохновенье и добро</a:t>
            </a:r>
            <a:br>
              <a:rPr sz="3000"/>
            </a:br>
            <a:r>
              <a:rPr b="1" i="1" lang="ru-RU" sz="3000" spc="-1" strike="noStrike">
                <a:solidFill>
                  <a:srgbClr val="333399"/>
                </a:solidFill>
                <a:latin typeface="Times New Roman"/>
              </a:rPr>
              <a:t>Сумеют в вашем доме поселить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99"/>
                </a:solidFill>
                <a:latin typeface="Times New Roman"/>
              </a:rPr>
              <a:t>Пускай надежда, вера, теплота</a:t>
            </a:r>
            <a:br>
              <a:rPr sz="3000"/>
            </a:br>
            <a:r>
              <a:rPr b="1" i="1" lang="ru-RU" sz="3000" spc="-1" strike="noStrike">
                <a:solidFill>
                  <a:srgbClr val="333399"/>
                </a:solidFill>
                <a:latin typeface="Times New Roman"/>
              </a:rPr>
              <a:t>Вас в жизни ни на миг не покидают,</a:t>
            </a:r>
            <a:br>
              <a:rPr sz="3000"/>
            </a:br>
            <a:r>
              <a:rPr b="1" i="1" lang="ru-RU" sz="3000" spc="-1" strike="noStrike">
                <a:solidFill>
                  <a:srgbClr val="333399"/>
                </a:solidFill>
                <a:latin typeface="Times New Roman"/>
              </a:rPr>
              <a:t>Пускай любая сбудется мечт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99"/>
                </a:solidFill>
                <a:latin typeface="Times New Roman"/>
              </a:rPr>
              <a:t>Я искренне вам лучшего желаю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chitalnya.ru/work/288567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99"/>
                </a:solidFill>
                <a:latin typeface="Times New Roman"/>
              </a:rPr>
              <a:t>это подарок от всего сердц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762120" y="121932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сточники информации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stranamasterov.ru/node/29511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r7K-n4fOUy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babairisha.ru/angel-moj-pojdyom-so-mnoj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youtube.com/watch?v=Ss_XgGjaG_I&amp;list=UUdrhYvlaGAAYCkVRXeeVsD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stranamasterov.ru/node/68971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kafetop.ru/news/top_16_interesnykh_faktov_o_rozhdestve/2014-07-08-2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schebetkov.ru/publications/143-traditsii-prazdnovaniya-rozhdestva-v-rossii.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усские обряды и традиции.  Народная кукла И. Н. Котова, А. С. Котова  Санкт-Петербург «Паритет»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Щебетков Сергй Александрович, депутат городского совета.  Публикации"/>
          <p:cNvPicPr/>
          <p:nvPr/>
        </p:nvPicPr>
        <p:blipFill>
          <a:blip r:embed="rId1"/>
          <a:stretch/>
        </p:blipFill>
        <p:spPr>
          <a:xfrm>
            <a:off x="1295280" y="167652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0" y="4608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Рождественская ночь волшеб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эту ночь, когда зажигается первая звез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 землю спускаются ангелы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Интересные факты о рождестве"/>
          <p:cNvPicPr/>
          <p:nvPr/>
        </p:nvPicPr>
        <p:blipFill>
          <a:blip r:embed="rId1"/>
          <a:stretch/>
        </p:blipFill>
        <p:spPr>
          <a:xfrm>
            <a:off x="1828800" y="228600"/>
            <a:ext cx="5334120" cy="4267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304920" y="4664160"/>
            <a:ext cx="853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Маленькие крылатые ангелочки оставляют под ёлкой волшебные подарки, их нельзя увидеть, но можно почувств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едь это то, чего в этом доме не хватает: чуть-чуть доброты, немного счастья, горсть здоровья, кусочек везения, капелька радости или толика уда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838080" y="45720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кану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овогодних праздников дом украшали самодельными игрушками из соломы, бумаги, орехов, яичных скорлупок, яблок и обрезков тка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work\Desktop\мк\0_dd428_7fc93595_L.jpg"/>
          <p:cNvPicPr/>
          <p:nvPr/>
        </p:nvPicPr>
        <p:blipFill>
          <a:blip r:embed="rId1"/>
          <a:stretch/>
        </p:blipFill>
        <p:spPr>
          <a:xfrm>
            <a:off x="1523880" y="1752480"/>
            <a:ext cx="6400800" cy="476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work\Desktop\мк\8b1fb16fd4fb4a5ff4d40a53b80e3e22_500_0_0.jpg"/>
          <p:cNvPicPr/>
          <p:nvPr/>
        </p:nvPicPr>
        <p:blipFill>
          <a:blip r:embed="rId2"/>
          <a:stretch/>
        </p:blipFill>
        <p:spPr>
          <a:xfrm>
            <a:off x="990720" y="1752480"/>
            <a:ext cx="7092720" cy="4724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work\Desktop\мк\ny_119.jpg"/>
          <p:cNvPicPr/>
          <p:nvPr/>
        </p:nvPicPr>
        <p:blipFill>
          <a:blip r:embed="rId3"/>
          <a:stretch/>
        </p:blipFill>
        <p:spPr>
          <a:xfrm>
            <a:off x="990720" y="1752480"/>
            <a:ext cx="7278480" cy="4876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Users\work\Desktop\мк\igrushki1.jpg"/>
          <p:cNvPicPr/>
          <p:nvPr/>
        </p:nvPicPr>
        <p:blipFill>
          <a:blip r:embed="rId4"/>
          <a:stretch/>
        </p:blipFill>
        <p:spPr>
          <a:xfrm>
            <a:off x="990720" y="1752480"/>
            <a:ext cx="7323120" cy="487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Users\work\Desktop\мк\93270715_svoimi_01.jpg"/>
          <p:cNvPicPr/>
          <p:nvPr/>
        </p:nvPicPr>
        <p:blipFill>
          <a:blip r:embed="rId5"/>
          <a:stretch/>
        </p:blipFill>
        <p:spPr>
          <a:xfrm>
            <a:off x="838080" y="1752480"/>
            <a:ext cx="7526520" cy="487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914400" y="533520"/>
            <a:ext cx="731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Одной из самых ярких праздничных игрушек является ангел. Ангелочков делали из соломы, ткани или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х дарили, ими украшали д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work\Desktop\мк\e8009c71fc11.jpg"/>
          <p:cNvPicPr/>
          <p:nvPr/>
        </p:nvPicPr>
        <p:blipFill>
          <a:blip r:embed="rId2"/>
          <a:stretch/>
        </p:blipFill>
        <p:spPr>
          <a:xfrm>
            <a:off x="1295280" y="1905120"/>
            <a:ext cx="3276720" cy="447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work\Desktop\мк\рождественский ангел.jpg"/>
          <p:cNvPicPr/>
          <p:nvPr/>
        </p:nvPicPr>
        <p:blipFill>
          <a:blip r:embed="rId3"/>
          <a:stretch/>
        </p:blipFill>
        <p:spPr>
          <a:xfrm>
            <a:off x="4648320" y="1905120"/>
            <a:ext cx="343188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Users\work\Desktop\мк\81403978_large_2827567_PC249325.JPG"/>
          <p:cNvPicPr/>
          <p:nvPr/>
        </p:nvPicPr>
        <p:blipFill>
          <a:blip r:embed="rId4"/>
          <a:stretch/>
        </p:blipFill>
        <p:spPr>
          <a:xfrm>
            <a:off x="4648320" y="1828800"/>
            <a:ext cx="3446280" cy="463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Users\work\Desktop\мк\53828525.jpg"/>
          <p:cNvPicPr/>
          <p:nvPr/>
        </p:nvPicPr>
        <p:blipFill>
          <a:blip r:embed="rId5"/>
          <a:stretch/>
        </p:blipFill>
        <p:spPr>
          <a:xfrm>
            <a:off x="1219320" y="1828800"/>
            <a:ext cx="3502080" cy="464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C:\Users\work\Desktop\мк\angel-10.jpg"/>
          <p:cNvPicPr/>
          <p:nvPr/>
        </p:nvPicPr>
        <p:blipFill>
          <a:blip r:embed="rId6"/>
          <a:srcRect l="0" t="6556" r="0" b="13115"/>
          <a:stretch/>
        </p:blipFill>
        <p:spPr>
          <a:xfrm>
            <a:off x="1219320" y="1523880"/>
            <a:ext cx="68580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4572000" y="1676520"/>
            <a:ext cx="3809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е успеем оглянуться, как уже нужно будет готовиться к встрече Нового года и Рождества, украшать интерьер и готовить подарки для дорогих сердцу лю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едлагаю вам сшить своими руками вот такого симпатичного анг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F:\МК АНГЕЛ  МАСТЕРСКИЕ\image-14-11-14-04-08-1.jpeg"/>
          <p:cNvPicPr/>
          <p:nvPr/>
        </p:nvPicPr>
        <p:blipFill>
          <a:blip r:embed="rId1"/>
          <a:stretch/>
        </p:blipFill>
        <p:spPr>
          <a:xfrm>
            <a:off x="762120" y="1143000"/>
            <a:ext cx="3244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457200" y="623160"/>
            <a:ext cx="6583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Для изготовления сувенира вам понадоб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1.Ткани двух расцветок 15x15, нетканое полотно или фетр белого цвета, картон, тесьма, декоративные укра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2. Швейная маш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3. Швейные нитки, иголки, ножн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4. Линейка, каранда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5. Клеевой писто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6. Утю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:\Users\work\Desktop\ангелок\image-13-11-14-09-57.jpeg"/>
          <p:cNvPicPr/>
          <p:nvPr/>
        </p:nvPicPr>
        <p:blipFill>
          <a:blip r:embed="rId1"/>
          <a:stretch/>
        </p:blipFill>
        <p:spPr>
          <a:xfrm>
            <a:off x="3200400" y="3124080"/>
            <a:ext cx="556272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work\Desktop\ангелок\image-13-11-14-09-14.jpeg"/>
          <p:cNvPicPr/>
          <p:nvPr/>
        </p:nvPicPr>
        <p:blipFill>
          <a:blip r:embed="rId2"/>
          <a:stretch/>
        </p:blipFill>
        <p:spPr>
          <a:xfrm>
            <a:off x="762120" y="9144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762120" y="4419720"/>
            <a:ext cx="35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колоть два лоскута ткани лицевой стороной внутрь, обвести деталь по конту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Users\work\Desktop\ангелок\image-13-11-14-09-14-2.jpeg"/>
          <p:cNvPicPr/>
          <p:nvPr/>
        </p:nvPicPr>
        <p:blipFill>
          <a:blip r:embed="rId3"/>
          <a:stretch/>
        </p:blipFill>
        <p:spPr>
          <a:xfrm>
            <a:off x="4724280" y="990720"/>
            <a:ext cx="3378240" cy="3314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4724280" y="4343400"/>
            <a:ext cx="4038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оложить машинную строчку, не оставляя зазоров. Вырезать деталь, оставляя припуски 3-4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work\Desktop\ангелок\image-13-11-14-09-15-1.jpeg"/>
          <p:cNvPicPr/>
          <p:nvPr/>
        </p:nvPicPr>
        <p:blipFill>
          <a:blip r:embed="rId2"/>
          <a:stretch/>
        </p:blipFill>
        <p:spPr>
          <a:xfrm>
            <a:off x="5029200" y="825480"/>
            <a:ext cx="3408480" cy="35942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1143000" y="502920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делать надрез на одной из сторон на расстоянии 2-3 см от строчки и вывернуть деталь на лицевую стор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:\Users\work\Desktop\ангелок\image-13-11-14-09-14-5.jpeg"/>
          <p:cNvPicPr/>
          <p:nvPr/>
        </p:nvPicPr>
        <p:blipFill>
          <a:blip r:embed="rId3"/>
          <a:stretch/>
        </p:blipFill>
        <p:spPr>
          <a:xfrm>
            <a:off x="423720" y="914400"/>
            <a:ext cx="39960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16:22:21Z</dcterms:created>
  <dc:creator>Учитель</dc:creator>
  <dc:description/>
  <dc:language>en-US</dc:language>
  <cp:lastModifiedBy>work</cp:lastModifiedBy>
  <dcterms:modified xsi:type="dcterms:W3CDTF">2014-11-20T18:36:2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