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AC2-F884-42D4-970C-F86FCE41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3F9-662F-4DA3-9425-A55BA76C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0E8-B885-4051-BE4D-75AE50D9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246-6C4A-40F0-B11C-D82C1570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F2FA-B78F-477B-86F9-21EC8C77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363D-2282-4E7A-9A32-02EB9008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8BC7-269C-4C03-83CD-1F45ED73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DECE-62DC-4CFC-9ADF-881B1079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5E1F-4621-4C01-89FE-0F7B2351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EB5B-8464-445F-B317-B40C3161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05E1-5616-45D7-9A5D-2B3D0FC0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9C5-695F-4441-B225-4FB156D0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E896-749D-4464-ACCA-6E1CDAC7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4291-1423-41D4-9B31-0D8C95BA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45FD-B4D7-4817-A4F3-77ED6072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C192-92AE-493D-A5B7-5D02C712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C18E-5B5A-47E9-8FCF-D33225C4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4A58F-6811-431A-B3F3-776BC553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D809-6316-401C-BEB6-56C8CB0E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E3CE3-463F-4A3C-8630-AEBB4F45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CC351-6FB6-41D4-99B6-CA8036B2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2B080-C76F-44B0-AC34-1C4BC315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DF8-DBF9-4C03-95F9-0F59D7A9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7D104-79FD-4B3A-AFC7-94713757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8C7C-653D-43A5-A7BD-F3C7E90B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BE310-3794-445D-83E0-81DD4DC3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89E16-7FE5-4722-9AB6-E002CB2A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1A28D-22B6-4D3A-8EC3-D657C073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35B8C-79A3-4943-A155-1DA5470D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F457-0F8E-4E4B-9036-04E685ED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A17B7C-01D5-4D4F-8C6B-170F1675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35AE21-B11A-4E23-9C42-80F770B3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B6310D-C62D-40DF-BE62-EFB3D7E1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C6F-091D-42F2-B156-09C30EE5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74CE4-08DB-4322-8A38-9EBCD47C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99EBB-23AE-4D92-9AFE-AFCA95E8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3940D2-6866-41EE-8952-4807246C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F0439D-08FF-4F83-800D-0E19DFA3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DFE05B-327D-412A-AAF8-12DBB673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75FB88-9F91-44C4-A5EB-E1EF7D0A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D928BD-520E-4E0C-B671-1B857720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78DEB2-1FB2-4004-8A87-80F89837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7604E-127D-45A4-B58C-AD8D0350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B930E2-40B3-4A59-85CB-499BDFEE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24E-8C03-4D6B-B9AA-CE7B03A5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E158AA-D540-4EEC-8F5B-57932DF6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2A3882-DB03-433A-AF4B-B9159D40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7C33B5-02D6-4584-963B-543E392F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54CB44-C6A8-4889-AC63-BDF94265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F50CE8-663B-44B3-A96D-186C7DA3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2AE525-5A8F-4F0D-B48F-C1CC9FD1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0591C8-7A22-47BD-BA4A-552D6319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23A4E8-54C9-4B01-B9EE-01215928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F62943-8045-4E94-BDD0-4390943F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E3E912-54EF-401D-B39E-297C6010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D3B-2FDE-4319-9420-79FC0CE7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3FE7AE-BD58-4901-B757-92055A81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F5EA7-EB94-4227-BF13-B99FC774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CE644-C023-47A2-AB95-DA0E255D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49525-F705-43B3-BACB-0F1C03A5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95D38-2FE5-4EBA-AB57-FCF8ADE0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A741E-A377-437F-8C35-65DE3D14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7641B-EA62-46FE-918C-78AE805E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9930C-1E02-414A-AFFD-DFBBBF49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27D29-D08B-4BFE-8510-ABE124A4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4DF5E-328F-4D13-BE9C-8068BA10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E8F-A176-4CAD-964F-E3C645CD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87212-2D4E-4C3B-848C-5AC210C9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81C8C-D602-4E54-B2B0-C9B01232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B3C25-7B77-40B2-AF7C-4693AFE1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410023-B1B7-4263-BD65-0B9C83A1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185DBE-298E-45B5-B2BB-33B47C36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64FAFD-458E-42A7-86D6-FD7083FF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446588-CFF8-40D4-A5E0-A7F0659B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952BF3-1402-4D1D-9C41-AB5758D4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7A258C-2182-4CC2-97C0-E956FBDD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AD3C37-8907-4490-9C42-F4B608DF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454-DBBE-4BDB-9742-D9092F77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89008B-3963-480A-89EE-F6E70C7E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2B8559-5815-43BA-8444-79A337C8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D2D498-814D-4AE1-BC9B-FBDDCF3E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BD61DA-8AA9-42A6-B0B4-9D786066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C27082-A78B-43D8-9ACB-230771D3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6F1-F331-4E06-8011-2206AA8F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b3b3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C7A5-93F6-420C-8BC5-8705980C0522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9C28-92F3-404A-8073-79AF09A635FD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CEDC-2E86-46B4-BF4A-AF36BB84A95C}" type="slidenum"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E642-890B-4E4D-91C3-AF4E7A8D4C5C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12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3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9277-B9DC-4B29-9CB9-0846D511D284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dt" idx="14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5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dt" idx="1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ftr" idx="17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C216-B374-425E-A66F-C5FB6530A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ldNum" idx="19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251B-437E-43E8-81D9-9119ED4DC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20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dt" idx="2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"/>
          <p:cNvSpPr/>
          <p:nvPr/>
        </p:nvSpPr>
        <p:spPr>
          <a:xfrm>
            <a:off x="89596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Содержимое 6" descr="header.jpg"/>
          <p:cNvPicPr/>
          <p:nvPr/>
        </p:nvPicPr>
        <p:blipFill>
          <a:blip r:embed="rId1"/>
          <a:stretch/>
        </p:blipFill>
        <p:spPr>
          <a:xfrm>
            <a:off x="0" y="0"/>
            <a:ext cx="9145440" cy="806400"/>
          </a:xfrm>
          <a:prstGeom prst="rect">
            <a:avLst/>
          </a:prstGeom>
          <a:ln w="0">
            <a:noFill/>
          </a:ln>
        </p:spPr>
      </p:pic>
      <p:pic>
        <p:nvPicPr>
          <p:cNvPr id="349" name="Содержимое 6" descr="slava-s.png"/>
          <p:cNvPicPr/>
          <p:nvPr/>
        </p:nvPicPr>
        <p:blipFill>
          <a:blip r:embed="rId2"/>
          <a:stretch/>
        </p:blipFill>
        <p:spPr>
          <a:xfrm>
            <a:off x="7020000" y="0"/>
            <a:ext cx="1855800" cy="14446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769400" y="907920"/>
            <a:ext cx="47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tehnologi.su/index/konkurs_1812/0-5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95640" y="2708280"/>
            <a:ext cx="3313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минац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«Малые скульптурные формы, выполненные из различных материал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581360"/>
            <a:ext cx="50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ыполнила: ученица 4А класса Едзаева Анф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уководитель: учитель технологии высшей категории Носкова Светлана Юрье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8360" y="5805360"/>
            <a:ext cx="539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ГБОУ ООШ № 21 г. Новокуйбышевск Самарской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5796000" y="2421000"/>
            <a:ext cx="2795400" cy="3889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900000" y="1628640"/>
            <a:ext cx="7417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фицер драгунского полк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755640" y="2637000"/>
            <a:ext cx="1098720" cy="158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34578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бумаги сделать флаг, раскрасить. Чтобы сделать шпагу, надо зубочистку покрасить в черный цв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2389320" cy="424980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411280" y="2852640"/>
            <a:ext cx="2376720" cy="3168720"/>
          </a:xfrm>
          <a:prstGeom prst="rect">
            <a:avLst/>
          </a:prstGeom>
          <a:ln w="57240">
            <a:solidFill>
              <a:srgbClr val="00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3960720" cy="32781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908000" y="1413000"/>
            <a:ext cx="680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енную заготовку аккуратно промазать клеем «ПВА» с обратной стороны и приклеить на заранее подготовленную осно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чего изделие следует оформить в раму и повесить на ст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771640" y="692280"/>
            <a:ext cx="426744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17880" y="225000"/>
            <a:ext cx="686736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Информационные ресурсы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1916280"/>
            <a:ext cx="568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79640" y="1393560"/>
            <a:ext cx="648000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altdoughitems.blogspot.ru/2011/04/blog-post_11.html История возникновения солёного т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academy.cross-kpk.ru/bank/6/002/solenoe_testo.htm Технология художественной обработки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irsovetov.ru/a/housing/make-myself/salt-pastry.html Поделки из соленого т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tworchestwo21.blogspot.ru/ Блог Светланы Носк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4360" y="549000"/>
            <a:ext cx="629136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нен-юнкер – от нем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hne –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мя и юнкер) – в драгунских полках русской армии в 1796-1859 годах звание унтер-офицера из дворян, рангом выше юнке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348000" y="1557360"/>
            <a:ext cx="3095640" cy="446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195640" y="1412640"/>
            <a:ext cx="64800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 marL="17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цепт солёного тест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ука пшеничная - 2 стакана (200 г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ль мелкая – 1 стакан (200 г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ода – 3/4 стакана (125 мл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асло растительное (можно добавить в тесто обойный клей или клей ПВА) – 1 чайная ложк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лиэтиленовый пакет для хранения те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635280" y="3645000"/>
            <a:ext cx="33130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410920" y="1412640"/>
            <a:ext cx="56898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атериалы, инструменты, приспособ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209320" y="1927080"/>
            <a:ext cx="33116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щечка для раскатки тест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аночка с водой для смачивания пальцев и кисточ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шаблон-заготов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кал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ж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источ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ас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ртон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рандаш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убочист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2857680" cy="13428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6156360" y="386064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050920" y="134100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широкую миску насыпать соль, добавить воду, растительное масло (обойный клей или клей ПВА), затем — муку. Все хорошо перемешать до получения однородной массы. Приготовленное тесто не должно прилипать к рукам или крошиться. Тесто должно получиться эластичным и достаточно крутым. Положить его в полиэтиленовый пакет, чтобы оно не высыха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843280" y="310500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979280" y="155700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катать тест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езать фигуру по шаблону-заготов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4392720" cy="340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050560" y="1628280"/>
            <a:ext cx="619308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печь в духовке или высушить на воздух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059280" y="2492280"/>
            <a:ext cx="3997080" cy="3187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979640" y="1700280"/>
            <a:ext cx="54720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метить рисунок простым карандаш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4753080" cy="3563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195640" y="1484280"/>
            <a:ext cx="61214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хшую заготовку раскрасить гуашевой краско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5114880" cy="3838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29T17:26:28Z</dcterms:modified>
  <cp:revision>106</cp:revision>
  <dc:subject/>
  <dc:title>Внеурочная деятельность школьников</dc:title>
</cp:coreProperties>
</file>