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C8AD-00C4-4531-B73E-1EC99523B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91DB5-453E-422B-8789-381DC715A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70A3-6AB6-4E6C-A590-741675D1F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8F414-C257-401F-B745-92BB78EF8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DEEB-19E8-49B1-AD57-8F93620D0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E1487-2A56-4FB2-8DF9-BDEAAE84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CFD2C-558B-4613-828C-F500E058C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23348-E8A7-4B5F-9BB2-D3AB5068D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BBAFD-80E1-45A7-9045-0BE55407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0F2D-6ADB-4C93-ACE3-5E9FD9617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E6F1-3A9D-4700-8B62-53AC39C19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DFB0-B38F-4C06-935F-2653520B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A3339-EF32-49B7-928A-C3025850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BB1B-7FAD-49A7-AAAE-E7DA092D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0507-707C-4DCE-B025-E44B7699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BC8FD-0686-4006-849C-061450E3F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F82B-FD12-45C1-B7EC-390C55D02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464E7-34C4-4269-9DF2-A4FC266FC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EE91B9-7867-4E4A-9DA0-7A5E36B3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557F7-7159-44C6-8CE7-23FE58F2E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B06A2-12BB-4549-9DF0-FC341C63F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86EE2C-C936-4F95-9CAB-ED209299F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76E1-3F2C-435B-9FF9-D8CDD7EF9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AB914-78BA-4DEB-A2E9-C0DFD380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17F2-E1CB-46A8-A689-7B14DF078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1041D-3EEA-4C50-AB14-336CA70CB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800DE-ACFD-4082-9421-B27CF17FC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17DA-F1FF-4982-8CF8-5A53CF71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CB10D-D94A-4150-A28C-02D893034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38BC7-00C1-4D0B-AD01-76E3EA3164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7DBD092-406A-4D82-BA92-287649AFF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7D37565-8C21-4AFA-A50B-038EDA83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B8E1FB-65A1-4D0C-8ABE-61A9C5961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7C06-E8D9-407E-B372-F0F1CEC0D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433E74-4BB4-41EE-8269-25A85F9C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92BAB9E-EC83-4B65-917A-266B1F98D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C709A2-822D-43DB-B1B6-B8CBA3A76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857300F-EF41-4C57-9EF3-2D0813F2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3EA37A1-1CA7-4584-8BB4-EC659122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8A310-5DC9-44FD-AE04-8E02EB9C6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6137B8E-6474-440E-A10D-38136947E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16B0829-A549-470D-8741-AC17DA1F8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DEC1B2D-50B6-4E14-A046-14087B40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64BAE8-5813-4EA2-A90B-14BC8C222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E2751-EC07-4840-8967-AE7E9C018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AB6CDE3-2FBC-4DF7-B776-7A8F7EE80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882ABD3-F53B-40E0-91DC-59769EA4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1222BA-75AD-4AAF-81AD-F9362EEC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AF3312-BBC9-4989-B9C8-519D90BBE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72EB29-DE82-4C73-9A9C-736CEFFD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850FFB-32F1-4558-A9A4-86B62C3DC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867A314-6EAA-4B40-80DF-BE8E135EF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9F0503-BD62-46F6-9C58-76DAD040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A7573D2-8D5B-4986-9677-E33C540F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CAADC2F-ECDE-47FC-AAAE-E34EAA794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CCE3-FB2D-4FD1-AC87-738799EA1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0312169-5C97-4235-9675-FA6189795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F1CB4A-4A01-415C-9240-A6DBB888F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CA42A-DBD7-4867-AF89-ED57125EF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BE3A3B-E78B-4A23-BD35-9C55F080C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FC073-686E-48C9-BC3C-75C57DD83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10AAC-4A73-435A-B610-037A0CCA6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DA4D17-5F0E-48F7-960B-D76933C4B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A37CC9-3A91-46AA-9649-5FAD49C8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BE277A-2B7C-4DA0-AF6B-5D582D47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A608F-4156-4C22-8FFF-B25B0307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ED87-295E-4BEA-8D90-F3F2C54E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E6EA39-5E28-454C-8989-F4C631CA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E68BD1-160C-4843-BD9D-D18A7F14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4F377A-4DF9-43D2-97D6-35537634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26DF2CE-4146-4BB9-85F0-28E032AB3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592AED-63D7-4211-9F4A-4B1C2AD21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6540AF3-C815-4F8C-B3B3-8F1157EF8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C7E8A6-D7FD-46EC-8DCC-4F0D4EC1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796347-34D1-4118-88DE-C41237BCF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2117880" y="-360"/>
            <a:ext cx="6867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B819555-50EB-4154-A4BC-E81C85B90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06804B2-A0F4-40E2-BE83-9CEEB19C4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4AAC-688C-449E-97A8-C739A923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A27B0E-F424-4D3D-B46E-57CDFF6E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F1FFFC2-8C08-4E5D-A9E6-61930632C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97596F1-D124-41B0-9838-33547D1FD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681160" y="409572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16B579C-BCD6-4D74-A59D-755CCCF83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50036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791400" y="192708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220932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450036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791400" y="4095720"/>
            <a:ext cx="218160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1045A32-2F3B-4417-BBE9-1287DFA0F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0932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681160" y="1927080"/>
            <a:ext cx="330624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09320" y="4095720"/>
            <a:ext cx="6775560" cy="19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80E6-FAA1-4CEF-9986-CE998FF4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3b3b3b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455C6-15AC-404D-9492-EFFB3E5C1D40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B865-C226-4BFF-A1E3-C0F24B67313C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050B0-619B-4E5C-B816-AE0670974417}" type="slidenum"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sldNum" idx="10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78751-DBA3-41B3-BD1E-16427295D3E5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ftr" idx="12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ea0b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789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6ea0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78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d89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7890"/>
                </a:solidFill>
                <a:latin typeface="Century Gothic"/>
              </a:rPr>
              <a:t>Click to edit the title text format</a:t>
            </a:r>
            <a:endParaRPr b="0" lang="en-US" sz="3300" spc="-1" strike="noStrike">
              <a:solidFill>
                <a:srgbClr val="7b7890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6ea0b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1" marL="547560" indent="-272880">
              <a:spcBef>
                <a:spcPts val="675"/>
              </a:spcBef>
              <a:buClr>
                <a:srgbClr val="ccaf0a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2" marL="822240" indent="-228600">
              <a:spcBef>
                <a:spcPts val="675"/>
              </a:spcBef>
              <a:buClr>
                <a:srgbClr val="8d89a4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3" marL="1096920" indent="-228600">
              <a:spcBef>
                <a:spcPts val="675"/>
              </a:spcBef>
              <a:buClr>
                <a:srgbClr val="74856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4" marL="1371600" indent="-228600">
              <a:spcBef>
                <a:spcPts val="675"/>
              </a:spcBef>
              <a:buClr>
                <a:srgbClr val="9e92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Num" idx="13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789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577F9-EB63-40DB-AFA4-727536B207D5}" type="slidenum">
              <a:rPr b="0" lang="en-US" sz="1600" spc="-1" strike="noStrike">
                <a:solidFill>
                  <a:srgbClr val="7b7890"/>
                </a:solidFill>
                <a:latin typeface="Century 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dt" idx="14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15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dt" idx="16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ftr" idx="17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F5E02-ABB1-4275-8387-6EE6016C1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0099cc"/>
              </a:gs>
              <a:gs pos="100000">
                <a:srgbClr val="99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ldNum" idx="19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A9AA9-B52D-426D-B1F0-1E1D5A5461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ftr" idx="20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dt" idx="21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6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6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6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6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6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6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1"/>
          <p:cNvSpPr/>
          <p:nvPr/>
        </p:nvSpPr>
        <p:spPr>
          <a:xfrm>
            <a:off x="895968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Содержимое 6" descr="header.jpg"/>
          <p:cNvPicPr/>
          <p:nvPr/>
        </p:nvPicPr>
        <p:blipFill>
          <a:blip r:embed="rId1"/>
          <a:stretch/>
        </p:blipFill>
        <p:spPr>
          <a:xfrm>
            <a:off x="0" y="0"/>
            <a:ext cx="9145440" cy="806400"/>
          </a:xfrm>
          <a:prstGeom prst="rect">
            <a:avLst/>
          </a:prstGeom>
          <a:ln w="0">
            <a:noFill/>
          </a:ln>
        </p:spPr>
      </p:pic>
      <p:pic>
        <p:nvPicPr>
          <p:cNvPr id="349" name="Содержимое 6" descr="slava-s.png"/>
          <p:cNvPicPr/>
          <p:nvPr/>
        </p:nvPicPr>
        <p:blipFill>
          <a:blip r:embed="rId2"/>
          <a:stretch/>
        </p:blipFill>
        <p:spPr>
          <a:xfrm>
            <a:off x="7020000" y="0"/>
            <a:ext cx="1855800" cy="1444680"/>
          </a:xfrm>
          <a:prstGeom prst="rect">
            <a:avLst/>
          </a:prstGeom>
          <a:ln w="0">
            <a:noFill/>
          </a:ln>
        </p:spPr>
      </p:pic>
      <p:sp>
        <p:nvSpPr>
          <p:cNvPr id="350" name=""/>
          <p:cNvSpPr/>
          <p:nvPr/>
        </p:nvSpPr>
        <p:spPr>
          <a:xfrm>
            <a:off x="1769400" y="907920"/>
            <a:ext cx="473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http://tehnologi.su/index/konkurs_1812/0-5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2708280"/>
            <a:ext cx="3313080" cy="1067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оминация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«Малые скульптурные формы, выполненные из различных материалов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4581360"/>
            <a:ext cx="5076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Выполнила: ученица 4А класса Едзаева Анфи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уководитель: учитель технологии высшей категории Носкова Светлана Юрьевн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68360" y="5805360"/>
            <a:ext cx="5398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ГБОУ ООШ № 21 г. Новокуйбышевск Самарской обл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5796000" y="2421000"/>
            <a:ext cx="2795400" cy="388944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900000" y="1628640"/>
            <a:ext cx="7417080" cy="524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фицер драгунского полка</a:t>
            </a:r>
            <a:endParaRPr b="0" lang="en-US" sz="18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4"/>
          <a:stretch/>
        </p:blipFill>
        <p:spPr>
          <a:xfrm>
            <a:off x="755640" y="2637000"/>
            <a:ext cx="1098720" cy="158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050560" y="1699920"/>
            <a:ext cx="345780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 бумаги сделать флаг, раскрасить. Чтобы сделать шпагу, надо зубочистку покрасить в черный цвет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389320" cy="4249800"/>
          </a:xfrm>
          <a:prstGeom prst="rect">
            <a:avLst/>
          </a:prstGeom>
          <a:ln w="9360">
            <a:solidFill>
              <a:srgbClr val="00ffcc"/>
            </a:solidFill>
            <a:miter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2411280" y="2852640"/>
            <a:ext cx="2376720" cy="3168720"/>
          </a:xfrm>
          <a:prstGeom prst="rect">
            <a:avLst/>
          </a:prstGeom>
          <a:ln w="57240">
            <a:solidFill>
              <a:srgbClr val="0099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2987640" y="2924280"/>
            <a:ext cx="3960720" cy="327816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1908000" y="1413000"/>
            <a:ext cx="680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лученную заготовку аккуратно промазать клеем «ПВА» с обратной стороны и приклеить на заранее подготовленную основ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ле чего изделие следует оформить в раму и повесить на стен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2771640" y="692280"/>
            <a:ext cx="426744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17880" y="225000"/>
            <a:ext cx="6867360" cy="8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Verdana"/>
              </a:rPr>
              <a:t>Информационные ресурсы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835280" y="1916280"/>
            <a:ext cx="5689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979640" y="1393560"/>
            <a:ext cx="6480000" cy="36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saltdoughitems.blogspot.ru/2011/04/blog-post_11.html История возникновения солёного тес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academy.cross-kpk.ru/bank/6/002/solenoe_testo.htm Технология художественной обработки 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mirsovetov.ru/a/housing/make-myself/salt-pastry.html Поделки из соленого тес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tworchestwo21.blogspot.ru/ Блог Светланы Носк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484360" y="549000"/>
            <a:ext cx="629136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анен-юнкер – от нем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hne –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намя и юнкер) – в драгунских полках русской армии в 1796-1859 годах звание унтер-офицера из дворян, рангом выше юнкера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348000" y="1557360"/>
            <a:ext cx="3095640" cy="446400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195640" y="1412640"/>
            <a:ext cx="6480000" cy="93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0000"/>
          </a:bodyPr>
          <a:p>
            <a:pPr marL="1713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Рецепт солёного теста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ука пшеничная - 2 стакана (200 г)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оль мелкая – 1 стакан (200 г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ода – 3/4 стакана (125 мл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сло растительное (можно добавить в тесто обойный клей или клей ПВА) – 1 чайная ложка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олиэтиленовый пакет для хранения теста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3635280" y="3645000"/>
            <a:ext cx="3313080" cy="24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410920" y="1412640"/>
            <a:ext cx="5689800" cy="43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Материалы, инструменты, приспособлени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2209320" y="1927080"/>
            <a:ext cx="331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дощечка для раскатки теста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баночка с водой для смачивания пальцев и кисточ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шаблон-заготов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скал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нож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источка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раски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тон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карандаш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зубочистк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076720" y="2781360"/>
            <a:ext cx="2857680" cy="13428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6156360" y="3860640"/>
            <a:ext cx="21430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050920" y="1341000"/>
            <a:ext cx="6408720" cy="215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В широкую миску насыпать соль, добавить воду, растительное масло (обойный клей или клей ПВА), затем — муку. Все хорошо перемешать до получения однородной массы. Приготовленное тесто не должно прилипать к рукам или крошиться. Тесто должно получиться эластичным и достаточно крутым. Положить его в полиэтиленовый пакет, чтобы оно не высыхало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2843280" y="3105000"/>
            <a:ext cx="4105080" cy="307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979280" y="1557000"/>
            <a:ext cx="5977080" cy="86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скатать тесто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резать фигуру по шаблону-заготовке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2843280" y="2492280"/>
            <a:ext cx="4392720" cy="340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2050560" y="1628280"/>
            <a:ext cx="6193080" cy="5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ечь в духовке или высушить на воздух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3059280" y="2492280"/>
            <a:ext cx="3997080" cy="31878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79640" y="1700280"/>
            <a:ext cx="547200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метить рисунок простым карандашом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" descr=""/>
          <p:cNvPicPr/>
          <p:nvPr/>
        </p:nvPicPr>
        <p:blipFill>
          <a:blip r:embed="rId1"/>
          <a:stretch/>
        </p:blipFill>
        <p:spPr>
          <a:xfrm>
            <a:off x="2268360" y="2276640"/>
            <a:ext cx="4753080" cy="35636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409840" y="318600"/>
            <a:ext cx="64072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хнология изгото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2195640" y="1484280"/>
            <a:ext cx="6121440" cy="43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сохшую заготовку раскрасить гуашевой краской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2484360" y="2133720"/>
            <a:ext cx="5114880" cy="38383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2-11-29T17:26:28Z</dcterms:modified>
  <cp:revision>106</cp:revision>
  <dc:subject/>
  <dc:title>Внеурочная деятельность школьников</dc:title>
</cp:coreProperties>
</file>