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F49-D22D-43D8-9185-40AE2D7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D6A-2173-49F6-BF6C-997A63D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6B3-E935-46C1-A826-F30F865C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430-ED27-4550-AEE1-0B7A8B6A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674-FC07-4ABB-B427-3108342B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950A-2D60-42E8-B8ED-05F0C524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FC5-9E33-4899-9B56-D93A9F4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745-2FF2-4FE8-8D89-4647B0F5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DEA-63DB-49EB-8543-8B2CBDC0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348-B829-436C-8BD5-F8CC0BB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FDEE-4EDE-42D1-B543-8F566FD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58E-FF9D-4272-A86C-867B735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98A-2C28-49B0-AAFD-6C5A840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C8DF-39F2-4149-90B2-09C627E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60D4-317D-4CF1-A86F-1472D60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09D0-4F19-4439-8E90-4B82D289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C107-B0E1-45FF-BDC4-B26BAD2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B35-2EE6-4FFC-9C35-FF3FDDF7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F82-6324-4239-86DE-EA77759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70F-605D-4791-9EFF-FAFF291C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74C-92D0-4B6B-97E7-A5F03C2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993-4DCD-4C2B-A053-090622B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5E1-7578-4B19-9308-38C2637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7BB-3BE5-4A92-86A8-B34915A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931F-9160-4805-A6A5-857472CE08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F1E-D1B9-4278-BFBD-ECE4DAF6768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1&amp;text=&#1082;&#1074;&#1080;&#1083;&#1083;&#1080;&#1085;&#1075;&amp;noreask=1&amp;img_url=s45.radikal.ru%2Fi108%2F0910%2Fd3%2Fe22ba234157f.jpg&amp;pos=45&amp;rpt=simage&amp;lr=213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4f02770154"/>
          <p:cNvPicPr/>
          <p:nvPr/>
        </p:nvPicPr>
        <p:blipFill>
          <a:blip r:embed="rId1"/>
          <a:stretch/>
        </p:blipFill>
        <p:spPr>
          <a:xfrm>
            <a:off x="609480" y="203040"/>
            <a:ext cx="7848720" cy="6515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67652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895120" y="42667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гарина Кат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«в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167652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Квиллинг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искусство изготов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ветов, открыток, фигурок из закрученных бумажных лент.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Picture 5" descr="da6d99998e65"/>
          <p:cNvPicPr/>
          <p:nvPr/>
        </p:nvPicPr>
        <p:blipFill>
          <a:blip r:embed="rId1"/>
          <a:srcRect l="0" t="0" r="0" b="4638"/>
          <a:stretch/>
        </p:blipFill>
        <p:spPr>
          <a:xfrm>
            <a:off x="533520" y="3124080"/>
            <a:ext cx="2819160" cy="254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1299850397_d9929_45300087_1245348944_pig_470x429"/>
          <p:cNvPicPr/>
          <p:nvPr/>
        </p:nvPicPr>
        <p:blipFill>
          <a:blip r:embed="rId2"/>
          <a:srcRect l="5392" t="3955" r="2923" b="5190"/>
          <a:stretch/>
        </p:blipFill>
        <p:spPr>
          <a:xfrm>
            <a:off x="6248520" y="3048120"/>
            <a:ext cx="2590560" cy="2336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?id=538358108-60-72&amp;n=21">
            <a:hlinkClick r:id="rId3"/>
          </p:cNvPr>
          <p:cNvPicPr/>
          <p:nvPr/>
        </p:nvPicPr>
        <p:blipFill>
          <a:blip r:embed="rId4"/>
          <a:srcRect l="6935" t="14185" r="9902" b="3956"/>
          <a:stretch/>
        </p:blipFill>
        <p:spPr>
          <a:xfrm>
            <a:off x="3352680" y="4495680"/>
            <a:ext cx="289584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струменты и принадлежности для квиллин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ый инструме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инц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иней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ле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ма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IMG_5398"/>
          <p:cNvPicPr/>
          <p:nvPr/>
        </p:nvPicPr>
        <p:blipFill>
          <a:blip r:embed="rId1"/>
          <a:srcRect l="0" t="17098" r="2568" b="24790"/>
          <a:stretch/>
        </p:blipFill>
        <p:spPr>
          <a:xfrm>
            <a:off x="5105520" y="2895480"/>
            <a:ext cx="2895480" cy="12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IMG_5401"/>
          <p:cNvPicPr/>
          <p:nvPr/>
        </p:nvPicPr>
        <p:blipFill>
          <a:blip r:embed="rId2"/>
          <a:srcRect l="35005" t="39175" r="17499" b="30834"/>
          <a:stretch/>
        </p:blipFill>
        <p:spPr>
          <a:xfrm>
            <a:off x="5486400" y="1523880"/>
            <a:ext cx="2133720" cy="1011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IMG_5402"/>
          <p:cNvPicPr/>
          <p:nvPr/>
        </p:nvPicPr>
        <p:blipFill>
          <a:blip r:embed="rId3"/>
          <a:srcRect l="8333" t="42607" r="8333" b="24077"/>
          <a:stretch/>
        </p:blipFill>
        <p:spPr>
          <a:xfrm>
            <a:off x="2666880" y="2438280"/>
            <a:ext cx="228600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G_5404"/>
          <p:cNvPicPr/>
          <p:nvPr/>
        </p:nvPicPr>
        <p:blipFill>
          <a:blip r:embed="rId4"/>
          <a:srcRect l="0" t="5730" r="0" b="0"/>
          <a:stretch/>
        </p:blipFill>
        <p:spPr>
          <a:xfrm>
            <a:off x="3200400" y="4343400"/>
            <a:ext cx="5410080" cy="204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MG_5409"/>
          <p:cNvPicPr/>
          <p:nvPr/>
        </p:nvPicPr>
        <p:blipFill>
          <a:blip r:embed="rId5"/>
          <a:srcRect l="25803" t="3233" r="26881" b="12900"/>
          <a:stretch/>
        </p:blipFill>
        <p:spPr>
          <a:xfrm>
            <a:off x="2209680" y="3581280"/>
            <a:ext cx="838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эле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угая спира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бодная спира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п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ла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ис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5" descr="0754ce6a49"/>
          <p:cNvPicPr/>
          <p:nvPr/>
        </p:nvPicPr>
        <p:blipFill>
          <a:blip r:embed="rId1"/>
          <a:srcRect l="0" t="1977" r="0" b="15061"/>
          <a:stretch/>
        </p:blipFill>
        <p:spPr>
          <a:xfrm>
            <a:off x="5638680" y="1905120"/>
            <a:ext cx="3276720" cy="3935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IMG_5411"/>
          <p:cNvPicPr/>
          <p:nvPr/>
        </p:nvPicPr>
        <p:blipFill>
          <a:blip r:embed="rId2"/>
          <a:srcRect l="42405" t="42277" r="42405" b="37447"/>
          <a:stretch/>
        </p:blipFill>
        <p:spPr>
          <a:xfrm>
            <a:off x="3505320" y="1295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G_5413"/>
          <p:cNvPicPr/>
          <p:nvPr/>
        </p:nvPicPr>
        <p:blipFill>
          <a:blip r:embed="rId3"/>
          <a:srcRect l="33340" t="32683" r="39222" b="30718"/>
          <a:stretch/>
        </p:blipFill>
        <p:spPr>
          <a:xfrm>
            <a:off x="4267080" y="2362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IMG_5415"/>
          <p:cNvPicPr/>
          <p:nvPr/>
        </p:nvPicPr>
        <p:blipFill>
          <a:blip r:embed="rId4"/>
          <a:srcRect l="42425" t="43099" r="40405" b="39400"/>
          <a:stretch/>
        </p:blipFill>
        <p:spPr>
          <a:xfrm>
            <a:off x="2133720" y="3276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IMG_5417"/>
          <p:cNvPicPr/>
          <p:nvPr/>
        </p:nvPicPr>
        <p:blipFill>
          <a:blip r:embed="rId5"/>
          <a:srcRect l="41428" t="45242" r="38573" b="37623"/>
          <a:stretch/>
        </p:blipFill>
        <p:spPr>
          <a:xfrm>
            <a:off x="3657600" y="4191120"/>
            <a:ext cx="1523880" cy="98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MG_5423"/>
          <p:cNvPicPr/>
          <p:nvPr/>
        </p:nvPicPr>
        <p:blipFill>
          <a:blip r:embed="rId6"/>
          <a:srcRect l="37920" t="47163" r="34787" b="34638"/>
          <a:stretch/>
        </p:blipFill>
        <p:spPr>
          <a:xfrm>
            <a:off x="2057400" y="5257800"/>
            <a:ext cx="16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IMG_0578"/>
          <p:cNvPicPr/>
          <p:nvPr/>
        </p:nvPicPr>
        <p:blipFill>
          <a:blip r:embed="rId1"/>
          <a:srcRect l="11474" t="5716" r="13511" b="8574"/>
          <a:stretch/>
        </p:blipFill>
        <p:spPr>
          <a:xfrm>
            <a:off x="2286000" y="304920"/>
            <a:ext cx="4135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5:57:06Z</dcterms:created>
  <dc:creator>Нина</dc:creator>
  <dc:description/>
  <dc:language>en-US</dc:language>
  <cp:lastModifiedBy>Нямка</cp:lastModifiedBy>
  <dcterms:modified xsi:type="dcterms:W3CDTF">2012-11-29T12:32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