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539-F95B-4A73-A9EC-EB114BE9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729-0EFF-43D2-9B7D-FFAD2F52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429-A20E-4FD6-976D-CC3F1807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CB2-2F02-419A-BB58-FCC1CBA5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17AA-2B96-42B3-B549-DC5FAAB7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28EC-AAB0-4552-8622-EFF00D1B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3FAF-EEDF-4FE6-8792-B7F8BEFC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545B-0C9F-4E39-9F1B-5F5E0D69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D794-2B4D-4980-958D-473F0E27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6A0F-6264-4E71-B132-7446AC5E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B54B-7E93-4042-ACD4-2EA1C8A6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0F1-99FF-48E6-886E-7AE0C66E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9FF9-BA80-43FE-84AE-2B66AE0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F20B-74D6-48AB-9114-C0019733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9C1E-44BF-4715-8108-F8D0D598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7054-C250-421A-89F3-829B9666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E2E3-EA23-4EC5-A3B4-BFCCF282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881-A96A-4FF5-BE89-28A819A7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C5A-53EB-4C31-8FFC-7045A436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03F-71EF-49DE-B524-8650FA4F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FED-EE03-431D-9240-902A52D9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349-A947-446C-BAB6-3047E79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B20-6CAE-4734-8AC7-60E40935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6AE-7720-42E0-BF94-04CCB06E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DACA-0899-498C-85FA-1BDCE7864B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D54A-949B-4160-9648-2299BDFB287A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yandex.ru/yandsearch?p=1&amp;text=&#1082;&#1074;&#1080;&#1083;&#1083;&#1080;&#1085;&#1075;&amp;noreask=1&amp;img_url=s45.radikal.ru%2Fi108%2F0910%2Fd3%2Fe22ba234157f.jpg&amp;pos=45&amp;rpt=simage&amp;lr=213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4f02770154"/>
          <p:cNvPicPr/>
          <p:nvPr/>
        </p:nvPicPr>
        <p:blipFill>
          <a:blip r:embed="rId1"/>
          <a:stretch/>
        </p:blipFill>
        <p:spPr>
          <a:xfrm>
            <a:off x="609480" y="203040"/>
            <a:ext cx="7848720" cy="6515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67652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виллинг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895120" y="42667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гарина Кат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«в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167652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040" y="22860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Квиллинг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– искусство изготовл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цветов, открыток, фигурок из закрученных бумажных лент.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Picture 5" descr="da6d99998e65"/>
          <p:cNvPicPr/>
          <p:nvPr/>
        </p:nvPicPr>
        <p:blipFill>
          <a:blip r:embed="rId1"/>
          <a:srcRect l="0" t="0" r="0" b="4638"/>
          <a:stretch/>
        </p:blipFill>
        <p:spPr>
          <a:xfrm>
            <a:off x="533520" y="3124080"/>
            <a:ext cx="2819160" cy="254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1299850397_d9929_45300087_1245348944_pig_470x429"/>
          <p:cNvPicPr/>
          <p:nvPr/>
        </p:nvPicPr>
        <p:blipFill>
          <a:blip r:embed="rId2"/>
          <a:srcRect l="5392" t="3955" r="2923" b="5190"/>
          <a:stretch/>
        </p:blipFill>
        <p:spPr>
          <a:xfrm>
            <a:off x="6248520" y="3048120"/>
            <a:ext cx="2590560" cy="2336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i?id=538358108-60-72&amp;n=21">
            <a:hlinkClick r:id="rId3"/>
          </p:cNvPr>
          <p:cNvPicPr/>
          <p:nvPr/>
        </p:nvPicPr>
        <p:blipFill>
          <a:blip r:embed="rId4"/>
          <a:srcRect l="6935" t="14185" r="9902" b="3956"/>
          <a:stretch/>
        </p:blipFill>
        <p:spPr>
          <a:xfrm>
            <a:off x="3352680" y="4495680"/>
            <a:ext cx="289584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нструменты и принадлежности для квиллин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пециальный инструмен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инце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Линей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ле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маг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4" descr="IMG_5398"/>
          <p:cNvPicPr/>
          <p:nvPr/>
        </p:nvPicPr>
        <p:blipFill>
          <a:blip r:embed="rId1"/>
          <a:srcRect l="0" t="17098" r="2568" b="24790"/>
          <a:stretch/>
        </p:blipFill>
        <p:spPr>
          <a:xfrm>
            <a:off x="5105520" y="2895480"/>
            <a:ext cx="2895480" cy="129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IMG_5401"/>
          <p:cNvPicPr/>
          <p:nvPr/>
        </p:nvPicPr>
        <p:blipFill>
          <a:blip r:embed="rId2"/>
          <a:srcRect l="35005" t="39175" r="17499" b="30834"/>
          <a:stretch/>
        </p:blipFill>
        <p:spPr>
          <a:xfrm>
            <a:off x="5486400" y="1523880"/>
            <a:ext cx="2133720" cy="1011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IMG_5402"/>
          <p:cNvPicPr/>
          <p:nvPr/>
        </p:nvPicPr>
        <p:blipFill>
          <a:blip r:embed="rId3"/>
          <a:srcRect l="8333" t="42607" r="8333" b="24077"/>
          <a:stretch/>
        </p:blipFill>
        <p:spPr>
          <a:xfrm>
            <a:off x="2666880" y="2438280"/>
            <a:ext cx="2286000" cy="68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IMG_5404"/>
          <p:cNvPicPr/>
          <p:nvPr/>
        </p:nvPicPr>
        <p:blipFill>
          <a:blip r:embed="rId4"/>
          <a:srcRect l="0" t="5730" r="0" b="0"/>
          <a:stretch/>
        </p:blipFill>
        <p:spPr>
          <a:xfrm>
            <a:off x="3200400" y="4343400"/>
            <a:ext cx="5410080" cy="204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IMG_5409"/>
          <p:cNvPicPr/>
          <p:nvPr/>
        </p:nvPicPr>
        <p:blipFill>
          <a:blip r:embed="rId5"/>
          <a:srcRect l="25803" t="3233" r="26881" b="12900"/>
          <a:stretch/>
        </p:blipFill>
        <p:spPr>
          <a:xfrm>
            <a:off x="2209680" y="3581280"/>
            <a:ext cx="838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эле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угая спирал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ободная спирал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пл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лаз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Лис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5" descr="0754ce6a49"/>
          <p:cNvPicPr/>
          <p:nvPr/>
        </p:nvPicPr>
        <p:blipFill>
          <a:blip r:embed="rId1"/>
          <a:srcRect l="0" t="1977" r="0" b="15061"/>
          <a:stretch/>
        </p:blipFill>
        <p:spPr>
          <a:xfrm>
            <a:off x="5638680" y="1905120"/>
            <a:ext cx="3276720" cy="3935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IMG_5411"/>
          <p:cNvPicPr/>
          <p:nvPr/>
        </p:nvPicPr>
        <p:blipFill>
          <a:blip r:embed="rId2"/>
          <a:srcRect l="42405" t="42277" r="42405" b="37447"/>
          <a:stretch/>
        </p:blipFill>
        <p:spPr>
          <a:xfrm>
            <a:off x="3505320" y="1295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G_5413"/>
          <p:cNvPicPr/>
          <p:nvPr/>
        </p:nvPicPr>
        <p:blipFill>
          <a:blip r:embed="rId3"/>
          <a:srcRect l="33340" t="32683" r="39222" b="30718"/>
          <a:stretch/>
        </p:blipFill>
        <p:spPr>
          <a:xfrm>
            <a:off x="4267080" y="23623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IMG_5415"/>
          <p:cNvPicPr/>
          <p:nvPr/>
        </p:nvPicPr>
        <p:blipFill>
          <a:blip r:embed="rId4"/>
          <a:srcRect l="42425" t="43099" r="40405" b="39400"/>
          <a:stretch/>
        </p:blipFill>
        <p:spPr>
          <a:xfrm>
            <a:off x="2133720" y="327672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IMG_5417"/>
          <p:cNvPicPr/>
          <p:nvPr/>
        </p:nvPicPr>
        <p:blipFill>
          <a:blip r:embed="rId5"/>
          <a:srcRect l="41428" t="45242" r="38573" b="37623"/>
          <a:stretch/>
        </p:blipFill>
        <p:spPr>
          <a:xfrm>
            <a:off x="3657600" y="4191120"/>
            <a:ext cx="1523880" cy="981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MG_5423"/>
          <p:cNvPicPr/>
          <p:nvPr/>
        </p:nvPicPr>
        <p:blipFill>
          <a:blip r:embed="rId6"/>
          <a:srcRect l="37920" t="47163" r="34787" b="34638"/>
          <a:stretch/>
        </p:blipFill>
        <p:spPr>
          <a:xfrm>
            <a:off x="2057400" y="5257800"/>
            <a:ext cx="1600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IMG_0578"/>
          <p:cNvPicPr/>
          <p:nvPr/>
        </p:nvPicPr>
        <p:blipFill>
          <a:blip r:embed="rId1"/>
          <a:srcRect l="11474" t="5716" r="13511" b="8574"/>
          <a:stretch/>
        </p:blipFill>
        <p:spPr>
          <a:xfrm>
            <a:off x="2286000" y="304920"/>
            <a:ext cx="4135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5:57:06Z</dcterms:created>
  <dc:creator>Нина</dc:creator>
  <dc:description/>
  <dc:language>en-US</dc:language>
  <cp:lastModifiedBy>Нямка</cp:lastModifiedBy>
  <dcterms:modified xsi:type="dcterms:W3CDTF">2012-11-29T12:32:2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