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980-0E7C-44B4-8564-7E597256B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1343-9807-47C9-9D5A-D4E011E41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F04-E356-4953-9AB4-E09358BB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A10-D0FD-4B7F-92D1-416073C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A10-B24B-4BCA-9F77-4B7D53B7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E68-CE1C-42DD-AE95-CF25EDB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BA24-3B80-4124-A838-E4D5148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2DBB-C536-4220-BB18-3BDD8AE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17F5-1C17-4FCA-8F63-F8180C7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290-F48E-4180-B885-F545DFF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4C1C-EB70-483F-9CFB-7B0D05AE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EE7-0ECE-47E5-B75B-41219187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45C-B8ED-4012-B9BC-F1C8AF5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E36-BC3D-4E40-B20A-45411740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80F-5FE2-4582-9B8B-27B7BEC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7CEA-753D-4A2B-A17A-CF90168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44E4-1E5B-4A4C-AD23-E001486E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BE8-BFE4-4D8C-B327-4C40F162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DC1-9E88-45F7-B1F2-D5AE9D11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50AA4-704B-4515-8A71-D10D6786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3CC69-C5DB-480C-8EAE-1774AD7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545EB-DE1C-4A86-A85F-F8C86FD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E35B2-21A2-4C45-AA2A-04D140A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3EFDA-BDB4-43E7-8568-FE9D8EF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372-B25B-4828-946C-8C42381E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318C4-8A0C-47AB-AD01-86109E9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EDE94-4C03-4729-8386-AEDD56D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E6449-7471-4031-BC82-310BEAE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05EBD-0AFD-4886-AA69-93787A0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DE3F-FF96-42E8-95C1-6E929AC0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9D7E9-60CC-4791-B9D1-B109004A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60351-EBA9-4A3A-8C82-556F26B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D73C-C508-42DD-96EA-AD258E87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10E3-7ABB-4E2C-9F21-5D435D0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C4CF-E5D4-494E-8F30-613B851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DA2-05B5-4267-8B1B-DF5DD5A1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E4CE-C7C6-4C08-AC9C-C4D64DE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18B9-9A68-4336-AC47-0FEF3CC6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223D-F0DC-4B72-9EB2-6A133EF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1DE4-575A-42E0-AF6B-64896BC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7BBD-6434-423C-BDB0-A81EBA6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E223-10B6-4FB1-8A19-8610E5C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E490-2620-4DEB-A25E-4D2C6C6A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839E-9D70-4D1F-B909-BD578B8A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3F31-F170-4197-8EE5-61E14313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2CC5C-9E30-4BFD-8ED2-304FDD96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D20-BB35-405A-9C12-503C178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F969E-880E-4368-B2C7-26DDB20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30FB1-69AF-4392-B52E-82964A3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5B5A4-C1ED-4654-A995-CA60C973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10808-84F3-4735-9658-6CE4EF8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6FA47-5032-40C4-8D67-57FA6DB2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A6E2E-371F-4B55-A7B1-2F9C756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B3D31-F4A6-4ECE-A132-F2D5A98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8CE1E-C0F3-474E-BBE8-A7BB398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14481-AEA1-4552-A396-A7758105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398E1-F422-4F25-8D7A-EA52DBE0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BD4-5DBC-488F-91B9-3350026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B9963-FA8C-4B9E-A986-8F83075C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16D41-68F0-4B40-A212-AEAA24C9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84E83-E3E3-4EF3-9D96-5A8074E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2EDF2-F605-4899-8730-C8C21FE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AEB0C-A17E-403C-B487-F5A7E27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0E03F-94F7-4C07-8CC3-6F48EC02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6909A-9572-46D6-8878-56C9164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92840-4A7B-48E0-9612-C3B3448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CC562-274C-4100-AE86-887EAEE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3A063-A78E-4462-AA49-E2DBC23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93A-0B42-4967-988D-7D85EE7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87038-8CD3-4B45-9466-A10D982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D5BC7-51A1-4F03-B775-E0D6BF06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9D031-43D4-4A7A-9DD6-2771848C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4AE0C-B7D4-444E-9812-AC298236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57CCD-15EB-4CE0-8999-A6424121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7C2ED-38E7-459B-BE92-3716917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EE851-7A92-4C62-8F77-6568605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F7B45-51B3-4A9C-8211-44D43B8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A90FD-D5BE-4DF1-9DFA-931AFBCE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98580-5BC9-441B-BC73-01EEFD9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E97-AD2E-4B86-A854-64344228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CC7A5-3B84-4BC2-83A3-865306B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C53B1-3D6E-4ECA-BFEF-0B1759E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A84ED-6DE9-4F78-A278-BD24AD1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5CE83-0758-4DC0-9E6E-03064177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C7DAB-6AE4-4FBE-85BF-5AF5829E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519-B027-42CE-9A8D-8BDDE3D2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3653-9909-4438-8B4E-CC5F0FFDAB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9CBA-9702-4AD7-9A65-03EAFCC302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71A-1FE5-4A56-94AE-804F257FF7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E31F-4CB9-4114-A4E6-29DE21DE1F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EAF-08EC-48C2-8460-84969A86CD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367F-3596-4A5F-8694-6440694DD3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0AAA-4D67-4567-81D0-66EACB4E4B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hnologi.su/index/konkurs_1812/0-515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lanetaorigami.ru/" TargetMode="External"/><Relationship Id="rId2" Type="http://schemas.openxmlformats.org/officeDocument/2006/relationships/hyperlink" Target="http://stranamasterov.ru/taxonomy/term/477" TargetMode="External"/><Relationship Id="rId3" Type="http://schemas.openxmlformats.org/officeDocument/2006/relationships/hyperlink" Target="http://masterica.maxiwebsite.ru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63640" y="2060640"/>
            <a:ext cx="662472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000" spc="-1" strike="noStrike">
                <a:solidFill>
                  <a:srgbClr val="575f6d"/>
                </a:solidFill>
                <a:latin typeface="Bookman Old Style"/>
              </a:rPr>
              <a:t>МОДУЛЬНОЕ ОРИГАМИ «БАТАЛИЯ 1812 ГОДА»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123640" y="5157720"/>
            <a:ext cx="6193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435b"/>
                </a:solidFill>
                <a:latin typeface="Arial"/>
              </a:rPr>
              <a:t>Выполнила: учитель технологии  высшей категории Минейкина Ирина Викторо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435b"/>
                </a:solidFill>
                <a:latin typeface="Arial"/>
              </a:rPr>
              <a:t>ГБОУ СОШ №3, г. Новокуйбышевск Самарской област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2411280" y="76500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tehnologi.su/index/konkurs_1812/0-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Содержимое 6" descr="header.jpg"/>
          <p:cNvPicPr/>
          <p:nvPr/>
        </p:nvPicPr>
        <p:blipFill>
          <a:blip r:embed="rId2"/>
          <a:stretch/>
        </p:blipFill>
        <p:spPr>
          <a:xfrm>
            <a:off x="285840" y="0"/>
            <a:ext cx="9145440" cy="8064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8"/>
          <p:cNvSpPr/>
          <p:nvPr/>
        </p:nvSpPr>
        <p:spPr>
          <a:xfrm>
            <a:off x="1785960" y="1285920"/>
            <a:ext cx="64292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инац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3b435b"/>
                </a:solidFill>
                <a:latin typeface="Arial"/>
              </a:rPr>
              <a:t>«</a:t>
            </a:r>
            <a:r>
              <a:rPr b="0" lang="ru-RU" sz="1400" spc="-1" strike="noStrike">
                <a:solidFill>
                  <a:srgbClr val="3b435b"/>
                </a:solidFill>
                <a:latin typeface="Arial"/>
              </a:rPr>
              <a:t>Сюжетная композиция исторических событий (бытовых, батальных и др.) периода Отечественной войны 1812 года</a:t>
            </a:r>
            <a:r>
              <a:rPr b="1" i="1" lang="ru-RU" sz="1400" spc="-1" strike="noStrike">
                <a:solidFill>
                  <a:srgbClr val="3b435b"/>
                </a:solidFill>
                <a:latin typeface="Arial"/>
              </a:rPr>
              <a:t>»</a:t>
            </a:r>
            <a:r>
              <a:rPr b="0" lang="ru-RU" sz="1400" spc="-1" strike="noStrike">
                <a:solidFill>
                  <a:srgbClr val="3b435b"/>
                </a:solidFill>
                <a:latin typeface="Arial"/>
              </a:rPr>
              <a:t> </a:t>
            </a:r>
            <a:br>
              <a:rPr sz="4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C:\Documents and Settings\Данил\Рабочий стол\Копия СЕРГЕЙЧИК ВАДИМ\DSC08022.JPG"/>
          <p:cNvPicPr/>
          <p:nvPr/>
        </p:nvPicPr>
        <p:blipFill>
          <a:blip r:embed="rId3"/>
          <a:srcRect l="0" t="0" r="-274" b="35939"/>
          <a:stretch/>
        </p:blipFill>
        <p:spPr>
          <a:xfrm>
            <a:off x="3348000" y="2997360"/>
            <a:ext cx="3565440" cy="1935000"/>
          </a:xfrm>
          <a:prstGeom prst="rect">
            <a:avLst/>
          </a:prstGeom>
          <a:ln w="19080">
            <a:solidFill>
              <a:srgbClr val="3b435b"/>
            </a:solidFill>
            <a:miter/>
          </a:ln>
        </p:spPr>
      </p:pic>
      <p:sp>
        <p:nvSpPr>
          <p:cNvPr id="364" name="Rectangle 9"/>
          <p:cNvSpPr/>
          <p:nvPr/>
        </p:nvSpPr>
        <p:spPr>
          <a:xfrm>
            <a:off x="4500720" y="60930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b435b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Documents and Settings\Администратор\Рабочий стол\Фото-0080.jpg"/>
          <p:cNvPicPr/>
          <p:nvPr/>
        </p:nvPicPr>
        <p:blipFill>
          <a:blip r:embed="rId1"/>
          <a:stretch/>
        </p:blipFill>
        <p:spPr>
          <a:xfrm rot="20536200">
            <a:off x="1332000" y="1700280"/>
            <a:ext cx="3295440" cy="2471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467840" cy="5000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ПИСАНИЕ ИЗГОТОВЛЕНИЯ И СБОРК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140360" y="2707920"/>
            <a:ext cx="4038480" cy="28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5cd2d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askerville Old Face"/>
              </a:rPr>
              <a:t>Для изготовления этой композиции мне потребовалос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0000"/>
                </a:solidFill>
                <a:latin typeface="Baskerville Old Face"/>
              </a:rPr>
              <a:t>1553 модуля!!! 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"/>
          <p:cNvPicPr/>
          <p:nvPr/>
        </p:nvPicPr>
        <p:blipFill>
          <a:blip r:embed="rId1"/>
          <a:stretch/>
        </p:blipFill>
        <p:spPr>
          <a:xfrm>
            <a:off x="5786280" y="1357200"/>
            <a:ext cx="1013040" cy="668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C:\Documents and Settings\Администратор\Мои документы\thumbs_4a38b554392b8.jpg"/>
          <p:cNvPicPr/>
          <p:nvPr/>
        </p:nvPicPr>
        <p:blipFill>
          <a:blip r:embed="rId2"/>
          <a:stretch/>
        </p:blipFill>
        <p:spPr>
          <a:xfrm>
            <a:off x="5429160" y="3714840"/>
            <a:ext cx="1243080" cy="515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ХЕМ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Заголовок 1"/>
          <p:cNvSpPr/>
          <p:nvPr/>
        </p:nvSpPr>
        <p:spPr>
          <a:xfrm>
            <a:off x="1908000" y="836640"/>
            <a:ext cx="585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КАК СЛОЖИТЬ ТРЕУГОЛЬНЫЙ МОДУЛЬ ОРИГ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99680" y="1071720"/>
            <a:ext cx="7467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Кладем прямоугольник из бумаги обратной стороной к себе. Сгибаем его попола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Чтобы наметить линию середины, сгибаем и разгибаем прямоугольни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гибаем края прямоугольника к середин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Переворачива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Загибаем уголки, оставляя между верхним треугольником и сложенным уголком небольшой зазо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Поднимаем края ввер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кладываем треугольни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Получившийся треугольный модуль оригами имеет два кармашка и два уголк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C:\Documents and Settings\Администратор\Мои документы\thumbs_4a38b573505ee.jpg"/>
          <p:cNvPicPr/>
          <p:nvPr/>
        </p:nvPicPr>
        <p:blipFill>
          <a:blip r:embed="rId3"/>
          <a:srcRect l="17241" t="3477" r="13793" b="0"/>
          <a:stretch/>
        </p:blipFill>
        <p:spPr>
          <a:xfrm>
            <a:off x="5429160" y="2071800"/>
            <a:ext cx="928800" cy="550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Администратор\Мои документы\thumbs_4a38b5a1a22e4.jpg"/>
          <p:cNvPicPr/>
          <p:nvPr/>
        </p:nvPicPr>
        <p:blipFill>
          <a:blip r:embed="rId4"/>
          <a:srcRect l="11944" t="0" r="16441" b="0"/>
          <a:stretch/>
        </p:blipFill>
        <p:spPr>
          <a:xfrm>
            <a:off x="3000240" y="5429160"/>
            <a:ext cx="1177920" cy="785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Администратор\Мои документы\thumbs_4a38b5b69419a.jpg"/>
          <p:cNvPicPr/>
          <p:nvPr/>
        </p:nvPicPr>
        <p:blipFill>
          <a:blip r:embed="rId5"/>
          <a:srcRect l="0" t="0" r="2494" b="6254"/>
          <a:stretch/>
        </p:blipFill>
        <p:spPr>
          <a:xfrm>
            <a:off x="1285920" y="5500800"/>
            <a:ext cx="1214280" cy="787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:\Documents and Settings\Администратор\Мои документы\thumbs_4a38b58dd2a6b.jpg"/>
          <p:cNvPicPr/>
          <p:nvPr/>
        </p:nvPicPr>
        <p:blipFill>
          <a:blip r:embed="rId6"/>
          <a:srcRect l="16876" t="8854" r="15629" b="8467"/>
          <a:stretch/>
        </p:blipFill>
        <p:spPr>
          <a:xfrm>
            <a:off x="4786200" y="5500800"/>
            <a:ext cx="1214640" cy="662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Documents and Settings\Администратор\Мои документы\thumbs_4a38b564af8da.jpg"/>
          <p:cNvPicPr/>
          <p:nvPr/>
        </p:nvPicPr>
        <p:blipFill>
          <a:blip r:embed="rId7"/>
          <a:stretch/>
        </p:blipFill>
        <p:spPr>
          <a:xfrm>
            <a:off x="6143760" y="5357880"/>
            <a:ext cx="1753920" cy="71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C:\Documents and Settings\Администратор\Мои документы\thumbs_4a38b58040d54.jpg"/>
          <p:cNvPicPr/>
          <p:nvPr/>
        </p:nvPicPr>
        <p:blipFill>
          <a:blip r:embed="rId8"/>
          <a:srcRect l="20835" t="7003" r="18756" b="12466"/>
          <a:stretch/>
        </p:blipFill>
        <p:spPr>
          <a:xfrm>
            <a:off x="5500800" y="2786040"/>
            <a:ext cx="8571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86360" cy="4287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ЕХНОЛОГИЧЕСКИЙ ЭТАП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85840" y="194040"/>
            <a:ext cx="1428840" cy="39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ная бумага для прин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трум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нцелярский нож, со сменным лезвие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жн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анд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не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иц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7" descr="Нарцисс 1"/>
          <p:cNvPicPr/>
          <p:nvPr/>
        </p:nvPicPr>
        <p:blipFill>
          <a:blip r:embed="rId1"/>
          <a:stretch/>
        </p:blipFill>
        <p:spPr>
          <a:xfrm>
            <a:off x="6858000" y="857160"/>
            <a:ext cx="1447920" cy="9241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8"/>
          <p:cNvSpPr/>
          <p:nvPr/>
        </p:nvSpPr>
        <p:spPr>
          <a:xfrm>
            <a:off x="2286000" y="9288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ьмите 3 модуля и расположите их, как показано на схеме. Модули слева войдут в первый ряд, модуль справа – во второй. Вставьте уголки двух модулей в кармашки треть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9" descr="Копия Нарцисс 11"/>
          <p:cNvPicPr/>
          <p:nvPr/>
        </p:nvPicPr>
        <p:blipFill>
          <a:blip r:embed="rId2"/>
          <a:stretch/>
        </p:blipFill>
        <p:spPr>
          <a:xfrm>
            <a:off x="1928880" y="2143080"/>
            <a:ext cx="1704960" cy="97164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10"/>
          <p:cNvSpPr/>
          <p:nvPr/>
        </p:nvSpPr>
        <p:spPr>
          <a:xfrm>
            <a:off x="3500280" y="2143080"/>
            <a:ext cx="478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 же способом присоединяйте к заготовке еще 2 модуля. Постепенно соберите цепочку из двух рядов, по 8 модулей в каж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1"/>
          <p:cNvSpPr/>
          <p:nvPr/>
        </p:nvSpPr>
        <p:spPr>
          <a:xfrm>
            <a:off x="2286000" y="3105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кните цепочку в кольцо. Лепестки гото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2" descr="Нарцисс 11"/>
          <p:cNvPicPr/>
          <p:nvPr/>
        </p:nvPicPr>
        <p:blipFill>
          <a:blip r:embed="rId3"/>
          <a:stretch/>
        </p:blipFill>
        <p:spPr>
          <a:xfrm>
            <a:off x="6929280" y="2928960"/>
            <a:ext cx="1419480" cy="942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3" descr="http://im7-tub-ru.yandex.net/i?id=568930659-42-72&amp;n=21"/>
          <p:cNvPicPr/>
          <p:nvPr/>
        </p:nvPicPr>
        <p:blipFill>
          <a:blip r:embed="rId4"/>
          <a:srcRect l="12509" t="5996" r="13001" b="6677"/>
          <a:stretch/>
        </p:blipFill>
        <p:spPr>
          <a:xfrm>
            <a:off x="357120" y="3857760"/>
            <a:ext cx="1324080" cy="116208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4"/>
          <p:cNvSpPr/>
          <p:nvPr/>
        </p:nvSpPr>
        <p:spPr>
          <a:xfrm>
            <a:off x="1857240" y="3857760"/>
            <a:ext cx="6572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ряд состоит из 30 модулей. Собирай кольцо по цепочке, придерживая его руками. Обрати внимание на то, что модули надеваются в шахматном поряд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15" descr="http://im7-tub-ru.yandex.net/i?id=317128999-20-72&amp;n=21"/>
          <p:cNvPicPr/>
          <p:nvPr/>
        </p:nvPicPr>
        <p:blipFill>
          <a:blip r:embed="rId5"/>
          <a:srcRect l="17007" t="11338" r="13001" b="0"/>
          <a:stretch/>
        </p:blipFill>
        <p:spPr>
          <a:xfrm>
            <a:off x="6929280" y="4572000"/>
            <a:ext cx="1200240" cy="11430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6"/>
          <p:cNvSpPr/>
          <p:nvPr/>
        </p:nvSpPr>
        <p:spPr>
          <a:xfrm>
            <a:off x="1785960" y="485784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, взявшись пальцами за края заготовки, выполни движение, как будто хочешь вывернуть всё кольцо наизнанку. Должна получиться вот такая форма. Сверху она напоминает стади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ТЕХНОЛОГИЯ ИЗГОТОВЛЕНИЯ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6" descr="E:\проект 2012г\повозка\DSC07957.JPG"/>
          <p:cNvPicPr/>
          <p:nvPr/>
        </p:nvPicPr>
        <p:blipFill>
          <a:blip r:embed="rId1"/>
          <a:stretch/>
        </p:blipFill>
        <p:spPr>
          <a:xfrm>
            <a:off x="6215040" y="1643040"/>
            <a:ext cx="1906560" cy="1430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G:\рома\фото\DSC07956.JPG"/>
          <p:cNvPicPr/>
          <p:nvPr/>
        </p:nvPicPr>
        <p:blipFill>
          <a:blip r:embed="rId2"/>
          <a:stretch/>
        </p:blipFill>
        <p:spPr>
          <a:xfrm>
            <a:off x="642960" y="857160"/>
            <a:ext cx="1467000" cy="110016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2286000" y="785880"/>
            <a:ext cx="635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Изготовление Солд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ьмите 3 модуля и расположите их, как показано на схеме. Модули слева войдут в первый ряд, модуль справа – во второй. Вставьте уголки двух модулей в кармашки треть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7120" y="2055600"/>
            <a:ext cx="600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ног. Необходимо взять два модуля и соединять их между собой в шахматном порядке. На это вам потребуется 20 модулей на одну ногу и 20 модулей на другую ног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7" descr="C:\Documents and Settings\Данил\Рабочий стол\повозка\DSC07907.JPG"/>
          <p:cNvPicPr/>
          <p:nvPr/>
        </p:nvPicPr>
        <p:blipFill>
          <a:blip r:embed="rId3"/>
          <a:srcRect l="2255" t="56290" r="78092" b="30004"/>
          <a:stretch/>
        </p:blipFill>
        <p:spPr>
          <a:xfrm>
            <a:off x="6500880" y="3857760"/>
            <a:ext cx="1500120" cy="7855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5214960" y="2325240"/>
            <a:ext cx="350028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ног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ги соединяем между собой с помощью дополнительных 3 – х моду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9"/>
          <p:cNvSpPr/>
          <p:nvPr/>
        </p:nvSpPr>
        <p:spPr>
          <a:xfrm>
            <a:off x="1643040" y="3143160"/>
            <a:ext cx="350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туловища определяется только цветом. Способ изготовления аналогич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10" descr="C:\Documents and Settings\Данил\Рабочий стол\повозка\DSC07907.JPG"/>
          <p:cNvPicPr/>
          <p:nvPr/>
        </p:nvPicPr>
        <p:blipFill>
          <a:blip r:embed="rId4"/>
          <a:srcRect l="0" t="44620" r="75215" b="23843"/>
          <a:stretch/>
        </p:blipFill>
        <p:spPr>
          <a:xfrm>
            <a:off x="357120" y="3000240"/>
            <a:ext cx="1000080" cy="8575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1" descr="C:\Documents and Settings\Данил\Рабочий стол\повозка\DSC07963.JPG"/>
          <p:cNvPicPr/>
          <p:nvPr/>
        </p:nvPicPr>
        <p:blipFill>
          <a:blip r:embed="rId5"/>
          <a:srcRect l="0" t="21447" r="6257" b="0"/>
          <a:stretch/>
        </p:blipFill>
        <p:spPr>
          <a:xfrm>
            <a:off x="357120" y="4214880"/>
            <a:ext cx="1357560" cy="8571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1800" y="44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1928880" y="4014000"/>
            <a:ext cx="2000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головного убора типично для всех мод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4" descr="C:\Documents and Settings\Данил\Рабочий стол\повозка\DSC07965.JPG"/>
          <p:cNvPicPr/>
          <p:nvPr/>
        </p:nvPicPr>
        <p:blipFill>
          <a:blip r:embed="rId6"/>
          <a:stretch/>
        </p:blipFill>
        <p:spPr>
          <a:xfrm>
            <a:off x="3571920" y="4143240"/>
            <a:ext cx="1357200" cy="9288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8"/>
          <p:cNvSpPr/>
          <p:nvPr/>
        </p:nvSpPr>
        <p:spPr>
          <a:xfrm>
            <a:off x="1357200" y="5546880"/>
            <a:ext cx="42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формление лица придаст готовый вид работы. Готовая работа всегда радует гл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16" descr="C:\Documents and Settings\Данил\Рабочий стол\повозка\DSC07907.JPG"/>
          <p:cNvPicPr/>
          <p:nvPr/>
        </p:nvPicPr>
        <p:blipFill>
          <a:blip r:embed="rId7"/>
          <a:srcRect l="0" t="4766" r="75218" b="28567"/>
          <a:stretch/>
        </p:blipFill>
        <p:spPr>
          <a:xfrm>
            <a:off x="5429160" y="4786200"/>
            <a:ext cx="928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ЕХНОЛОГИЯ ИЗГОТОВЛЕНИЯ ЛОШАД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2286000" y="10000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же образом собираются ноги у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3" descr="C:\Documents and Settings\Данил\Рабочий стол\повозка\DSC07978.JPG"/>
          <p:cNvPicPr/>
          <p:nvPr/>
        </p:nvPicPr>
        <p:blipFill>
          <a:blip r:embed="rId1"/>
          <a:srcRect l="30673" t="60050" r="41262" b="8662"/>
          <a:stretch/>
        </p:blipFill>
        <p:spPr>
          <a:xfrm>
            <a:off x="142920" y="857160"/>
            <a:ext cx="1190520" cy="99072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4"/>
          <p:cNvSpPr/>
          <p:nvPr/>
        </p:nvSpPr>
        <p:spPr>
          <a:xfrm>
            <a:off x="1285920" y="1357200"/>
            <a:ext cx="60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сборки одинакова как для гривы, так и для хвоста. Возьмите 1 модуль и расположите их, как показано на рисунке. Модули входят один в другой. Модули необходимо расшир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:\Documents and Settings\Данил\Рабочий стол\повозка\DSC07981.JPG"/>
          <p:cNvPicPr/>
          <p:nvPr/>
        </p:nvPicPr>
        <p:blipFill>
          <a:blip r:embed="rId2"/>
          <a:stretch/>
        </p:blipFill>
        <p:spPr>
          <a:xfrm>
            <a:off x="7358040" y="12142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6"/>
          <p:cNvSpPr/>
          <p:nvPr/>
        </p:nvSpPr>
        <p:spPr>
          <a:xfrm>
            <a:off x="3786120" y="2357280"/>
            <a:ext cx="49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хомута аналогично ногам. Хомут необходимо изогнуть и закрепить, если это будет необход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7" descr="C:\Documents and Settings\Данил\Рабочий стол\повозка\DSC07998.JPG"/>
          <p:cNvPicPr/>
          <p:nvPr/>
        </p:nvPicPr>
        <p:blipFill>
          <a:blip r:embed="rId3"/>
          <a:srcRect l="28975" t="33333" r="53330" b="29089"/>
          <a:stretch/>
        </p:blipFill>
        <p:spPr>
          <a:xfrm>
            <a:off x="2857680" y="2357280"/>
            <a:ext cx="785520" cy="10004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8"/>
          <p:cNvSpPr/>
          <p:nvPr/>
        </p:nvSpPr>
        <p:spPr>
          <a:xfrm>
            <a:off x="142920" y="378612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иеся заготовки необходимо соединить между со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9" descr="C:\Documents and Settings\Данил\Рабочий стол\повозка\DSC07899.JPG"/>
          <p:cNvPicPr/>
          <p:nvPr/>
        </p:nvPicPr>
        <p:blipFill>
          <a:blip r:embed="rId4"/>
          <a:srcRect l="39663" t="0" r="0" b="0"/>
          <a:stretch/>
        </p:blipFill>
        <p:spPr>
          <a:xfrm>
            <a:off x="357120" y="2357280"/>
            <a:ext cx="1133640" cy="140976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0"/>
          <p:cNvSpPr/>
          <p:nvPr/>
        </p:nvSpPr>
        <p:spPr>
          <a:xfrm>
            <a:off x="3857760" y="3105000"/>
            <a:ext cx="30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лошадь изготавливается аналогичным способ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1" descr="C:\Documents and Settings\Данил\Рабочий стол\повозка\DSC07977.JPG"/>
          <p:cNvPicPr/>
          <p:nvPr/>
        </p:nvPicPr>
        <p:blipFill>
          <a:blip r:embed="rId5"/>
          <a:stretch/>
        </p:blipFill>
        <p:spPr>
          <a:xfrm>
            <a:off x="6858000" y="30002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2" descr="C:\Documents and Settings\Данил\Рабочий стол\повозка\DSC07998.JPG"/>
          <p:cNvPicPr/>
          <p:nvPr/>
        </p:nvPicPr>
        <p:blipFill>
          <a:blip r:embed="rId6"/>
          <a:srcRect l="0" t="57282" r="64634" b="0"/>
          <a:stretch/>
        </p:blipFill>
        <p:spPr>
          <a:xfrm>
            <a:off x="6929280" y="4429080"/>
            <a:ext cx="1381320" cy="124776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3"/>
          <p:cNvSpPr/>
          <p:nvPr/>
        </p:nvSpPr>
        <p:spPr>
          <a:xfrm>
            <a:off x="5357880" y="4286160"/>
            <a:ext cx="15714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бочки аналогично изготовлению туловища у лош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G:\рома\фото\DSC07938.JPG"/>
          <p:cNvPicPr/>
          <p:nvPr/>
        </p:nvPicPr>
        <p:blipFill>
          <a:blip r:embed="rId7"/>
          <a:srcRect l="18076" t="45988" r="21831" b="19669"/>
          <a:stretch/>
        </p:blipFill>
        <p:spPr>
          <a:xfrm>
            <a:off x="2214720" y="4500720"/>
            <a:ext cx="2666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Bookman Old Style"/>
              </a:rPr>
              <a:t>ТЕХНОЛОГИЯ ИЗГОТОВЛЕНИЯ КОЛЕС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Picture 2" descr="G:\рома\фото\DSC07966.JPG"/>
          <p:cNvPicPr/>
          <p:nvPr/>
        </p:nvPicPr>
        <p:blipFill>
          <a:blip r:embed="rId1"/>
          <a:stretch/>
        </p:blipFill>
        <p:spPr>
          <a:xfrm>
            <a:off x="539640" y="11970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3"/>
          <p:cNvSpPr/>
          <p:nvPr/>
        </p:nvSpPr>
        <p:spPr>
          <a:xfrm>
            <a:off x="2000160" y="71424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а собираются по схеме. 12 круговых модулей соединяются между со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G:\рома\фото\DSC07967.JPG"/>
          <p:cNvPicPr/>
          <p:nvPr/>
        </p:nvPicPr>
        <p:blipFill>
          <a:blip r:embed="rId2"/>
          <a:stretch/>
        </p:blipFill>
        <p:spPr>
          <a:xfrm>
            <a:off x="7000920" y="157176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5"/>
          <p:cNvSpPr/>
          <p:nvPr/>
        </p:nvSpPr>
        <p:spPr>
          <a:xfrm>
            <a:off x="4143240" y="714240"/>
            <a:ext cx="264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ряд можно взять другого цвета, чтобы разнообразить работу и сделать ее более яр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G:\рома\фото\DSC07968.JPG"/>
          <p:cNvPicPr/>
          <p:nvPr/>
        </p:nvPicPr>
        <p:blipFill>
          <a:blip r:embed="rId3"/>
          <a:stretch/>
        </p:blipFill>
        <p:spPr>
          <a:xfrm>
            <a:off x="250920" y="2492280"/>
            <a:ext cx="1428480" cy="10717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7"/>
          <p:cNvSpPr/>
          <p:nvPr/>
        </p:nvSpPr>
        <p:spPr>
          <a:xfrm>
            <a:off x="1643040" y="2071800"/>
            <a:ext cx="64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ряд можно сделать опять из черной бум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8"/>
          <p:cNvSpPr/>
          <p:nvPr/>
        </p:nvSpPr>
        <p:spPr>
          <a:xfrm>
            <a:off x="1835280" y="2500200"/>
            <a:ext cx="509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я телеги. Собираются модули в ряд и в шахматном порядке нанизываются модули один на другой. Длина телеги 10-12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G:\рома\фото\DSC07969.JPG"/>
          <p:cNvPicPr/>
          <p:nvPr/>
        </p:nvPicPr>
        <p:blipFill>
          <a:blip r:embed="rId4"/>
          <a:stretch/>
        </p:blipFill>
        <p:spPr>
          <a:xfrm>
            <a:off x="7000920" y="3214800"/>
            <a:ext cx="1562040" cy="11714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C:\Documents and Settings\Данил\Рабочий стол\повозка\DSC07975.JPG"/>
          <p:cNvPicPr/>
          <p:nvPr/>
        </p:nvPicPr>
        <p:blipFill>
          <a:blip r:embed="rId5"/>
          <a:stretch/>
        </p:blipFill>
        <p:spPr>
          <a:xfrm>
            <a:off x="684360" y="3789360"/>
            <a:ext cx="1352520" cy="10191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1"/>
          <p:cNvSpPr/>
          <p:nvPr/>
        </p:nvSpPr>
        <p:spPr>
          <a:xfrm>
            <a:off x="1979640" y="3716280"/>
            <a:ext cx="502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а на телеги крепим с помощью зубоч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12" descr="C:\Documents and Settings\Данил\Рабочий стол\повозка\DSC07976.JPG"/>
          <p:cNvPicPr/>
          <p:nvPr/>
        </p:nvPicPr>
        <p:blipFill>
          <a:blip r:embed="rId6"/>
          <a:srcRect l="0" t="6695" r="13780" b="20032"/>
          <a:stretch/>
        </p:blipFill>
        <p:spPr>
          <a:xfrm>
            <a:off x="1763640" y="5084640"/>
            <a:ext cx="2071800" cy="10000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3" descr="C:\Documents and Settings\Данил\Рабочий стол\повозка\DSC07998.JPG"/>
          <p:cNvPicPr/>
          <p:nvPr/>
        </p:nvPicPr>
        <p:blipFill>
          <a:blip r:embed="rId7"/>
          <a:srcRect l="49242" t="70093" r="15060" b="0"/>
          <a:stretch/>
        </p:blipFill>
        <p:spPr>
          <a:xfrm>
            <a:off x="5003640" y="5013360"/>
            <a:ext cx="17146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F:\рома\DSC08019.JPG"/>
          <p:cNvPicPr/>
          <p:nvPr/>
        </p:nvPicPr>
        <p:blipFill>
          <a:blip r:embed="rId1"/>
          <a:stretch/>
        </p:blipFill>
        <p:spPr>
          <a:xfrm>
            <a:off x="1547640" y="98100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F:\рома\DSC08017.JPG"/>
          <p:cNvPicPr/>
          <p:nvPr/>
        </p:nvPicPr>
        <p:blipFill>
          <a:blip r:embed="rId2"/>
          <a:stretch/>
        </p:blipFill>
        <p:spPr>
          <a:xfrm>
            <a:off x="1476360" y="3716280"/>
            <a:ext cx="2930400" cy="2197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E:\проект 2012г\повозка\DSC07899.JPG"/>
          <p:cNvPicPr/>
          <p:nvPr/>
        </p:nvPicPr>
        <p:blipFill>
          <a:blip r:embed="rId3"/>
          <a:stretch/>
        </p:blipFill>
        <p:spPr>
          <a:xfrm>
            <a:off x="4932360" y="83664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E:\проект 2012г\повозка\DSC07949.JPG"/>
          <p:cNvPicPr/>
          <p:nvPr/>
        </p:nvPicPr>
        <p:blipFill>
          <a:blip r:embed="rId4"/>
          <a:srcRect l="2028" t="60664" r="64102" b="-7012"/>
          <a:stretch/>
        </p:blipFill>
        <p:spPr>
          <a:xfrm>
            <a:off x="5148360" y="3429000"/>
            <a:ext cx="2573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Bookman Old Style"/>
              </a:rPr>
              <a:t>ИСПОЛЬЗУЕМАЯ ЛИТЕРАТУРА И САЙТЫ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85840" y="1571400"/>
            <a:ext cx="885816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някова Т.Н. Забавные фигурки. Модульное оригами (М.: АСТ-Пресс. 20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planetaorigami.ru/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ланета ориг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stranamasterov.ru/taxonomy/term/47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Модульное ориг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masterica.maxiwebsite.ru/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Сайт Галины Тихов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7:01:10Z</dcterms:created>
  <dc:creator>Admin</dc:creator>
  <dc:description/>
  <dc:language>en-US</dc:language>
  <cp:lastModifiedBy>Данил</cp:lastModifiedBy>
  <dcterms:modified xsi:type="dcterms:W3CDTF">2012-11-20T10:08:19Z</dcterms:modified>
  <cp:revision>179</cp:revision>
  <dc:subject/>
  <dc:title>Слоник-Циркач</dc:title>
</cp:coreProperties>
</file>