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5.jpeg" ContentType="image/jpeg"/>
  <Override PartName="/ppt/media/image2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44.jpeg" ContentType="image/jpeg"/>
  <Override PartName="/ppt/media/image31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8.gif" ContentType="image/gif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6.jpeg" ContentType="image/jpeg"/>
  <Override PartName="/ppt/media/image27.jpeg" ContentType="image/jpeg"/>
  <Override PartName="/ppt/media/image33.jpeg" ContentType="image/jpeg"/>
  <Override PartName="/ppt/media/image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2CA0-45B1-4003-8FE9-686D6C0D8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3B1F-49CF-437B-AF41-018F4B454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664669-6259-409C-85C6-C1F61B565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635F06-5A1E-4D26-8FBF-645E515A4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C2BF87-5CD4-4858-8B30-CC3C790C4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FEBD01-B435-45FD-A830-A39C7E0B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812FB9-5DC7-419D-B102-AEA0AFA5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076A39-6B5E-4DCE-8426-E8418A5F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9C3CCC-8BB0-41F4-8E1A-BA140DD4C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9A1974-0DA7-41EE-B842-BA2BBA146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1E2E90-470F-4D5D-B2A0-5357D418D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5C6F69-7F1E-4491-85E8-F9CBC33F1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FC8A-AB77-40C0-A148-BB2B078EA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E192FA-233E-4237-A6A5-67C09CDC5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CBA39A-2A43-4A0D-BEDF-AF86EAB14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5B4868-C6BD-4386-82BE-3E46E1E5D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95B96B-2755-4679-A386-54687E713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D0CAAD-9697-44EF-A999-50478382F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7E04D0-F8DE-4329-AFC1-C3F23883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8416A3-659C-4D1D-9FC3-6C7AF986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73E997-BBFD-45E5-AB21-24147203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B88613-CB1B-45B4-BB18-47B2746F1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595EC3-F8AF-4F6E-A9A5-ED9C4FB18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BB51-97A4-45D2-9206-67616C382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1C3962-34F0-4B98-AB2F-CCFCFAA83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71D5104-BB1F-476C-9E77-897F5B608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3636F7B-246D-422E-BA35-9D61974CA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EA06148-6DF7-4A4D-A31A-917234705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D6D5DBF-C06A-4CED-9311-0A29445E7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B13E42B-D566-4D67-9C72-EC81823B3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EA6F0FF-1DB8-4728-932A-5D26A7102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A81AE00-B059-4146-8196-250EE424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68975CC-57BB-4555-9D62-7E2DB578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E699C9B-E343-45D7-8A4A-16154FCD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FC322-E4C6-4D20-8119-BF895D94E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207CB63-C9D4-4B24-8B1C-D282E5FC1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EE8ADBD-51EF-4CC5-8226-1BD635CF0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08ECCE2-B23C-4299-8271-9D3F7257E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242A23-1A7C-4DC0-8318-C6E22C8BC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D21653-B447-4CFF-B9BA-3F95B04ED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98B7BE-DAB1-4970-9AA1-015E937CB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F2F2D8-EAB5-46C5-9749-74AB55DC1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885576-DFE0-45F3-B1C9-515CD0895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61F609-574C-4D69-A83D-D717BA8ED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C51A82-A575-447F-BCFC-2604AC05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E5800-C612-4876-9739-E62E44AD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2F62EC-29F0-45EB-B7E5-2BF27101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FC76B7-4B70-402E-B2C2-AB0AC612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E12ACF-3A74-40D6-812A-A0610807F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89A2CF-D94D-402A-BFC2-880AF84D0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27034F-5504-4F11-80CA-A85D21AF8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EA93C-AD37-4E99-9330-AE1E12C18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16380-4DE7-4EAF-8568-13369588B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035A0-EF07-4367-B182-10AD5A4AB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BF47A-5D5D-43D7-8314-D28ACEA90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E49E3-788F-4F44-B733-298A2793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BF92-463E-48B3-B1E5-8FD786B20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B3231-1E59-4939-B830-E5A6505C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11633-7EB4-42A5-977D-3CBBA7A2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D1562-5B8D-4EA6-B00A-26D0D7848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A924B-34C6-4F04-B7D6-06C9E537F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09D11-CEDB-471D-AF46-F7E09F1B2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E8630-26CC-45C7-8883-036A7C45F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DD7EF-84F5-4DE3-8C48-867074E88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93EF4-2B12-41A5-9C61-E74DF4340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FA776-90DB-45A0-A449-0ACE6BC9A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97C85-3DF6-473A-BC7E-0D362F251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B0B4-1629-4B98-AE35-CE89BD30B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14FCE-D150-47C6-9AD7-4503A3C20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EC628-5DA5-4533-9F52-E115253D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71301-B32B-494B-B899-27606200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BA2A4-9A3E-4150-B34E-10639D250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F315C-70E3-4A70-BF5B-7809202BC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ACD3E-7E4D-4E63-8C97-E7FD2C845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1F849-3EF9-4B7B-BCD8-3B8AC8F67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753F4-4A6B-4482-97D1-34C00C3AF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C7A09-F8E6-4421-9DC3-28D2DF9FC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1333C-BACA-4F65-A1E0-925F2F02D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1E83-2582-4D0F-9AA3-7C472E898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A9CB4-C1A7-48E0-991E-A0C8CAD0D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552B9-7D23-410A-9534-0643F405E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9FF09-113C-41DC-9122-57392F039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A2970-FDBE-4A8A-966C-C0F33B17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AED1E-7176-4355-ADE5-2FD2D835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51DAB-2E81-4964-9234-CE39A8AC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D4AC4-2556-451A-ABB0-7A1EC6E13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EAB66-7E3C-4C0F-930B-96BC9AB35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B7413-8AF2-4C3A-8852-844518200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37132-3F9A-4F25-99E3-0D76F6F06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C35E-E282-42CA-96FA-31527DB6C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37F27-1FCD-4CB4-96EA-B3C0FEFEB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177DB-D18F-41AB-AE31-2F09E1A40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52EDB-4E32-4247-8F18-A1DAFCD1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3A46D-66CF-4883-A0D9-38374D868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2AD75-D910-422B-B400-D6D180FFF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505ED-1C39-4AC3-81A0-A8A6F435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68EA8-ED0C-44C1-BA88-E3EB975B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70960-E630-4645-8A87-F3BFCFAC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B7FA2-3BF5-4D18-A777-1FB4483CF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59533-3FDB-487A-BDD5-879B23B29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3C29-F319-43E5-BED9-78586DEDA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435EE-6B03-4C45-B585-F2080B90F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0306B-A123-435D-97E7-003F3089B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8278F-DF25-415D-91D0-A790DAA95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48A02-C1D0-47B4-8899-3B8CC7C45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76609-0771-4173-A35C-1F7122C5F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0A98A1-52C4-4907-9AD2-FEE80CF1B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82A4A-B906-4D32-987B-968D8FABD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4DDBD-8F2C-4BD9-9C9A-787A21C5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9D2F2-34E7-4466-A190-D3811FCA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7F65C-D4EC-4CC1-92A0-43235546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9268-0CA1-4C9F-AC2F-B89F8403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EF65B-B366-4644-85F9-B0B0D3B3F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D1AA4-1584-4051-B8E4-1527EA727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CC6B5-7BEE-4BA3-AD3F-84B8E7D4A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69A06-D287-486A-99FD-706EBBD21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70770E-D85A-41B0-B038-6896F464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07C801-577A-470C-8A18-F7462DCF5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46278-D42B-42B0-A69A-B2A24043E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16E61-F87A-40B5-BE13-B999F7E28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620CB-ECFD-47DE-878B-4C6F1415A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C91C87-8CAC-4F39-BB75-EB9A6FB5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11A2-E4C9-499D-B8C2-284CC50A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7BFB6-7822-4385-BC94-AD161AC6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E06076-350C-4CC5-924B-29008CF4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2CD97D-A2B7-47E4-AB2D-623C09DB9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811741-16F1-48A3-868E-659986500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B9FDC-8137-40E2-A179-309ABA2B7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5361B5-9A84-43C2-ADE8-595D0F1BC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E2A248-C5D0-4A8F-8190-3CB813BE2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52F262-70CA-4DEF-977B-9DA6EF783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BDEB43-C871-42D6-B036-5EFFED105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7F0BD6-1482-4F4B-89AC-E8AEBA008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C943-A707-4CF8-818D-8A7C3727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AB9576-5E4E-4BDE-8C93-57D6B04B9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18B11-B881-4012-B915-3EBF14F9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84BD95-27B7-4D07-A31A-6D967411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C9A520-B8B2-4B87-AC0F-7C4739CB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1461E6-A877-4681-8483-BF4B402D4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BB23AF-8165-4F10-B32D-92D7A0D21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B20D8A-757E-417F-9444-D88174C95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7F76B5-4E56-4841-9FBA-F1D40CDDE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7C1F39-F0AA-42AD-B6F6-B4B858544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D21CE9-129C-4EA3-A2A6-5CC83F07B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ea0b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d89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78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789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78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789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2EC09-7F1F-41D6-B8B3-6F9085FF2185}" type="slidenum">
              <a:rPr b="0" lang="en-US" sz="1600" spc="-1" strike="noStrike">
                <a:solidFill>
                  <a:srgbClr val="7b7890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7890"/>
                </a:solidFill>
                <a:latin typeface="Century Gothic"/>
              </a:rPr>
              <a:t>Click to edit the title text format</a:t>
            </a:r>
            <a:endParaRPr b="0" lang="en-US" sz="3300" spc="-1" strike="noStrike">
              <a:solidFill>
                <a:srgbClr val="7b7890"/>
              </a:solidFill>
              <a:latin typeface="Century Gothic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1" marL="547560" indent="-272880">
              <a:spcBef>
                <a:spcPts val="675"/>
              </a:spcBef>
              <a:buClr>
                <a:srgbClr val="ccaf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2" marL="822240" indent="-228600">
              <a:spcBef>
                <a:spcPts val="675"/>
              </a:spcBef>
              <a:buClr>
                <a:srgbClr val="8d89a4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3" marL="1096920" indent="-228600">
              <a:spcBef>
                <a:spcPts val="675"/>
              </a:spcBef>
              <a:buClr>
                <a:srgbClr val="74856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4" marL="1371600" indent="-228600">
              <a:spcBef>
                <a:spcPts val="675"/>
              </a:spcBef>
              <a:buClr>
                <a:srgbClr val="9e92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ea0b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Прямая соединительная линия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789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d89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6ea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78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78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d89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7890"/>
                </a:solidFill>
                <a:latin typeface="Century Gothic"/>
              </a:rPr>
              <a:t>Click to edit the title text format</a:t>
            </a:r>
            <a:endParaRPr b="0" lang="en-US" sz="3300" spc="-1" strike="noStrike">
              <a:solidFill>
                <a:srgbClr val="7b7890"/>
              </a:solidFill>
              <a:latin typeface="Century Gothic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1" marL="547560" indent="-272880">
              <a:spcBef>
                <a:spcPts val="675"/>
              </a:spcBef>
              <a:buClr>
                <a:srgbClr val="ccaf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2" marL="822240" indent="-228600">
              <a:spcBef>
                <a:spcPts val="675"/>
              </a:spcBef>
              <a:buClr>
                <a:srgbClr val="8d89a4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3" marL="1096920" indent="-228600">
              <a:spcBef>
                <a:spcPts val="675"/>
              </a:spcBef>
              <a:buClr>
                <a:srgbClr val="74856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4" marL="1371600" indent="-228600">
              <a:spcBef>
                <a:spcPts val="675"/>
              </a:spcBef>
              <a:buClr>
                <a:srgbClr val="9e92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789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E5ADA-2C5E-4AB7-8D1B-2D00B8DD0B74}" type="slidenum">
              <a:rPr b="0" lang="en-US" sz="1600" spc="-1" strike="noStrike">
                <a:solidFill>
                  <a:srgbClr val="7b7890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ea0b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d89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78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ая соединительная линия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789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Овал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Овал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78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7890"/>
                </a:solidFill>
                <a:latin typeface="Century Gothic"/>
              </a:rPr>
              <a:t>Click to edit the title text format</a:t>
            </a:r>
            <a:endParaRPr b="0" lang="en-US" sz="3300" spc="-1" strike="noStrike">
              <a:solidFill>
                <a:srgbClr val="7b7890"/>
              </a:solidFill>
              <a:latin typeface="Century Gothic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1" marL="547560" indent="-272880">
              <a:spcBef>
                <a:spcPts val="675"/>
              </a:spcBef>
              <a:buClr>
                <a:srgbClr val="ccaf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2" marL="822240" indent="-228600">
              <a:spcBef>
                <a:spcPts val="675"/>
              </a:spcBef>
              <a:buClr>
                <a:srgbClr val="8d89a4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3" marL="1096920" indent="-228600">
              <a:spcBef>
                <a:spcPts val="675"/>
              </a:spcBef>
              <a:buClr>
                <a:srgbClr val="74856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4" marL="1371600" indent="-228600">
              <a:spcBef>
                <a:spcPts val="675"/>
              </a:spcBef>
              <a:buClr>
                <a:srgbClr val="9e92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sldNum" idx="31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789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A3DCF-31E5-460D-B00C-4CF292A2CEC7}" type="slidenum">
              <a:rPr b="0" lang="en-US" sz="1600" spc="-1" strike="noStrike">
                <a:solidFill>
                  <a:srgbClr val="7b7890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dt" idx="3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ftr" idx="3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1"/>
            </a:gs>
            <a:gs pos="100000">
              <a:srgbClr val="cc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3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554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5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56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60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FD9A7-7B21-4F31-A6BF-3F4869933EB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1"/>
            </a:gs>
            <a:gs pos="100000">
              <a:srgbClr val="cc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4A5A1-1EAB-4969-B69E-356F80CD66F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ea0b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d89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78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789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78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7890"/>
                </a:solidFill>
                <a:latin typeface="Century Gothic"/>
              </a:rPr>
              <a:t>Click to edit the title text format</a:t>
            </a:r>
            <a:endParaRPr b="0" lang="en-US" sz="3300" spc="-1" strike="noStrike">
              <a:solidFill>
                <a:srgbClr val="7b789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1" marL="547560" indent="-272880">
              <a:spcBef>
                <a:spcPts val="675"/>
              </a:spcBef>
              <a:buClr>
                <a:srgbClr val="ccaf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2" marL="822240" indent="-228600">
              <a:spcBef>
                <a:spcPts val="675"/>
              </a:spcBef>
              <a:buClr>
                <a:srgbClr val="8d89a4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3" marL="1096920" indent="-228600">
              <a:spcBef>
                <a:spcPts val="675"/>
              </a:spcBef>
              <a:buClr>
                <a:srgbClr val="74856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4" marL="1371600" indent="-228600">
              <a:spcBef>
                <a:spcPts val="675"/>
              </a:spcBef>
              <a:buClr>
                <a:srgbClr val="9e92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789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CF0F0-645B-43CB-B173-D9847F9FB383}" type="slidenum">
              <a:rPr b="0" lang="en-US" sz="1600" spc="-1" strike="noStrike">
                <a:solidFill>
                  <a:srgbClr val="7b7890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ea0b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6ea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d89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78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789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Овал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Овал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78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7890"/>
                </a:solidFill>
                <a:latin typeface="Century Gothic"/>
              </a:rPr>
              <a:t>Click to edit the title text format</a:t>
            </a:r>
            <a:endParaRPr b="0" lang="en-US" sz="3300" spc="-1" strike="noStrike">
              <a:solidFill>
                <a:srgbClr val="7b7890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1" marL="547560" indent="-272880">
              <a:spcBef>
                <a:spcPts val="675"/>
              </a:spcBef>
              <a:buClr>
                <a:srgbClr val="ccaf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2" marL="822240" indent="-228600">
              <a:spcBef>
                <a:spcPts val="675"/>
              </a:spcBef>
              <a:buClr>
                <a:srgbClr val="8d89a4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3" marL="1096920" indent="-228600">
              <a:spcBef>
                <a:spcPts val="675"/>
              </a:spcBef>
              <a:buClr>
                <a:srgbClr val="74856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4" marL="1371600" indent="-228600">
              <a:spcBef>
                <a:spcPts val="675"/>
              </a:spcBef>
              <a:buClr>
                <a:srgbClr val="9e92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789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AAA97-B5FE-4403-9B59-D61581B8A18C}" type="slidenum">
              <a:rPr b="0" lang="en-US" sz="1600" spc="-1" strike="noStrike">
                <a:solidFill>
                  <a:srgbClr val="7b7890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ea0b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d89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78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789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78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3b3b3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7890"/>
                </a:solidFill>
                <a:latin typeface="Century Gothic"/>
              </a:rPr>
              <a:t>Click to edit the title text format</a:t>
            </a:r>
            <a:endParaRPr b="0" lang="en-US" sz="3300" spc="-1" strike="noStrike">
              <a:solidFill>
                <a:srgbClr val="7b7890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1" marL="547560" indent="-272880">
              <a:spcBef>
                <a:spcPts val="675"/>
              </a:spcBef>
              <a:buClr>
                <a:srgbClr val="ccaf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2" marL="822240" indent="-228600">
              <a:spcBef>
                <a:spcPts val="675"/>
              </a:spcBef>
              <a:buClr>
                <a:srgbClr val="8d89a4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3" marL="1096920" indent="-228600">
              <a:spcBef>
                <a:spcPts val="675"/>
              </a:spcBef>
              <a:buClr>
                <a:srgbClr val="74856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4" marL="1371600" indent="-228600">
              <a:spcBef>
                <a:spcPts val="675"/>
              </a:spcBef>
              <a:buClr>
                <a:srgbClr val="9e92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789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6F8A5-4CC1-40D5-9885-E58AC9491D3D}" type="slidenum">
              <a:rPr b="0" lang="en-US" sz="1600" spc="-1" strike="noStrike">
                <a:solidFill>
                  <a:srgbClr val="7b7890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ea0b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3b3b3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6ea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d89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789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78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Овал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78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7890"/>
                </a:solidFill>
                <a:latin typeface="Century Gothic"/>
              </a:rPr>
              <a:t>Click to edit the title text format</a:t>
            </a:r>
            <a:endParaRPr b="0" lang="en-US" sz="3300" spc="-1" strike="noStrike">
              <a:solidFill>
                <a:srgbClr val="7b7890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1" marL="547560" indent="-272880">
              <a:spcBef>
                <a:spcPts val="675"/>
              </a:spcBef>
              <a:buClr>
                <a:srgbClr val="ccaf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2" marL="822240" indent="-228600">
              <a:spcBef>
                <a:spcPts val="675"/>
              </a:spcBef>
              <a:buClr>
                <a:srgbClr val="8d89a4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3" marL="1096920" indent="-228600">
              <a:spcBef>
                <a:spcPts val="675"/>
              </a:spcBef>
              <a:buClr>
                <a:srgbClr val="74856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4" marL="1371600" indent="-228600">
              <a:spcBef>
                <a:spcPts val="675"/>
              </a:spcBef>
              <a:buClr>
                <a:srgbClr val="9e92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789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8A809-1379-4021-996E-A01F1D0AF6C8}" type="slidenum">
              <a:rPr b="0" lang="en-US" sz="1600" spc="-1" strike="noStrike">
                <a:solidFill>
                  <a:srgbClr val="7b7890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ea0b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d89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78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789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78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7890"/>
                </a:solidFill>
                <a:latin typeface="Century Gothic"/>
              </a:rPr>
              <a:t>Click to edit the title text format</a:t>
            </a:r>
            <a:endParaRPr b="0" lang="en-US" sz="3300" spc="-1" strike="noStrike">
              <a:solidFill>
                <a:srgbClr val="7b7890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1" marL="547560" indent="-272880">
              <a:spcBef>
                <a:spcPts val="675"/>
              </a:spcBef>
              <a:buClr>
                <a:srgbClr val="ccaf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2" marL="822240" indent="-228600">
              <a:spcBef>
                <a:spcPts val="675"/>
              </a:spcBef>
              <a:buClr>
                <a:srgbClr val="8d89a4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3" marL="1096920" indent="-228600">
              <a:spcBef>
                <a:spcPts val="675"/>
              </a:spcBef>
              <a:buClr>
                <a:srgbClr val="74856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4" marL="1371600" indent="-228600">
              <a:spcBef>
                <a:spcPts val="675"/>
              </a:spcBef>
              <a:buClr>
                <a:srgbClr val="9e92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789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8F31B-84B4-404D-8305-53383BCD9E54}" type="slidenum">
              <a:rPr b="0" lang="en-US" sz="1600" spc="-1" strike="noStrike">
                <a:solidFill>
                  <a:srgbClr val="7b7890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ea0b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d89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78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7890"/>
                </a:solidFill>
                <a:latin typeface="Century Gothic"/>
              </a:rPr>
              <a:t>Click to edit the title text format</a:t>
            </a:r>
            <a:endParaRPr b="0" lang="en-US" sz="3300" spc="-1" strike="noStrike">
              <a:solidFill>
                <a:srgbClr val="7b7890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1" marL="547560" indent="-272880">
              <a:spcBef>
                <a:spcPts val="675"/>
              </a:spcBef>
              <a:buClr>
                <a:srgbClr val="ccaf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2" marL="822240" indent="-228600">
              <a:spcBef>
                <a:spcPts val="675"/>
              </a:spcBef>
              <a:buClr>
                <a:srgbClr val="8d89a4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3" marL="1096920" indent="-228600">
              <a:spcBef>
                <a:spcPts val="675"/>
              </a:spcBef>
              <a:buClr>
                <a:srgbClr val="74856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4" marL="1371600" indent="-228600">
              <a:spcBef>
                <a:spcPts val="675"/>
              </a:spcBef>
              <a:buClr>
                <a:srgbClr val="9e92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6ED1F-D76F-4647-9782-4C51FCF02CB0}" type="slidenum"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ea0b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Прямоугольник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d89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6ea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78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ая соединительная линия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789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78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d89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7890"/>
                </a:solidFill>
                <a:latin typeface="Century Gothic"/>
              </a:rPr>
              <a:t>Click to edit the title text format</a:t>
            </a:r>
            <a:endParaRPr b="0" lang="en-US" sz="3300" spc="-1" strike="noStrike">
              <a:solidFill>
                <a:srgbClr val="7b7890"/>
              </a:solidFill>
              <a:latin typeface="Century Gothic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1" marL="547560" indent="-272880">
              <a:spcBef>
                <a:spcPts val="675"/>
              </a:spcBef>
              <a:buClr>
                <a:srgbClr val="ccaf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2" marL="822240" indent="-228600">
              <a:spcBef>
                <a:spcPts val="675"/>
              </a:spcBef>
              <a:buClr>
                <a:srgbClr val="8d89a4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3" marL="1096920" indent="-228600">
              <a:spcBef>
                <a:spcPts val="675"/>
              </a:spcBef>
              <a:buClr>
                <a:srgbClr val="74856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4" marL="1371600" indent="-228600">
              <a:spcBef>
                <a:spcPts val="675"/>
              </a:spcBef>
              <a:buClr>
                <a:srgbClr val="9e92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789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5CE4E-E3C9-46E9-9DC7-5257C9CDA588}" type="slidenum">
              <a:rPr b="0" lang="en-US" sz="1600" spc="-1" strike="noStrike">
                <a:solidFill>
                  <a:srgbClr val="7b7890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hyperlink" Target="http://tehnologi.su/index/konkurs_1812/0-515" TargetMode="External"/><Relationship Id="rId5" Type="http://schemas.openxmlformats.org/officeDocument/2006/relationships/hyperlink" Target="http://tehnologi.su/index/konkurs_1812/0-515" TargetMode="External"/><Relationship Id="rId6" Type="http://schemas.openxmlformats.org/officeDocument/2006/relationships/hyperlink" Target="http://tehnologi.su/index/konkurs_1812/0-515" TargetMode="External"/><Relationship Id="rId7" Type="http://schemas.openxmlformats.org/officeDocument/2006/relationships/hyperlink" Target="http://tehnologi.su/index/konkurs_1812/0-515" TargetMode="External"/><Relationship Id="rId8" Type="http://schemas.openxmlformats.org/officeDocument/2006/relationships/hyperlink" Target="http://tehnologi.su/index/konkurs_1812/0-515" TargetMode="External"/><Relationship Id="rId9" Type="http://schemas.openxmlformats.org/officeDocument/2006/relationships/hyperlink" Target="http://tehnologi.su/index/konkurs_1812/0-515" TargetMode="External"/><Relationship Id="rId10" Type="http://schemas.openxmlformats.org/officeDocument/2006/relationships/image" Target="../media/image4.gif"/><Relationship Id="rId1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6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6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6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6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6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6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6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e1"/>
            </a:gs>
            <a:gs pos="100000">
              <a:srgbClr val="cc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1"/>
          <p:cNvSpPr/>
          <p:nvPr/>
        </p:nvSpPr>
        <p:spPr>
          <a:xfrm>
            <a:off x="895968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Содержимое 6" descr="header.jpg"/>
          <p:cNvPicPr/>
          <p:nvPr/>
        </p:nvPicPr>
        <p:blipFill>
          <a:blip r:embed="rId1"/>
          <a:stretch/>
        </p:blipFill>
        <p:spPr>
          <a:xfrm>
            <a:off x="0" y="0"/>
            <a:ext cx="9145440" cy="806400"/>
          </a:xfrm>
          <a:prstGeom prst="rect">
            <a:avLst/>
          </a:prstGeom>
          <a:ln w="0">
            <a:noFill/>
          </a:ln>
        </p:spPr>
      </p:pic>
      <p:pic>
        <p:nvPicPr>
          <p:cNvPr id="605" name="Содержимое 6" descr="slava-s.png"/>
          <p:cNvPicPr/>
          <p:nvPr/>
        </p:nvPicPr>
        <p:blipFill>
          <a:blip r:embed="rId2"/>
          <a:stretch/>
        </p:blipFill>
        <p:spPr>
          <a:xfrm>
            <a:off x="7020000" y="0"/>
            <a:ext cx="1855800" cy="144468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3"/>
          <a:stretch/>
        </p:blipFill>
        <p:spPr>
          <a:xfrm>
            <a:off x="826920" y="2781360"/>
            <a:ext cx="2881440" cy="3672000"/>
          </a:xfrm>
          <a:prstGeom prst="rect">
            <a:avLst/>
          </a:prstGeom>
          <a:ln w="12600">
            <a:solidFill>
              <a:srgbClr val="cc9900"/>
            </a:solidFill>
            <a:miter/>
          </a:ln>
        </p:spPr>
      </p:pic>
      <p:sp>
        <p:nvSpPr>
          <p:cNvPr id="607" name=""/>
          <p:cNvSpPr txBox="1"/>
          <p:nvPr/>
        </p:nvSpPr>
        <p:spPr>
          <a:xfrm>
            <a:off x="4643280" y="1989000"/>
            <a:ext cx="3600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3300"/>
                  </a:solidFill>
                  <a:miter/>
                </a:ln>
                <a:solidFill>
                  <a:srgbClr val="ff9900"/>
                </a:solidFill>
                <a:effectLst>
                  <a:outerShdw dist="107932" dir="18900000" blurRad="0" rotWithShape="0">
                    <a:srgbClr val="990000">
                      <a:alpha val="50000"/>
                    </a:srgbClr>
                  </a:outerShdw>
                </a:effectLst>
                <a:latin typeface="Impact"/>
              </a:rPr>
              <a:t>За Отечество!</a:t>
            </a:r>
            <a:endParaRPr b="0" lang="en-US" sz="1800" spc="1" strike="noStrike">
              <a:ln w="19080">
                <a:solidFill>
                  <a:srgbClr val="993300"/>
                </a:solidFill>
                <a:miter/>
              </a:ln>
              <a:solidFill>
                <a:srgbClr val="ff9900"/>
              </a:solidFill>
              <a:effectLst>
                <a:outerShdw dist="107932" dir="18900000" blurRad="0" rotWithShape="0">
                  <a:srgbClr val="99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8" name=""/>
          <p:cNvSpPr/>
          <p:nvPr/>
        </p:nvSpPr>
        <p:spPr>
          <a:xfrm>
            <a:off x="1769760" y="907920"/>
            <a:ext cx="47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0033"/>
                </a:solidFill>
                <a:uFillTx/>
                <a:latin typeface="Arial"/>
                <a:hlinkClick r:id="rId4"/>
              </a:rPr>
              <a:t>http</a:t>
            </a:r>
            <a:r>
              <a:rPr b="0" lang="ru-RU" sz="1800" spc="-1" strike="noStrike" u="sng">
                <a:solidFill>
                  <a:srgbClr val="990033"/>
                </a:solidFill>
                <a:uFillTx/>
                <a:latin typeface="Arial"/>
                <a:hlinkClick r:id="rId5"/>
              </a:rPr>
              <a:t>://</a:t>
            </a:r>
            <a:r>
              <a:rPr b="0" lang="ru-RU" sz="1800" spc="-1" strike="noStrike" u="sng">
                <a:solidFill>
                  <a:srgbClr val="990033"/>
                </a:solidFill>
                <a:uFillTx/>
                <a:latin typeface="Arial"/>
                <a:hlinkClick r:id="rId6"/>
              </a:rPr>
              <a:t>tehnologi.su</a:t>
            </a:r>
            <a:r>
              <a:rPr b="0" lang="ru-RU" sz="1800" spc="-1" strike="noStrike" u="sng">
                <a:solidFill>
                  <a:srgbClr val="990033"/>
                </a:solidFill>
                <a:uFillTx/>
                <a:latin typeface="Arial"/>
                <a:hlinkClick r:id="rId7"/>
              </a:rPr>
              <a:t>/</a:t>
            </a:r>
            <a:r>
              <a:rPr b="0" lang="ru-RU" sz="1800" spc="-1" strike="noStrike" u="sng">
                <a:solidFill>
                  <a:srgbClr val="990033"/>
                </a:solidFill>
                <a:uFillTx/>
                <a:latin typeface="Arial"/>
                <a:hlinkClick r:id="rId8"/>
              </a:rPr>
              <a:t>index</a:t>
            </a:r>
            <a:r>
              <a:rPr b="0" lang="ru-RU" sz="1800" spc="-1" strike="noStrike" u="sng">
                <a:solidFill>
                  <a:srgbClr val="990033"/>
                </a:solidFill>
                <a:uFillTx/>
                <a:latin typeface="Arial"/>
                <a:hlinkClick r:id="rId9"/>
              </a:rPr>
              <a:t>/konkurs_1812/0-5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755640" y="1557360"/>
            <a:ext cx="2952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33"/>
                </a:solidFill>
                <a:latin typeface="Arial"/>
              </a:rPr>
              <a:t>Номинация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0033"/>
                </a:solidFill>
                <a:latin typeface="Arial"/>
              </a:rPr>
              <a:t>«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Сюжетная композиция исторических событий 1812 года</a:t>
            </a:r>
            <a:r>
              <a:rPr b="0" i="1" lang="en-US" sz="1600" spc="-1" strike="noStrike">
                <a:solidFill>
                  <a:srgbClr val="330033"/>
                </a:solidFill>
                <a:latin typeface="Arial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924360" y="4724280"/>
            <a:ext cx="4572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0033"/>
                </a:solidFill>
                <a:latin typeface="Arial"/>
              </a:rPr>
              <a:t>Автор: учитель высшей категории Носкова Светлана Юрьев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0033"/>
                </a:solidFill>
                <a:latin typeface="Arial"/>
              </a:rPr>
              <a:t>ГБОУ ООШ № 21 г. Новокуйбышевск Самарской об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726880" y="60213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2012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" descr=""/>
          <p:cNvPicPr/>
          <p:nvPr/>
        </p:nvPicPr>
        <p:blipFill>
          <a:blip r:embed="rId10"/>
          <a:stretch/>
        </p:blipFill>
        <p:spPr>
          <a:xfrm>
            <a:off x="5364000" y="3141720"/>
            <a:ext cx="259272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1"/>
            </a:gs>
            <a:gs pos="100000">
              <a:srgbClr val="cc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Times New Roman"/>
              </a:rPr>
              <a:t>Технология изготовления солдат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826920" y="1773000"/>
            <a:ext cx="75614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обрать солда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формить лицо, украсить мунди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1403280" y="2781360"/>
            <a:ext cx="2662200" cy="3384360"/>
          </a:xfrm>
          <a:prstGeom prst="rect">
            <a:avLst/>
          </a:prstGeom>
          <a:ln w="0">
            <a:noFill/>
          </a:ln>
        </p:spPr>
      </p:pic>
      <p:pic>
        <p:nvPicPr>
          <p:cNvPr id="655" name="" descr=""/>
          <p:cNvPicPr/>
          <p:nvPr/>
        </p:nvPicPr>
        <p:blipFill>
          <a:blip r:embed="rId2"/>
          <a:stretch/>
        </p:blipFill>
        <p:spPr>
          <a:xfrm>
            <a:off x="5580000" y="1916280"/>
            <a:ext cx="2676600" cy="4609800"/>
          </a:xfrm>
          <a:prstGeom prst="rect">
            <a:avLst/>
          </a:prstGeom>
          <a:ln w="19080">
            <a:solidFill>
              <a:srgbClr val="b2b2b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1"/>
            </a:gs>
            <a:gs pos="100000">
              <a:srgbClr val="cc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Технология изготовления оружия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749952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в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Материал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еребряная глянцевая бумаг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трезать полоску длиной 7 см, шириной 2,5 см. Плотно скрутить в трубочку. Для этого можно воспользоваться стержнем от ручки. Приложить стержень к краю полоски и вращательными движениями скрутить трубочку, придерживая край. Край подклеить клеем «ПВА». После того, когда клей высохнет, аккуратно вытащить стержень из трубоч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Rectangle 8" descr=""/>
          <p:cNvPicPr/>
          <p:nvPr/>
        </p:nvPicPr>
        <p:blipFill>
          <a:blip r:embed="rId1"/>
          <a:stretch/>
        </p:blipFill>
        <p:spPr>
          <a:xfrm>
            <a:off x="2556000" y="3716280"/>
            <a:ext cx="4392360" cy="2867040"/>
          </a:xfrm>
          <a:prstGeom prst="rect">
            <a:avLst/>
          </a:prstGeom>
          <a:ln w="12600">
            <a:solidFill>
              <a:srgbClr val="b2b2b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1"/>
            </a:gs>
            <a:gs pos="100000">
              <a:srgbClr val="cc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Технология изготовления ружья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187280" y="1628640"/>
            <a:ext cx="7499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Цевьё и прикл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Материал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 Полосок  коричневого цвета шириной 3 м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делать свободные ролл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репления на ремень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лоски бумаги  длиной 5-6 см, шириной 3 мм накрутить на стержень шариковой ручки (можно на ушные палочки), таким образом, чтобы внутри была полость.  Конец закрепить клеем «ПВА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1"/>
          <a:stretch/>
        </p:blipFill>
        <p:spPr>
          <a:xfrm>
            <a:off x="4140360" y="4221000"/>
            <a:ext cx="4032000" cy="2240280"/>
          </a:xfrm>
          <a:prstGeom prst="rect">
            <a:avLst/>
          </a:prstGeom>
          <a:ln w="12600">
            <a:solidFill>
              <a:srgbClr val="b2b2b2"/>
            </a:solidFill>
            <a:miter/>
          </a:ln>
        </p:spPr>
      </p:pic>
      <p:pic>
        <p:nvPicPr>
          <p:cNvPr id="662" name="" descr=""/>
          <p:cNvPicPr/>
          <p:nvPr/>
        </p:nvPicPr>
        <p:blipFill>
          <a:blip r:embed="rId2"/>
          <a:stretch/>
        </p:blipFill>
        <p:spPr>
          <a:xfrm>
            <a:off x="1258920" y="4437000"/>
            <a:ext cx="227952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1"/>
            </a:gs>
            <a:gs pos="100000">
              <a:srgbClr val="cc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Технология изготовления ружья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664" name="" descr=""/>
          <p:cNvPicPr/>
          <p:nvPr/>
        </p:nvPicPr>
        <p:blipFill>
          <a:blip r:embed="rId1"/>
          <a:stretch/>
        </p:blipFill>
        <p:spPr>
          <a:xfrm>
            <a:off x="4427640" y="3645000"/>
            <a:ext cx="4138560" cy="1736640"/>
          </a:xfrm>
          <a:prstGeom prst="rect">
            <a:avLst/>
          </a:prstGeom>
          <a:ln w="12600">
            <a:solidFill>
              <a:srgbClr val="b2b2b2"/>
            </a:solidFill>
            <a:miter/>
          </a:ln>
        </p:spPr>
      </p:pic>
      <p:pic>
        <p:nvPicPr>
          <p:cNvPr id="665" name="" descr=""/>
          <p:cNvPicPr/>
          <p:nvPr/>
        </p:nvPicPr>
        <p:blipFill>
          <a:blip r:embed="rId2"/>
          <a:stretch/>
        </p:blipFill>
        <p:spPr>
          <a:xfrm>
            <a:off x="684360" y="3141720"/>
            <a:ext cx="3384360" cy="2003400"/>
          </a:xfrm>
          <a:prstGeom prst="rect">
            <a:avLst/>
          </a:prstGeom>
          <a:ln w="12600">
            <a:solidFill>
              <a:srgbClr val="b2b2b2"/>
            </a:solidFill>
            <a:miter/>
          </a:ln>
        </p:spPr>
      </p:pic>
      <p:sp>
        <p:nvSpPr>
          <p:cNvPr id="666" name=""/>
          <p:cNvSpPr/>
          <p:nvPr/>
        </p:nvSpPr>
        <p:spPr>
          <a:xfrm>
            <a:off x="4500720" y="2266560"/>
            <a:ext cx="424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ем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лоску длиной 15-16 см, шириной 1,5 мм сложить пополам и вставить в крепления для ремня. Конец закрепить клеем «ПВА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826920" y="1700280"/>
            <a:ext cx="3097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пользуя формы квиллинга «стрелка», «треугольник», «прямоугольник», склеить все части ружь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272600" y="5733360"/>
            <a:ext cx="68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з серебряных полосок шириной 1,5 мм сделать курки и украшение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1"/>
            </a:gs>
            <a:gs pos="100000">
              <a:srgbClr val="cc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Технология изготовления солдат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9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" descr=""/>
          <p:cNvPicPr/>
          <p:nvPr/>
        </p:nvPicPr>
        <p:blipFill>
          <a:blip r:embed="rId1"/>
          <a:stretch/>
        </p:blipFill>
        <p:spPr>
          <a:xfrm>
            <a:off x="3132000" y="1916280"/>
            <a:ext cx="2467080" cy="41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1"/>
            </a:gs>
            <a:gs pos="100000">
              <a:srgbClr val="cc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Технология изготовления лошад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042920" y="1773000"/>
            <a:ext cx="38102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рисовать эски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жно использовать готовую картинку. Заготовленные формы квиллинга (любых форм) выложить при помощи пинцета как мозаику на эскиз, постепенно склеивая их между собой небольшими участками. Собрать при помощи пинцета композиц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4" name="" descr=""/>
          <p:cNvPicPr/>
          <p:nvPr/>
        </p:nvPicPr>
        <p:blipFill>
          <a:blip r:embed="rId1"/>
          <a:stretch/>
        </p:blipFill>
        <p:spPr>
          <a:xfrm>
            <a:off x="1619280" y="4508640"/>
            <a:ext cx="2628720" cy="1971360"/>
          </a:xfrm>
          <a:prstGeom prst="rect">
            <a:avLst/>
          </a:prstGeom>
          <a:ln w="12600">
            <a:solidFill>
              <a:srgbClr val="b2b2b2"/>
            </a:solidFill>
            <a:miter/>
          </a:ln>
        </p:spPr>
      </p:pic>
      <p:pic>
        <p:nvPicPr>
          <p:cNvPr id="675" name="" descr=""/>
          <p:cNvPicPr/>
          <p:nvPr/>
        </p:nvPicPr>
        <p:blipFill>
          <a:blip r:embed="rId2"/>
          <a:stretch/>
        </p:blipFill>
        <p:spPr>
          <a:xfrm>
            <a:off x="5292720" y="2133720"/>
            <a:ext cx="3209760" cy="3744720"/>
          </a:xfrm>
          <a:prstGeom prst="rect">
            <a:avLst/>
          </a:prstGeom>
          <a:ln w="12600">
            <a:solidFill>
              <a:srgbClr val="b2b2b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1"/>
            </a:gs>
            <a:gs pos="100000">
              <a:srgbClr val="cc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990033"/>
                </a:solidFill>
                <a:latin typeface="Times New Roman"/>
              </a:rPr>
              <a:t>Технология изготовления лошади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284360" y="1600200"/>
            <a:ext cx="431964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д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оску бумаги для квиллинга черного цвета, шириной 7 мм, нарезать на бахром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клеить полученную бахрому к седлу с трёх сторо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ученное седло приклеить к лошад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" descr=""/>
          <p:cNvPicPr/>
          <p:nvPr/>
        </p:nvPicPr>
        <p:blipFill>
          <a:blip r:embed="rId1"/>
          <a:stretch/>
        </p:blipFill>
        <p:spPr>
          <a:xfrm>
            <a:off x="5076720" y="4005360"/>
            <a:ext cx="3132360" cy="2349360"/>
          </a:xfrm>
          <a:prstGeom prst="rect">
            <a:avLst/>
          </a:prstGeom>
          <a:ln w="12600">
            <a:solidFill>
              <a:srgbClr val="b2b2b2"/>
            </a:solidFill>
            <a:miter/>
          </a:ln>
        </p:spPr>
      </p:pic>
      <p:pic>
        <p:nvPicPr>
          <p:cNvPr id="679" name="" descr=""/>
          <p:cNvPicPr/>
          <p:nvPr/>
        </p:nvPicPr>
        <p:blipFill>
          <a:blip r:embed="rId2"/>
          <a:stretch/>
        </p:blipFill>
        <p:spPr>
          <a:xfrm>
            <a:off x="1476360" y="1773360"/>
            <a:ext cx="2519280" cy="1908000"/>
          </a:xfrm>
          <a:prstGeom prst="rect">
            <a:avLst/>
          </a:prstGeom>
          <a:ln w="12600">
            <a:solidFill>
              <a:srgbClr val="b2b2b2"/>
            </a:solidFill>
            <a:miter/>
          </a:ln>
        </p:spPr>
      </p:pic>
      <p:pic>
        <p:nvPicPr>
          <p:cNvPr id="680" name="" descr=""/>
          <p:cNvPicPr/>
          <p:nvPr/>
        </p:nvPicPr>
        <p:blipFill>
          <a:blip r:embed="rId3"/>
          <a:stretch/>
        </p:blipFill>
        <p:spPr>
          <a:xfrm>
            <a:off x="1116000" y="4005360"/>
            <a:ext cx="3021120" cy="2138400"/>
          </a:xfrm>
          <a:prstGeom prst="rect">
            <a:avLst/>
          </a:prstGeom>
          <a:ln w="12600">
            <a:solidFill>
              <a:srgbClr val="b2b2b2"/>
            </a:solidFill>
            <a:miter/>
          </a:ln>
        </p:spPr>
      </p:pic>
      <p:sp>
        <p:nvSpPr>
          <p:cNvPr id="681" name=""/>
          <p:cNvSpPr/>
          <p:nvPr/>
        </p:nvSpPr>
        <p:spPr>
          <a:xfrm>
            <a:off x="4572000" y="2276640"/>
            <a:ext cx="3714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1"/>
            </a:gs>
            <a:gs pos="100000">
              <a:srgbClr val="cc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Технология изготовления лошад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3024360" cy="2663640"/>
          </a:xfrm>
          <a:prstGeom prst="rect">
            <a:avLst/>
          </a:prstGeom>
          <a:ln w="0">
            <a:noFill/>
          </a:ln>
        </p:spPr>
      </p:pic>
      <p:pic>
        <p:nvPicPr>
          <p:cNvPr id="684" name="" descr=""/>
          <p:cNvPicPr/>
          <p:nvPr/>
        </p:nvPicPr>
        <p:blipFill>
          <a:blip r:embed="rId2"/>
          <a:stretch/>
        </p:blipFill>
        <p:spPr>
          <a:xfrm>
            <a:off x="2916360" y="3789360"/>
            <a:ext cx="3743280" cy="2806560"/>
          </a:xfrm>
          <a:prstGeom prst="rect">
            <a:avLst/>
          </a:prstGeom>
          <a:ln w="0">
            <a:noFill/>
          </a:ln>
        </p:spPr>
      </p:pic>
      <p:pic>
        <p:nvPicPr>
          <p:cNvPr id="685" name="" descr=""/>
          <p:cNvPicPr/>
          <p:nvPr/>
        </p:nvPicPr>
        <p:blipFill>
          <a:blip r:embed="rId3"/>
          <a:stretch/>
        </p:blipFill>
        <p:spPr>
          <a:xfrm>
            <a:off x="1042920" y="1557360"/>
            <a:ext cx="28782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1"/>
            </a:gs>
            <a:gs pos="100000">
              <a:srgbClr val="cc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Технология изготовления Кутузова</a:t>
            </a:r>
            <a:br>
              <a:rPr sz="3800"/>
            </a:b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932000" y="2276280"/>
            <a:ext cx="380988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уя разные формы квиллинга,  собрать Кутуз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ормить лиц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" descr=""/>
          <p:cNvPicPr/>
          <p:nvPr/>
        </p:nvPicPr>
        <p:blipFill>
          <a:blip r:embed="rId1"/>
          <a:stretch/>
        </p:blipFill>
        <p:spPr>
          <a:xfrm>
            <a:off x="1116000" y="1844640"/>
            <a:ext cx="3549600" cy="4384800"/>
          </a:xfrm>
          <a:prstGeom prst="rect">
            <a:avLst/>
          </a:prstGeom>
          <a:ln w="12600">
            <a:solidFill>
              <a:srgbClr val="b2b2b2"/>
            </a:solidFill>
            <a:miter/>
          </a:ln>
        </p:spPr>
      </p:pic>
      <p:pic>
        <p:nvPicPr>
          <p:cNvPr id="689" name="" descr=""/>
          <p:cNvPicPr/>
          <p:nvPr/>
        </p:nvPicPr>
        <p:blipFill>
          <a:blip r:embed="rId2"/>
          <a:stretch/>
        </p:blipFill>
        <p:spPr>
          <a:xfrm>
            <a:off x="5508720" y="3933720"/>
            <a:ext cx="2663640" cy="1997280"/>
          </a:xfrm>
          <a:prstGeom prst="rect">
            <a:avLst/>
          </a:prstGeom>
          <a:ln w="12600">
            <a:solidFill>
              <a:srgbClr val="b2b2b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1"/>
            </a:gs>
            <a:gs pos="100000">
              <a:srgbClr val="cc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900000" y="54936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Технология изготовления Кутузова</a:t>
            </a:r>
            <a:br>
              <a:rPr sz="3200"/>
            </a:b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5940360" y="1773360"/>
            <a:ext cx="2611440" cy="219384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  <p:pic>
        <p:nvPicPr>
          <p:cNvPr id="692" name="" descr=""/>
          <p:cNvPicPr/>
          <p:nvPr/>
        </p:nvPicPr>
        <p:blipFill>
          <a:blip r:embed="rId2"/>
          <a:stretch/>
        </p:blipFill>
        <p:spPr>
          <a:xfrm>
            <a:off x="1042920" y="1773360"/>
            <a:ext cx="2100240" cy="2305080"/>
          </a:xfrm>
          <a:prstGeom prst="rect">
            <a:avLst/>
          </a:prstGeom>
          <a:ln w="19080">
            <a:solidFill>
              <a:srgbClr val="b2b2b2"/>
            </a:solidFill>
            <a:miter/>
          </a:ln>
        </p:spPr>
      </p:pic>
      <p:pic>
        <p:nvPicPr>
          <p:cNvPr id="693" name="" descr=""/>
          <p:cNvPicPr/>
          <p:nvPr/>
        </p:nvPicPr>
        <p:blipFill>
          <a:blip r:embed="rId3"/>
          <a:stretch/>
        </p:blipFill>
        <p:spPr>
          <a:xfrm>
            <a:off x="2987640" y="3573360"/>
            <a:ext cx="3384720" cy="296244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1"/>
            </a:gs>
            <a:gs pos="100000">
              <a:srgbClr val="cc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Verdana"/>
              </a:rPr>
              <a:t>Технология изготовления солдат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5148360" y="1980720"/>
            <a:ext cx="35812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о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Материал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-5 полосок (липовый мёд) шириной 3 м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клеить полоски между собой внахлёс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крутить полученную длинную полоску в плотный  ролл, одновременно придавая овальную форму. Подклеить внешний конец полоски и дать клею подсохну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ля того чтобы сделать нос, от полоски шириной 1,5 см (можно разрезать полоску 3 см вдоль), отрезать 3-4 см и скрутить в тугой ролл. Приклеить конец полоски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1"/>
          <a:stretch/>
        </p:blipFill>
        <p:spPr>
          <a:xfrm>
            <a:off x="1619280" y="1844640"/>
            <a:ext cx="2768400" cy="2076480"/>
          </a:xfrm>
          <a:prstGeom prst="rect">
            <a:avLst/>
          </a:prstGeom>
          <a:ln w="12600">
            <a:solidFill>
              <a:srgbClr val="b2b2b2"/>
            </a:solidFill>
            <a:miter/>
          </a:ln>
        </p:spPr>
      </p:pic>
      <p:pic>
        <p:nvPicPr>
          <p:cNvPr id="616" name="" descr=""/>
          <p:cNvPicPr/>
          <p:nvPr/>
        </p:nvPicPr>
        <p:blipFill>
          <a:blip r:embed="rId2"/>
          <a:stretch/>
        </p:blipFill>
        <p:spPr>
          <a:xfrm>
            <a:off x="1979640" y="4292640"/>
            <a:ext cx="2057400" cy="1928880"/>
          </a:xfrm>
          <a:prstGeom prst="rect">
            <a:avLst/>
          </a:prstGeom>
          <a:ln w="12600">
            <a:solidFill>
              <a:srgbClr val="b2b2b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1"/>
            </a:gs>
            <a:gs pos="100000">
              <a:srgbClr val="cc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Технология изготовления генерал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695" name="" descr=""/>
          <p:cNvPicPr/>
          <p:nvPr/>
        </p:nvPicPr>
        <p:blipFill>
          <a:blip r:embed="rId1"/>
          <a:stretch/>
        </p:blipFill>
        <p:spPr>
          <a:xfrm>
            <a:off x="1692360" y="2492280"/>
            <a:ext cx="2205000" cy="3934080"/>
          </a:xfrm>
          <a:prstGeom prst="rect">
            <a:avLst/>
          </a:prstGeom>
          <a:ln w="12600">
            <a:solidFill>
              <a:srgbClr val="b2b2b2"/>
            </a:solidFill>
            <a:miter/>
          </a:ln>
        </p:spPr>
      </p:pic>
      <p:sp>
        <p:nvSpPr>
          <p:cNvPr id="696" name=""/>
          <p:cNvSpPr/>
          <p:nvPr/>
        </p:nvSpPr>
        <p:spPr>
          <a:xfrm>
            <a:off x="900000" y="1773360"/>
            <a:ext cx="7777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енерал делается аналогично солдат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" descr=""/>
          <p:cNvPicPr/>
          <p:nvPr/>
        </p:nvPicPr>
        <p:blipFill>
          <a:blip r:embed="rId2"/>
          <a:stretch/>
        </p:blipFill>
        <p:spPr>
          <a:xfrm>
            <a:off x="5292720" y="2492280"/>
            <a:ext cx="2771640" cy="1843200"/>
          </a:xfrm>
          <a:prstGeom prst="rect">
            <a:avLst/>
          </a:prstGeom>
          <a:ln w="0">
            <a:noFill/>
          </a:ln>
        </p:spPr>
      </p:pic>
      <p:pic>
        <p:nvPicPr>
          <p:cNvPr id="698" name="" descr=""/>
          <p:cNvPicPr/>
          <p:nvPr/>
        </p:nvPicPr>
        <p:blipFill>
          <a:blip r:embed="rId3"/>
          <a:stretch/>
        </p:blipFill>
        <p:spPr>
          <a:xfrm>
            <a:off x="5435640" y="4581360"/>
            <a:ext cx="248436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1"/>
            </a:gs>
            <a:gs pos="100000">
              <a:srgbClr val="cc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Оформление картины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1042920" y="2133360"/>
            <a:ext cx="33228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лученные заготовки аккуратно промазать клеем «ПВА» с обратной стороны и приклеить на заранее подготовленную основ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ле чего изделие следует оформить в раму и повесить на сте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1" name="" descr=""/>
          <p:cNvPicPr/>
          <p:nvPr/>
        </p:nvPicPr>
        <p:blipFill>
          <a:blip r:embed="rId1"/>
          <a:srcRect l="0" t="2331" r="3797" b="0"/>
          <a:stretch/>
        </p:blipFill>
        <p:spPr>
          <a:xfrm>
            <a:off x="4572000" y="2276640"/>
            <a:ext cx="4105440" cy="2985840"/>
          </a:xfrm>
          <a:prstGeom prst="rect">
            <a:avLst/>
          </a:prstGeom>
          <a:ln w="12600">
            <a:solidFill>
              <a:srgbClr val="b2b2b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1"/>
            </a:gs>
            <a:gs pos="100000">
              <a:srgbClr val="cc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Verdana"/>
              </a:rPr>
              <a:t>Ресурсы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35280" y="1916280"/>
            <a:ext cx="5689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презентации использован авторский фотоматери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хнология изготовления разработана автор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e1"/>
            </a:gs>
            <a:gs pos="100000">
              <a:srgbClr val="cc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11280" y="1052640"/>
            <a:ext cx="45309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СПАСИБО ЗА ВНИМАНИЕ!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3708360" y="3213000"/>
            <a:ext cx="187164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1"/>
            </a:gs>
            <a:gs pos="100000">
              <a:srgbClr val="cc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Технология изготовления солдат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1187280" y="1773360"/>
            <a:ext cx="2814840" cy="431964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5365080" y="2133720"/>
            <a:ext cx="19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оловной у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643280" y="2781360"/>
            <a:ext cx="3638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пользуя формы квиллинга «капелька», «изогнутая трапеция», «полумесяц», склеить все части головного убо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1"/>
            </a:gs>
            <a:gs pos="100000">
              <a:srgbClr val="cc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Технология изготовления солдат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900000" y="1916280"/>
            <a:ext cx="381024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Полоску гофрокартона длиной 14-15 см, шириной 3 мм сложить пополам и склеить между собой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" descr=""/>
          <p:cNvPicPr/>
          <p:nvPr/>
        </p:nvPicPr>
        <p:blipFill>
          <a:blip r:embed="rId1"/>
          <a:stretch/>
        </p:blipFill>
        <p:spPr>
          <a:xfrm>
            <a:off x="1042920" y="3141720"/>
            <a:ext cx="3529080" cy="2174760"/>
          </a:xfrm>
          <a:prstGeom prst="rect">
            <a:avLst/>
          </a:prstGeom>
          <a:ln w="12600">
            <a:solidFill>
              <a:srgbClr val="b2b2b2"/>
            </a:solidFill>
            <a:miter/>
          </a:ln>
        </p:spPr>
      </p:pic>
      <p:sp>
        <p:nvSpPr>
          <p:cNvPr id="624" name=""/>
          <p:cNvSpPr/>
          <p:nvPr/>
        </p:nvSpPr>
        <p:spPr>
          <a:xfrm>
            <a:off x="3851280" y="155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859280" y="5301360"/>
            <a:ext cx="38671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Из полоски бумаги белого цвета длиной 6-7 см, шириной 5 мм нарезать бахром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крутить в тугой рол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2"/>
          <a:stretch/>
        </p:blipFill>
        <p:spPr>
          <a:xfrm>
            <a:off x="5796000" y="3573360"/>
            <a:ext cx="2016000" cy="1636920"/>
          </a:xfrm>
          <a:prstGeom prst="rect">
            <a:avLst/>
          </a:prstGeom>
          <a:ln w="12600">
            <a:solidFill>
              <a:srgbClr val="b2b2b2"/>
            </a:solidFill>
            <a:miter/>
          </a:ln>
        </p:spPr>
      </p:pic>
      <p:pic>
        <p:nvPicPr>
          <p:cNvPr id="627" name="" descr=""/>
          <p:cNvPicPr/>
          <p:nvPr/>
        </p:nvPicPr>
        <p:blipFill>
          <a:blip r:embed="rId3"/>
          <a:stretch/>
        </p:blipFill>
        <p:spPr>
          <a:xfrm>
            <a:off x="5580000" y="1700280"/>
            <a:ext cx="2484360" cy="1701720"/>
          </a:xfrm>
          <a:prstGeom prst="rect">
            <a:avLst/>
          </a:prstGeom>
          <a:ln w="12600">
            <a:solidFill>
              <a:srgbClr val="b2b2b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1"/>
            </a:gs>
            <a:gs pos="100000">
              <a:srgbClr val="cc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Технология изготовления солдат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629" name="" descr=""/>
          <p:cNvPicPr/>
          <p:nvPr/>
        </p:nvPicPr>
        <p:blipFill>
          <a:blip r:embed="rId1"/>
          <a:srcRect l="6978" t="8445" r="9280" b="3797"/>
          <a:stretch/>
        </p:blipFill>
        <p:spPr>
          <a:xfrm>
            <a:off x="5597640" y="1989000"/>
            <a:ext cx="2790720" cy="4032360"/>
          </a:xfrm>
          <a:prstGeom prst="rect">
            <a:avLst/>
          </a:prstGeom>
          <a:ln w="12600">
            <a:solidFill>
              <a:srgbClr val="b2b2b2"/>
            </a:solidFill>
            <a:miter/>
          </a:ln>
        </p:spPr>
      </p:pic>
      <p:pic>
        <p:nvPicPr>
          <p:cNvPr id="630" name="" descr=""/>
          <p:cNvPicPr/>
          <p:nvPr/>
        </p:nvPicPr>
        <p:blipFill>
          <a:blip r:embed="rId2"/>
          <a:stretch/>
        </p:blipFill>
        <p:spPr>
          <a:xfrm>
            <a:off x="1476360" y="3141720"/>
            <a:ext cx="3168720" cy="2362320"/>
          </a:xfrm>
          <a:prstGeom prst="rect">
            <a:avLst/>
          </a:prstGeom>
          <a:ln w="12600">
            <a:solidFill>
              <a:srgbClr val="b2b2b2"/>
            </a:solidFill>
            <a:miter/>
          </a:ln>
        </p:spPr>
      </p:pic>
      <p:sp>
        <p:nvSpPr>
          <p:cNvPr id="631" name=""/>
          <p:cNvSpPr/>
          <p:nvPr/>
        </p:nvSpPr>
        <p:spPr>
          <a:xfrm>
            <a:off x="1116000" y="2298600"/>
            <a:ext cx="386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 Соединить детали между собой и украсить головной уб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e1"/>
            </a:gs>
            <a:gs pos="100000">
              <a:srgbClr val="cc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684360" y="1466280"/>
            <a:ext cx="784836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унд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Материал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 полосок зелёного цвета шириной 3 мм (левая сторона – 3 полоски, правая – 5 полосок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делать два прямоугольника, при этом один верхний уголок слегка изогнуть вверх. Конец полоски приклеи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042920" y="47628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Verdana"/>
              </a:rPr>
              <a:t>Технология изготовления солд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1"/>
          <a:stretch/>
        </p:blipFill>
        <p:spPr>
          <a:xfrm>
            <a:off x="900000" y="3573360"/>
            <a:ext cx="3205440" cy="2389320"/>
          </a:xfrm>
          <a:prstGeom prst="rect">
            <a:avLst/>
          </a:prstGeom>
          <a:ln w="12600">
            <a:solidFill>
              <a:srgbClr val="b2b2b2"/>
            </a:solidFill>
            <a:miter/>
          </a:ln>
        </p:spPr>
      </p:pic>
      <p:pic>
        <p:nvPicPr>
          <p:cNvPr id="635" name="" descr=""/>
          <p:cNvPicPr/>
          <p:nvPr/>
        </p:nvPicPr>
        <p:blipFill>
          <a:blip r:embed="rId2"/>
          <a:stretch/>
        </p:blipFill>
        <p:spPr>
          <a:xfrm>
            <a:off x="4572000" y="3573360"/>
            <a:ext cx="3816360" cy="2376720"/>
          </a:xfrm>
          <a:prstGeom prst="rect">
            <a:avLst/>
          </a:prstGeom>
          <a:ln w="12600">
            <a:solidFill>
              <a:srgbClr val="b2b2b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1"/>
            </a:gs>
            <a:gs pos="100000">
              <a:srgbClr val="cc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Технология изготовления солдат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2521080" cy="2462040"/>
          </a:xfrm>
          <a:prstGeom prst="rect">
            <a:avLst/>
          </a:prstGeom>
          <a:ln w="12600">
            <a:solidFill>
              <a:srgbClr val="b2b2b2"/>
            </a:solidFill>
            <a:miter/>
          </a:ln>
        </p:spPr>
      </p:pic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971640" y="4797360"/>
            <a:ext cx="2485800" cy="1525680"/>
          </a:xfrm>
          <a:prstGeom prst="rect">
            <a:avLst/>
          </a:prstGeom>
          <a:ln w="12600">
            <a:solidFill>
              <a:srgbClr val="b2b2b2"/>
            </a:solidFill>
            <a:miter/>
          </a:ln>
        </p:spPr>
      </p:pic>
      <p:sp>
        <p:nvSpPr>
          <p:cNvPr id="639" name=""/>
          <p:cNvSpPr/>
          <p:nvPr/>
        </p:nvSpPr>
        <p:spPr>
          <a:xfrm>
            <a:off x="4284720" y="1580400"/>
            <a:ext cx="42260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нжеты, воротник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Материал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 полоска для квиллинга красного цвета, шириной 3 м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пользуя формы квиллинга «прямоугольник» и «изогнутая капля», сделать манжеты и воротни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995640" y="3429000"/>
            <a:ext cx="432144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Материал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полоски зелёного цвета, шириной 3 м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полоска (липовый мёд) шириной 3 м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" descr=""/>
          <p:cNvPicPr/>
          <p:nvPr/>
        </p:nvPicPr>
        <p:blipFill>
          <a:blip r:embed="rId3"/>
          <a:stretch/>
        </p:blipFill>
        <p:spPr>
          <a:xfrm>
            <a:off x="6732720" y="4581360"/>
            <a:ext cx="2087280" cy="2021040"/>
          </a:xfrm>
          <a:prstGeom prst="rect">
            <a:avLst/>
          </a:prstGeom>
          <a:ln w="12600">
            <a:solidFill>
              <a:srgbClr val="b2b2b2"/>
            </a:solidFill>
            <a:miter/>
          </a:ln>
        </p:spPr>
      </p:pic>
      <p:pic>
        <p:nvPicPr>
          <p:cNvPr id="642" name="" descr=""/>
          <p:cNvPicPr/>
          <p:nvPr/>
        </p:nvPicPr>
        <p:blipFill>
          <a:blip r:embed="rId4"/>
          <a:stretch/>
        </p:blipFill>
        <p:spPr>
          <a:xfrm>
            <a:off x="3924360" y="4724280"/>
            <a:ext cx="2411280" cy="1549440"/>
          </a:xfrm>
          <a:prstGeom prst="rect">
            <a:avLst/>
          </a:prstGeom>
          <a:ln w="12600">
            <a:solidFill>
              <a:srgbClr val="b2b2b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1"/>
            </a:gs>
            <a:gs pos="100000">
              <a:srgbClr val="cc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>
            <a:off x="5508720" y="2905200"/>
            <a:ext cx="3166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187280" y="47628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Verdana"/>
              </a:rPr>
              <a:t>Технология изготовления солд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" descr=""/>
          <p:cNvPicPr/>
          <p:nvPr/>
        </p:nvPicPr>
        <p:blipFill>
          <a:blip r:embed="rId1"/>
          <a:stretch/>
        </p:blipFill>
        <p:spPr>
          <a:xfrm>
            <a:off x="1042920" y="3500280"/>
            <a:ext cx="4103640" cy="248148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  <p:pic>
        <p:nvPicPr>
          <p:cNvPr id="646" name="" descr=""/>
          <p:cNvPicPr/>
          <p:nvPr/>
        </p:nvPicPr>
        <p:blipFill>
          <a:blip r:embed="rId2"/>
          <a:stretch/>
        </p:blipFill>
        <p:spPr>
          <a:xfrm>
            <a:off x="5940360" y="3284640"/>
            <a:ext cx="2289240" cy="2868480"/>
          </a:xfrm>
          <a:prstGeom prst="rect">
            <a:avLst/>
          </a:prstGeom>
          <a:ln w="12600">
            <a:solidFill>
              <a:srgbClr val="b2b2b2"/>
            </a:solidFill>
            <a:miter/>
          </a:ln>
        </p:spPr>
      </p:pic>
      <p:sp>
        <p:nvSpPr>
          <p:cNvPr id="647" name=""/>
          <p:cNvSpPr/>
          <p:nvPr/>
        </p:nvSpPr>
        <p:spPr>
          <a:xfrm>
            <a:off x="1042920" y="1845360"/>
            <a:ext cx="71294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Материал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 полоски белого цвета. Сделать свободную спираль. При помощи инструмента для киллинга придать форму трапе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1"/>
            </a:gs>
            <a:gs pos="100000">
              <a:srgbClr val="cc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Технология изготовления солдат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649" name="" descr=""/>
          <p:cNvPicPr/>
          <p:nvPr/>
        </p:nvPicPr>
        <p:blipFill>
          <a:blip r:embed="rId1"/>
          <a:stretch/>
        </p:blipFill>
        <p:spPr>
          <a:xfrm>
            <a:off x="5292720" y="3068640"/>
            <a:ext cx="3056040" cy="3338640"/>
          </a:xfrm>
          <a:prstGeom prst="rect">
            <a:avLst/>
          </a:prstGeom>
          <a:ln w="12600">
            <a:solidFill>
              <a:srgbClr val="b2b2b2"/>
            </a:solidFill>
            <a:miter/>
          </a:ln>
        </p:spPr>
      </p:pic>
      <p:pic>
        <p:nvPicPr>
          <p:cNvPr id="650" name="" descr=""/>
          <p:cNvPicPr/>
          <p:nvPr/>
        </p:nvPicPr>
        <p:blipFill>
          <a:blip r:embed="rId2"/>
          <a:stretch/>
        </p:blipFill>
        <p:spPr>
          <a:xfrm>
            <a:off x="1547640" y="3213000"/>
            <a:ext cx="2356200" cy="3141720"/>
          </a:xfrm>
          <a:prstGeom prst="rect">
            <a:avLst/>
          </a:prstGeom>
          <a:ln w="12600">
            <a:solidFill>
              <a:srgbClr val="b2b2b2"/>
            </a:solidFill>
            <a:miter/>
          </a:ln>
        </p:spPr>
      </p:pic>
      <p:sp>
        <p:nvSpPr>
          <p:cNvPr id="651" name=""/>
          <p:cNvSpPr/>
          <p:nvPr/>
        </p:nvSpPr>
        <p:spPr>
          <a:xfrm>
            <a:off x="1116000" y="1637640"/>
            <a:ext cx="73436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ап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Материал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 полоски чёрного цвета, шириной 3 мм соединить между собой при помощи клея. Сделать свободную спираль. Придать спирали форму сапог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11-22T10:30:07Z</dcterms:modified>
  <cp:revision>97</cp:revision>
  <dc:subject/>
  <dc:title>Внеурочная деятельность школьников</dc:title>
</cp:coreProperties>
</file>