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4.jpeg" ContentType="image/jpeg"/>
  <Override PartName="/ppt/media/image31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8.gif" ContentType="image/gi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A17-4216-4CEC-9CF5-5961F021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022-2E11-479E-B73C-80692D6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3F8DE-5CB4-441F-ACF0-DEB4A82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E1DDD-7A85-4920-8264-BEECC42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2B3A8-7706-4281-9229-740D5A6D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97DEF-5284-49BC-AF3C-61D1587F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41425-9C23-4681-8E87-FC605597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D8472-644F-4E65-A7B4-49EA645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4081C-13FF-4049-952F-0F5B1012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BFE52-F5FC-4D36-BB1E-BF3797AF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FFAD1-F3E9-4CF5-9496-02658CD7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7EA3B-23D4-4EBA-AB31-69FB5668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C26-8AF6-40C5-AF21-40CD5B72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69F19-ADE5-40E0-AF31-7F6195E2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00D7BD-80DB-4148-B53F-3A98A26A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244576-B1E7-48B6-BA57-4B59281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EE6D2-36ED-44EB-900B-F4624433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FC1F8-6A63-4A5F-80A0-E21DD286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7CB6A-0B05-4DC3-A5C6-6D94767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365CD-412A-4D68-AB8A-5F9E473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792A6-A778-46F8-9F12-14DC1EF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69F6C-5D8A-4E99-9A20-3E1E1578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59F45-B865-4FC4-9BDD-D42D047B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4F2-49FE-4BF8-AD2A-6E490A69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4CE69-97F5-45CC-BEF4-4126C82B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36D25E-894E-4F90-BF2E-BE63F2D7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880851-F514-4D5E-9AD0-9875781F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392CB8-BABC-43B8-823D-C3341D04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9DFCCE-0BF2-414F-B530-B3DE5738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3DA3CA-C461-4221-9146-3B79D157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E949F9-3F33-45C6-AC07-70EEB318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D4DC21-B6BB-4981-9528-5801AC52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0D6391-6216-4670-BEC9-E6D3D56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375DF-5576-46EB-AD57-54D06A1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2FEB-934F-48DC-A053-5C58820E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068CB8-B033-4EC5-A11A-64C4B87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BADA6C-B0C3-40CF-B2A7-23299FF7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AB88EF-91E4-4ED6-8C86-B73B7A67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62521-2B2F-4CCA-9DCB-924C32B0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FA682-6F19-4D10-9685-421B203A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81CD3-6987-46DD-9139-CCE9F22A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CDB07-F2DD-44B1-ADD8-1E99EBA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C3331-07B3-4CD4-89CE-1867129E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AF55D-8FDC-4DD9-8B1E-4546D1AE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0EFAF-1F59-4FF1-8A6A-1CCE567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D426-9F87-4E90-A650-9A547F99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F1CDE-4409-4E56-B9D7-807D2F3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FD97C-C375-4478-8B8C-2A5514E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64275-8A93-4B54-A6B1-BB23AB89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6B4C9-A8E5-4C36-BDB5-23DE8456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80B76-AD36-4B51-9AEF-87FD2B83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960A-F429-4B16-A3E9-97152D2B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AA54-122B-401F-90C6-A2A643A1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283-FCC2-46D5-9193-C465277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7984-E559-4501-8087-DEE73C1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E78A-0181-432B-9FB5-730A5DB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6F9-0C2A-40C2-9B7F-5C2CCFA2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66D-086F-48DE-901F-1E81901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C2AD-43AC-4367-B971-0807A63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779B-5583-4FAD-B384-5860470D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AB0-06D5-4283-A377-472B7B8F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B3E5-1E3D-42EB-AB92-0F7B6D8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1685-3E98-4989-BE0E-7037C9F3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93C8D-124A-4D37-9AC4-663ECB8D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595A-CFC5-4B23-91AC-8EBD91DB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0610-A2CF-418D-81B5-9541652F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40C4-FD11-4289-88BB-9BAEA6A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4A0-3820-4027-95BE-48BE9CBE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6991-2A1D-411C-A8CF-AB48F03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003C-BDBC-4AD3-8D22-9E9EB82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9C8A-E6B8-4C72-BFD4-968A713E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DD37-A700-45CE-A101-ACFEBCF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F7E37-FE1E-4B7F-9F41-31D7C53B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32CF-E864-4ACC-B59A-668966A3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25D9-0F7D-4FE4-9299-68F50510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8029-3A94-4C71-9CB6-F5FD5DCF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4D88-A052-4A27-8536-D035CC6A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CD3D8-3198-46FE-A3C8-504D904C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D7D-3B6E-4231-98BA-3C6FB9BB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ECC8B-6A78-48EC-A59C-22363EC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F20D-E048-46CD-BADC-3B51445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B87A-A91B-4D91-9B91-D6A0C41E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CE23-385A-43B9-B84C-924081A6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0664-0190-482B-AD6C-690C63B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4C92-1630-4448-9EA9-824921DD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54F6-6E11-4A14-AA46-C66DF3B6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213B-AC2B-437E-90A7-F93C274B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4BD81-6C3F-40E1-8058-FC0AFDCC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0F889-8B3A-4A29-B550-901C71A7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2A4-6E32-4DCD-9801-1D5150DD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C0C9-E98C-41DB-85B4-F1E21835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2DA8-C630-4363-9C01-F68B0ACB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78759-449F-45BE-82A1-B4B1A15F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040B-88CE-4722-B8D8-D7200F6D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6078-E1C7-435B-8E4F-5F712548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785D-D989-4FDA-92EE-468DD10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CBC9-D169-4E75-B535-E1D2ED6F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013A-6B90-4269-8D48-7CB882E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5373-038C-4E52-8259-D8FCD0B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7171-5F83-48C1-A3F8-387687FA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6A6-FEA0-4737-B2E1-AAC256C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C2E1-BC18-4B6E-A378-AFCEBEE2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47259-6EF7-4125-B37B-DC07F820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E7BF1-2144-49B9-8A6E-BC2440E1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6D29-B66C-4A3B-BBCE-71E396D9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2966-D4AB-4D9B-A0F7-667471B4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647A-0E26-44E5-8557-199F68F6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0B47-0CB1-4C58-81BA-3109DB8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825D-F6B5-4652-A434-C7999EF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1591-43EB-4929-BD86-6D6DB754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E211-5784-46D0-9416-67E9F698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9D3-E895-4CA5-83F3-59928AD9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DC208-91BB-4C0D-AF1D-17BA763B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C047-6E89-4DAE-804A-4F0DB34E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681D-3796-4959-9B12-4EE7AFE3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7D6C2-3391-48B3-993F-1AB1A8E6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32EF-4286-4662-8909-775DB5F0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9E6F4-FF38-46BA-9406-EA707C7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30D2-E238-458B-94F0-92CED10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FDFE3-E7AB-445A-83A5-88BA6F58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5B9F-41DF-4E7A-8FF7-1B3D9D8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2469-FACA-4350-8E9D-DD3C9122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8F8-96BA-4726-A977-8C1B593E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3940-F410-435E-BDAE-91D9215D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39318-3519-47F8-99F2-E455A5F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4016A-92EE-449F-8690-CE73B1AB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1923-C620-4AA6-A20E-EE19190A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D8C1-F1A8-4436-B4FE-AA2A3FC8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AF9B-4B48-48FF-8947-5A09D957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8834-A7EA-4A45-9C15-51A7AE87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157B4-851F-4997-BB60-F51722F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C9C5-9911-4095-A73C-EA7C2895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6762-640A-49D5-A7FB-2DB82BC1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5F6-560B-4C91-9476-C1FE9A99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180F-FE08-4389-AC56-DE48C907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C0491-7BD0-49C0-AADC-EDAB400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38D3B-33F4-43C0-B2CD-A1185FBF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86C08-C990-4250-876A-C99ACF9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B1841-2263-4768-9735-316FA0A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DC21-D7ED-4B90-A5FE-B2B1925B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ACDA5-D8A3-4583-BD8F-D0D17D85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35E41-268B-4850-9831-737F3ACC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7F221-35F3-4CBD-87CE-1DBA9CC4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1EDB9-4E7F-483A-8450-4CC67889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41A0-C6B4-4172-9C12-58CCB33540C3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95B-1EEB-47A3-AF48-C63A737E500F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01D-F698-42D9-BA57-64DCA96B95E6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5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5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785A-B259-4043-BFDA-BF2E623B6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042F-E3E3-472E-980E-BB4A65A04E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823-5A3C-4C4E-9947-60E5070EA9FD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A08-4553-47A5-8E7E-F3F65619F970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b3b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245-09C1-4F43-A275-50F40F7A718B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b3b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CFE-E31D-46A3-AE3B-057965C83AB0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1289-D18F-4A77-9147-93ABB5DF8417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567F-4009-4A48-88E3-0C6F382FFCD7}" type="slidenum"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035-2357-4D69-92E2-7AF9DAD1A2AC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hyperlink" Target="http://tehnologi.su/index/konkurs_1812/0-515" TargetMode="External"/><Relationship Id="rId5" Type="http://schemas.openxmlformats.org/officeDocument/2006/relationships/hyperlink" Target="http://tehnologi.su/index/konkurs_1812/0-515" TargetMode="External"/><Relationship Id="rId6" Type="http://schemas.openxmlformats.org/officeDocument/2006/relationships/hyperlink" Target="http://tehnologi.su/index/konkurs_1812/0-515" TargetMode="External"/><Relationship Id="rId7" Type="http://schemas.openxmlformats.org/officeDocument/2006/relationships/hyperlink" Target="http://tehnologi.su/index/konkurs_1812/0-515" TargetMode="External"/><Relationship Id="rId8" Type="http://schemas.openxmlformats.org/officeDocument/2006/relationships/hyperlink" Target="http://tehnologi.su/index/konkurs_1812/0-515" TargetMode="External"/><Relationship Id="rId9" Type="http://schemas.openxmlformats.org/officeDocument/2006/relationships/hyperlink" Target="http://tehnologi.su/index/konkurs_1812/0-515" TargetMode="External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"/>
          <p:cNvSpPr/>
          <p:nvPr/>
        </p:nvSpPr>
        <p:spPr>
          <a:xfrm>
            <a:off x="89596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Содержимое 6" descr="header.jpg"/>
          <p:cNvPicPr/>
          <p:nvPr/>
        </p:nvPicPr>
        <p:blipFill>
          <a:blip r:embed="rId1"/>
          <a:stretch/>
        </p:blipFill>
        <p:spPr>
          <a:xfrm>
            <a:off x="0" y="0"/>
            <a:ext cx="9145440" cy="806400"/>
          </a:xfrm>
          <a:prstGeom prst="rect">
            <a:avLst/>
          </a:prstGeom>
          <a:ln w="0">
            <a:noFill/>
          </a:ln>
        </p:spPr>
      </p:pic>
      <p:pic>
        <p:nvPicPr>
          <p:cNvPr id="605" name="Содержимое 6" descr="slava-s.png"/>
          <p:cNvPicPr/>
          <p:nvPr/>
        </p:nvPicPr>
        <p:blipFill>
          <a:blip r:embed="rId2"/>
          <a:stretch/>
        </p:blipFill>
        <p:spPr>
          <a:xfrm>
            <a:off x="7020000" y="0"/>
            <a:ext cx="1855800" cy="14446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826920" y="2781360"/>
            <a:ext cx="2881440" cy="3672000"/>
          </a:xfrm>
          <a:prstGeom prst="rect">
            <a:avLst/>
          </a:prstGeom>
          <a:ln w="12600">
            <a:solidFill>
              <a:srgbClr val="cc9900"/>
            </a:solidFill>
            <a:miter/>
          </a:ln>
        </p:spPr>
      </p:pic>
      <p:sp>
        <p:nvSpPr>
          <p:cNvPr id="607" name=""/>
          <p:cNvSpPr txBox="1"/>
          <p:nvPr/>
        </p:nvSpPr>
        <p:spPr>
          <a:xfrm>
            <a:off x="4643280" y="1989000"/>
            <a:ext cx="36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9900"/>
                </a:solid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За Отечество!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ff9900"/>
              </a:solid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8" name=""/>
          <p:cNvSpPr/>
          <p:nvPr/>
        </p:nvSpPr>
        <p:spPr>
          <a:xfrm>
            <a:off x="1769760" y="907920"/>
            <a:ext cx="47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tehnologi.su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index</a:t>
            </a:r>
            <a:r>
              <a:rPr b="0" lang="ru-RU" sz="18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/konkurs_1812/0-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55640" y="1557360"/>
            <a:ext cx="2952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Номинация</a:t>
            </a: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0033"/>
                </a:solidFill>
                <a:latin typeface="Arial"/>
              </a:rPr>
              <a:t>«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южетная композиция исторических событий 1812 года</a:t>
            </a:r>
            <a:r>
              <a:rPr b="0" i="1" lang="en-US" sz="1600" spc="-1" strike="noStrike">
                <a:solidFill>
                  <a:srgbClr val="330033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24360" y="472428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Автор: учитель высшей категории Носкова Светлана Юрь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33"/>
                </a:solidFill>
                <a:latin typeface="Arial"/>
              </a:rPr>
              <a:t>ГБОУ ООШ № 21 г. Новокуйбышевск Самарской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26880" y="60213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364000" y="3141720"/>
            <a:ext cx="259272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Технология изготовления солда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561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брать солда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ормить лицо, украсить мунд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2662200" cy="338436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5580000" y="1916280"/>
            <a:ext cx="2676600" cy="460980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оруж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4995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ребряная глянцевая бума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резать полоску длиной 7 см, шириной 2,5 см. Плотно скрутить в трубочку. Для этого можно воспользоваться стержнем от ручки. Приложить стержень к краю полоски и вращательными движениями скрутить трубочку, придерживая край. Край подклеить клеем «ПВА». После того, когда клей высохнет, аккуратно вытащить стержень из трубоч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Rectangle 8" descr=""/>
          <p:cNvPicPr/>
          <p:nvPr/>
        </p:nvPicPr>
        <p:blipFill>
          <a:blip r:embed="rId1"/>
          <a:stretch/>
        </p:blipFill>
        <p:spPr>
          <a:xfrm>
            <a:off x="2556000" y="3716280"/>
            <a:ext cx="4392360" cy="28670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ружь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499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вьё и прикл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Полосок  коричневого цвета шириной 3 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лать свободные рол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епления на ремен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ски бумаги  длиной 5-6 см, шириной 3 мм накрутить на стержень шариковой ручки (можно на ушные палочки), таким образом, чтобы внутри была полость.  Конец закрепить клеем «ПВ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140360" y="4221000"/>
            <a:ext cx="4032000" cy="22402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22795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ружь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4427640" y="3645000"/>
            <a:ext cx="4138560" cy="17366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384360" cy="20034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66" name=""/>
          <p:cNvSpPr/>
          <p:nvPr/>
        </p:nvSpPr>
        <p:spPr>
          <a:xfrm>
            <a:off x="4500720" y="2266560"/>
            <a:ext cx="42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м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оску длиной 15-16 см, шириной 1,5 мм сложить пополам и вставить в крепления для ремня. Конец закрепить клеем «ПВ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700280"/>
            <a:ext cx="3097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формы квиллинга «стрелка», «треугольник», «прямоугольник», склеить все части руж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72600" y="5733360"/>
            <a:ext cx="68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 серебряных полосок шириной 1,5 мм сделать курки и украш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3132000" y="1916280"/>
            <a:ext cx="246708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лошад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38102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исовать эск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использовать готовую картинку. Заготовленные формы квиллинга (любых форм) выложить при помощи пинцета как мозаику на эскиз, постепенно склеивая их между собой небольшими участками. Собрать при помощи пинцета компози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628720" cy="19713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5292720" y="2133720"/>
            <a:ext cx="3209760" cy="3744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990033"/>
                </a:solidFill>
                <a:latin typeface="Times New Roman"/>
              </a:rPr>
              <a:t>Технология изготовления лошад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31964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ску бумаги для квиллинга черного цвета, шириной 7 мм, нарезать на бахр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клеить полученную бахрому к седлу с трёх стор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ное седло приклеить к лош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076720" y="4005360"/>
            <a:ext cx="3132360" cy="23493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1476360" y="1773360"/>
            <a:ext cx="2519280" cy="19080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1116000" y="4005360"/>
            <a:ext cx="3021120" cy="21384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81" name=""/>
          <p:cNvSpPr/>
          <p:nvPr/>
        </p:nvSpPr>
        <p:spPr>
          <a:xfrm>
            <a:off x="4572000" y="2276640"/>
            <a:ext cx="3714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лошад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3024360" cy="26636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743280" cy="280656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1042920" y="1557360"/>
            <a:ext cx="2878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Кутузова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932000" y="2276280"/>
            <a:ext cx="38098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я разные формы квиллинга,  собрать Кутуз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ить ли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549600" cy="438480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2663640" cy="19972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Кутузова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611440" cy="21938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100240" cy="2305080"/>
          </a:xfrm>
          <a:prstGeom prst="rect">
            <a:avLst/>
          </a:prstGeom>
          <a:ln w="19080">
            <a:solidFill>
              <a:srgbClr val="b2b2b2"/>
            </a:solidFill>
            <a:miter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2987640" y="3573360"/>
            <a:ext cx="3384720" cy="2962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8360" y="1980720"/>
            <a:ext cx="35812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-5 полосок (липовый мёд)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леить полоски между собой внахлё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рутить полученную длинную полоску в плотный  ролл, одновременно придавая овальную форму. Подклеить внешний конец полоски и дать клею подсохну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сделать нос, от полоски шириной 1,5 см (можно разрезать полоску 3 см вдоль), отрезать 3-4 см и скрутить в тугой ролл. Приклеить конец полоски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2768400" cy="20764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1979640" y="4292640"/>
            <a:ext cx="2057400" cy="19288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генерал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2205000" cy="39340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96" name=""/>
          <p:cNvSpPr/>
          <p:nvPr/>
        </p:nvSpPr>
        <p:spPr>
          <a:xfrm>
            <a:off x="900000" y="1773360"/>
            <a:ext cx="777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рал делается аналогично солда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2771640" cy="184320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3"/>
          <a:stretch/>
        </p:blipFill>
        <p:spPr>
          <a:xfrm>
            <a:off x="5435640" y="4581360"/>
            <a:ext cx="24843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Оформление картин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322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ые заготовки аккуратно промазать клеем «ПВА» с обратной стороны и приклеить на заранее подготовленную осн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rcRect l="0" t="2331" r="3797" b="0"/>
          <a:stretch/>
        </p:blipFill>
        <p:spPr>
          <a:xfrm>
            <a:off x="4572000" y="2276640"/>
            <a:ext cx="4105440" cy="29858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Ресурс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35280" y="1916280"/>
            <a:ext cx="568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езентации использован авторский фото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хнология изготовления разработана ав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11280" y="1052640"/>
            <a:ext cx="45309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3708360" y="3213000"/>
            <a:ext cx="1871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2814840" cy="43196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5365080" y="21337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ловной у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643280" y="2781360"/>
            <a:ext cx="36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формы квиллинга «капелька», «изогнутая трапеция», «полумесяц», склеить все части головного уб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381024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Полоску гофрокартона длиной 14-15 см, шириной 3 мм сложить пополам и склеить между собой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042920" y="3141720"/>
            <a:ext cx="3529080" cy="21747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24" name=""/>
          <p:cNvSpPr/>
          <p:nvPr/>
        </p:nvSpPr>
        <p:spPr>
          <a:xfrm>
            <a:off x="385128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859280" y="5301360"/>
            <a:ext cx="38671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Из полоски бумаги белого цвета длиной 6-7 см, шириной 5 мм нарезать бахро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крутить в тугой рол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796000" y="3573360"/>
            <a:ext cx="2016000" cy="16369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2484360" cy="1701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6978" t="8445" r="9280" b="3797"/>
          <a:stretch/>
        </p:blipFill>
        <p:spPr>
          <a:xfrm>
            <a:off x="5597640" y="1989000"/>
            <a:ext cx="2790720" cy="403236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3168720" cy="23623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31" name=""/>
          <p:cNvSpPr/>
          <p:nvPr/>
        </p:nvSpPr>
        <p:spPr>
          <a:xfrm>
            <a:off x="1116000" y="2298600"/>
            <a:ext cx="386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 Соединить детали между собой и украсить головной у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684360" y="1466280"/>
            <a:ext cx="7848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д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полосок зелёного цвета шириной 3 мм (левая сторона – 3 полоски, правая – 5 полос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лать два прямоугольника, при этом один верхний уголок слегка изогнуть вверх. Конец полоски прикле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042920" y="47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Технология изготовления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205440" cy="23893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16360" cy="2376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521080" cy="24620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85800" cy="15256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39" name=""/>
          <p:cNvSpPr/>
          <p:nvPr/>
        </p:nvSpPr>
        <p:spPr>
          <a:xfrm>
            <a:off x="4284720" y="1580400"/>
            <a:ext cx="422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нжеты, воротн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полоска для квиллинга красного цвета,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формы квиллинга «прямоугольник» и «изогнутая капля», сделать манжеты и воротн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95640" y="3429000"/>
            <a:ext cx="4321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полоски зелёного цвета,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полоска (липовый мёд) шириной 3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6732720" y="4581360"/>
            <a:ext cx="2087280" cy="20210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3924360" y="4724280"/>
            <a:ext cx="2411280" cy="15494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5508720" y="290520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476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Технология изготовления солд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4103640" cy="24814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289240" cy="286848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47" name=""/>
          <p:cNvSpPr/>
          <p:nvPr/>
        </p:nvSpPr>
        <p:spPr>
          <a:xfrm>
            <a:off x="1042920" y="1845360"/>
            <a:ext cx="71294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олоски белого цвета. Сделать свободную спираль. При помощи инструмента для киллинга придать форму трапе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Технология изготовления солдат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056040" cy="333864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2356200" cy="3141720"/>
          </a:xfrm>
          <a:prstGeom prst="rect">
            <a:avLst/>
          </a:prstGeom>
          <a:ln w="12600">
            <a:solidFill>
              <a:srgbClr val="b2b2b2"/>
            </a:solidFill>
            <a:miter/>
          </a:ln>
        </p:spPr>
      </p:pic>
      <p:sp>
        <p:nvSpPr>
          <p:cNvPr id="651" name=""/>
          <p:cNvSpPr/>
          <p:nvPr/>
        </p:nvSpPr>
        <p:spPr>
          <a:xfrm>
            <a:off x="1116000" y="1637640"/>
            <a:ext cx="7343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п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атери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полоски чёрного цвета, шириной 3 мм соединить между собой при помощи клея. Сделать свободную спираль. Придать спирали форму сапог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2T10:30:07Z</dcterms:modified>
  <cp:revision>97</cp:revision>
  <dc:subject/>
  <dc:title>Внеурочная деятельность школьников</dc:title>
</cp:coreProperties>
</file>