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72F-E1A1-4FD0-8A9A-24A7FF7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74A-C58A-4F8B-B311-092371E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272-4B35-437A-AFB2-ECCE928E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E0F-6DB9-479A-B877-A357FD4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BAF-AC59-4F9E-9AAF-1FD647E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FF2-378B-45F0-B114-4E89A770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0D9-5C7E-4AB2-BE01-CC193B17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607-85A0-4DD6-888C-E5686639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8AE-50B1-4534-9A6A-AFCB74E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E91-B7B6-4CE9-A2D2-EF0F60C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2AD-426D-4520-A134-4DECC479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F3D-3E54-433F-B220-ABDAB98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B9D9-E3F1-4FA6-8586-F7B86D2B0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tehnologi.su/index/konkurs_1812/0-515" TargetMode="External"/><Relationship Id="rId4" Type="http://schemas.openxmlformats.org/officeDocument/2006/relationships/hyperlink" Target="http://tehnologi.su/index/konkurs_1812/0-515" TargetMode="External"/><Relationship Id="rId5" Type="http://schemas.openxmlformats.org/officeDocument/2006/relationships/hyperlink" Target="http://tehnologi.su/index/konkurs_1812/0-515" TargetMode="External"/><Relationship Id="rId6" Type="http://schemas.openxmlformats.org/officeDocument/2006/relationships/hyperlink" Target="http://tehnologi.su/index/konkurs_1812/0-515" TargetMode="External"/><Relationship Id="rId7" Type="http://schemas.openxmlformats.org/officeDocument/2006/relationships/hyperlink" Target="http://tehnologi.su/index/konkurs_1812/0-515" TargetMode="External"/><Relationship Id="rId8" Type="http://schemas.openxmlformats.org/officeDocument/2006/relationships/hyperlink" Target="http://tehnologi.su/index/konkurs_1812/0-515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6" descr="header.jpg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714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2208240" y="76212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tehnologi.su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7"/>
              </a:rPr>
              <a:t>index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8"/>
              </a:rPr>
              <a:t>/konkurs_1812/0-515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971800" y="44956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Автор: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учитель высшей категории Носкова Светлана Юрьевна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ГБОУ ООШ № 21 г. Новокуйбышевск Самарской обл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49820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1814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omic Sans MS"/>
              </a:rPr>
              <a:t>Номинация</a:t>
            </a:r>
            <a:r>
              <a:rPr b="1" lang="en-US" sz="20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Comic Sans MS"/>
              </a:rPr>
              <a:t>«</a:t>
            </a:r>
            <a:r>
              <a:rPr b="0" i="1" lang="en-US" sz="2000" spc="-1" strike="noStrike">
                <a:solidFill>
                  <a:srgbClr val="333300"/>
                </a:solidFill>
                <a:latin typeface="Arial"/>
              </a:rPr>
              <a:t>Картины, панно</a:t>
            </a:r>
            <a:r>
              <a:rPr b="0" i="1" lang="en-US" sz="2000" spc="-1" strike="noStrike">
                <a:solidFill>
                  <a:srgbClr val="3333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77" name="Picture 10" descr="79209450_warandpeace6831"/>
          <p:cNvPicPr/>
          <p:nvPr/>
        </p:nvPicPr>
        <p:blipFill>
          <a:blip r:embed="rId9"/>
          <a:stretch/>
        </p:blipFill>
        <p:spPr>
          <a:xfrm>
            <a:off x="1752480" y="1295280"/>
            <a:ext cx="240660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WordArt 11"/>
          <p:cNvSpPr txBox="1"/>
          <p:nvPr/>
        </p:nvSpPr>
        <p:spPr>
          <a:xfrm>
            <a:off x="4572000" y="2819520"/>
            <a:ext cx="391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ервый бал</a:t>
            </a:r>
            <a:endParaRPr b="0" lang="en-US" sz="1800" spc="1" strike="noStrike">
              <a:ln w="1260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Рисунок1"/>
          <p:cNvPicPr/>
          <p:nvPr/>
        </p:nvPicPr>
        <p:blipFill>
          <a:blip r:embed="rId1"/>
          <a:stretch/>
        </p:blipFill>
        <p:spPr>
          <a:xfrm>
            <a:off x="2057400" y="2362320"/>
            <a:ext cx="1641600" cy="36576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1280" y="1676160"/>
            <a:ext cx="3670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00"/>
                </a:solidFill>
                <a:uFillTx/>
                <a:latin typeface="Arial"/>
              </a:rPr>
              <a:t>Верхняя часть люстры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1" name="Picture 8" descr="DSCN0737"/>
          <p:cNvPicPr/>
          <p:nvPr/>
        </p:nvPicPr>
        <p:blipFill>
          <a:blip r:embed="rId2"/>
          <a:stretch/>
        </p:blipFill>
        <p:spPr>
          <a:xfrm>
            <a:off x="4343400" y="4419720"/>
            <a:ext cx="1828800" cy="1563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520" y="2143080"/>
            <a:ext cx="3668760" cy="22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завиток в форме 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», «глаз», «свободную спираль»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обрать верхнюю часть люстр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3" name="Picture 13" descr="DSC09123"/>
          <p:cNvPicPr/>
          <p:nvPr/>
        </p:nvPicPr>
        <p:blipFill>
          <a:blip r:embed="rId3"/>
          <a:stretch/>
        </p:blipFill>
        <p:spPr>
          <a:xfrm>
            <a:off x="6553080" y="4419720"/>
            <a:ext cx="2235240" cy="1573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DSC09305"/>
          <p:cNvPicPr/>
          <p:nvPr/>
        </p:nvPicPr>
        <p:blipFill>
          <a:blip r:embed="rId1"/>
          <a:stretch/>
        </p:blipFill>
        <p:spPr>
          <a:xfrm>
            <a:off x="3505320" y="4419720"/>
            <a:ext cx="2768400" cy="16621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Свечи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езать 8 полосок белой бумаги длиной 1 см, шириной 1,5 см. Каждую полоску плотно скрутить в трубочку. Для этого можно воспользоваться или стержнем от ручки или ушной палочкой. Приложить стержень к краю полоски и вращательными движениями скрутить трубочку, придерживая край. Край подклеить клеем «ПВА». После того, когда клей высохнет, аккуратно вытащить стержень из трубочк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Нижняя часть люстры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Разрезать полоску на 4 части. Один край скрутить, другой – оставить свобод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оединить заготовки между собой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делать вторую сторону люстры таким же способом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Приклеить свечи на полученные заготовки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9" name="Picture 11" descr="PIC_1213"/>
          <p:cNvPicPr/>
          <p:nvPr/>
        </p:nvPicPr>
        <p:blipFill>
          <a:blip r:embed="rId1"/>
          <a:stretch/>
        </p:blipFill>
        <p:spPr>
          <a:xfrm>
            <a:off x="3124080" y="3505320"/>
            <a:ext cx="4038840" cy="289404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Нижняя часть люстры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завиток-сердце», «полумесяц», «треугольник», «капелька» собрать нижнюю часть люстры, обмотав полоской бумаги полученную заготовку.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2" name="Picture 4" descr="Рисунок2"/>
          <p:cNvPicPr/>
          <p:nvPr/>
        </p:nvPicPr>
        <p:blipFill>
          <a:blip r:embed="rId1"/>
          <a:stretch/>
        </p:blipFill>
        <p:spPr>
          <a:xfrm>
            <a:off x="2514600" y="3733920"/>
            <a:ext cx="5626080" cy="19461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исовать эскиз, по которому будет выкладываться композиц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5" name="Picture 9" descr="DSCN0641"/>
          <p:cNvPicPr/>
          <p:nvPr/>
        </p:nvPicPr>
        <p:blipFill>
          <a:blip r:embed="rId1"/>
          <a:stretch/>
        </p:blipFill>
        <p:spPr>
          <a:xfrm>
            <a:off x="3962520" y="2362320"/>
            <a:ext cx="2662200" cy="35812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Голо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клеить 4-5 полосок (липовый мёд) шириной 3 мм между собой внахлёс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крутить полученную длинную полоску в плотный  ролл, одновременно придавая овальную форму. Подклеить внешний конец полоски и дать клею подсохнуть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Для того чтобы сделать нос, от полоски шириной 1,5 см (можно разрезать полоску 3 см вдоль), отрезать 3-4 см и скрутить в тугой ролл. Приклеить конец полоски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8" name="Picture 5" descr="DSC09191"/>
          <p:cNvPicPr/>
          <p:nvPr/>
        </p:nvPicPr>
        <p:blipFill>
          <a:blip r:embed="rId1"/>
          <a:stretch/>
        </p:blipFill>
        <p:spPr>
          <a:xfrm>
            <a:off x="1981080" y="1828800"/>
            <a:ext cx="2768760" cy="2076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29" name="Picture 6" descr="DSCN0647"/>
          <p:cNvPicPr/>
          <p:nvPr/>
        </p:nvPicPr>
        <p:blipFill>
          <a:blip r:embed="rId2"/>
          <a:stretch/>
        </p:blipFill>
        <p:spPr>
          <a:xfrm>
            <a:off x="2362320" y="4267080"/>
            <a:ext cx="2057400" cy="19288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7800" y="1447920"/>
            <a:ext cx="3581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Шея и декольт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4 полоски (липовый мёд) соединить при помощи клея между собой. Сделать свободную спираль и сжать её в трёх местах, одновременно с одной стороны указательными пальцами сделать небольшой уголок. Чтобы закрепить форму, с обратной стороны надо промазать клеем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3" name="Picture 8" descr="DSCN0657"/>
          <p:cNvPicPr/>
          <p:nvPr/>
        </p:nvPicPr>
        <p:blipFill>
          <a:blip r:embed="rId1"/>
          <a:stretch/>
        </p:blipFill>
        <p:spPr>
          <a:xfrm>
            <a:off x="1905120" y="3429000"/>
            <a:ext cx="2759040" cy="30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4" name="Picture 9" descr="DSC09188"/>
          <p:cNvPicPr/>
          <p:nvPr/>
        </p:nvPicPr>
        <p:blipFill>
          <a:blip r:embed="rId2"/>
          <a:stretch/>
        </p:blipFill>
        <p:spPr>
          <a:xfrm>
            <a:off x="2057400" y="1295280"/>
            <a:ext cx="2692440" cy="201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5160" y="152352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Руки, перчатки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Перчатки. Склеить между собой две полоски белого цвета, шириной 3 мм. Сделать свободную спираль. Придать форму перчатки. Чтобы закрепить форму, с обратной стороны надо промазать клеем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Для рук накрутить из половины полоски (липовый мёд, шириной 3 мм) 2 элемента «тюльпан», при этом у одного можно один уголок сделать длинне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7" name="Picture 3" descr="DSC09193"/>
          <p:cNvPicPr/>
          <p:nvPr/>
        </p:nvPicPr>
        <p:blipFill>
          <a:blip r:embed="rId1"/>
          <a:stretch/>
        </p:blipFill>
        <p:spPr>
          <a:xfrm>
            <a:off x="2057400" y="1295280"/>
            <a:ext cx="2768760" cy="2076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38" name="Picture 8" descr="DSCN0661"/>
          <p:cNvPicPr/>
          <p:nvPr/>
        </p:nvPicPr>
        <p:blipFill>
          <a:blip r:embed="rId2"/>
          <a:stretch/>
        </p:blipFill>
        <p:spPr>
          <a:xfrm>
            <a:off x="2209680" y="3505320"/>
            <a:ext cx="2379960" cy="31240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латье состоит из отдельных ролл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иф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Накрутить по 4 элемента «полумесяц», по 2 элемента «глаз», 1 элемент «треугольник» (</a:t>
            </a:r>
            <a:r>
              <a:rPr b="0" i="1" lang="ru-RU" sz="1800" spc="-1" strike="noStrike">
                <a:solidFill>
                  <a:srgbClr val="333300"/>
                </a:solidFill>
                <a:latin typeface="Arial"/>
              </a:rPr>
              <a:t>основные формы квиллинга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). На каждый элемент – половина полоски светло-сиреневого цвета, шириной 3 м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Чтобы создать имитацию складок, можно обернуть получившиеся спирали (роллы) белой полоской бумаг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1" name="Picture 8" descr="DSC09278"/>
          <p:cNvPicPr/>
          <p:nvPr/>
        </p:nvPicPr>
        <p:blipFill>
          <a:blip r:embed="rId1"/>
          <a:stretch/>
        </p:blipFill>
        <p:spPr>
          <a:xfrm>
            <a:off x="2057400" y="4267080"/>
            <a:ext cx="2997360" cy="18129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42" name="Picture 9" descr="DSC09281"/>
          <p:cNvPicPr/>
          <p:nvPr/>
        </p:nvPicPr>
        <p:blipFill>
          <a:blip r:embed="rId2"/>
          <a:stretch/>
        </p:blipFill>
        <p:spPr>
          <a:xfrm>
            <a:off x="1905120" y="1523880"/>
            <a:ext cx="3149640" cy="2362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86040" y="1523520"/>
            <a:ext cx="3505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Пояс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Из одной полоски светло-сиреневого цвета сделать прямоугольник, при этом два верхних уголка слегка изогнуть вверх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Юбк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оединить между собой при помощи клея «ПВА» 5 полосок светло-сиреневого цвета и одной полоски белого цвета.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делать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4 детали юбки. С обратной стороны, для фиксации, промазать клее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5" name="Picture 4" descr="DSC09307"/>
          <p:cNvPicPr/>
          <p:nvPr/>
        </p:nvPicPr>
        <p:blipFill>
          <a:blip r:embed="rId1"/>
          <a:stretch/>
        </p:blipFill>
        <p:spPr>
          <a:xfrm>
            <a:off x="2209680" y="1295280"/>
            <a:ext cx="2438640" cy="1951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46" name="Picture 6" descr="DSC09315"/>
          <p:cNvPicPr/>
          <p:nvPr/>
        </p:nvPicPr>
        <p:blipFill>
          <a:blip r:embed="rId2"/>
          <a:stretch/>
        </p:blipFill>
        <p:spPr>
          <a:xfrm>
            <a:off x="1447920" y="3429000"/>
            <a:ext cx="2390760" cy="2895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47" name="Rectangle 11"/>
          <p:cNvSpPr/>
          <p:nvPr/>
        </p:nvSpPr>
        <p:spPr>
          <a:xfrm>
            <a:off x="0" y="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440" y="30823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440" y="6530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51" name="Picture 15" descr="Рисунок2"/>
          <p:cNvPicPr/>
          <p:nvPr/>
        </p:nvPicPr>
        <p:blipFill>
          <a:blip r:embed="rId3"/>
          <a:stretch/>
        </p:blipFill>
        <p:spPr>
          <a:xfrm>
            <a:off x="4114800" y="3505320"/>
            <a:ext cx="1268280" cy="27302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52" name="Rectangle 16"/>
          <p:cNvSpPr/>
          <p:nvPr/>
        </p:nvSpPr>
        <p:spPr>
          <a:xfrm>
            <a:off x="4276440" y="6039720"/>
            <a:ext cx="740160" cy="337320"/>
          </a:xfrm>
          <a:prstGeom prst="rect">
            <a:avLst/>
          </a:prstGeom>
          <a:noFill/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1 дет</a:t>
            </a:r>
            <a:r>
              <a:rPr b="1" lang="en-US" sz="16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685880" y="5735160"/>
            <a:ext cx="746280" cy="337320"/>
          </a:xfrm>
          <a:prstGeom prst="rect">
            <a:avLst/>
          </a:prstGeom>
          <a:noFill/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3 дет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3273480" cy="419112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124080" y="52574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Размер картины: 44х34 см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Высота фигурок – 11 с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360" y="1523880"/>
            <a:ext cx="2971800" cy="45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Волан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прямоугольник», «свободный ролл», «капелька» собрать волан, обмотав каждую деталь полоской белой бумаги полученную заготовк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Туфелька</a:t>
            </a:r>
            <a:r>
              <a:rPr b="0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 половины полоски белого цвета сделать элемент «изогнутая капля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0" t="64543" r="0" b="0"/>
          <a:stretch/>
        </p:blipFill>
        <p:spPr>
          <a:xfrm>
            <a:off x="1828800" y="4038480"/>
            <a:ext cx="3524400" cy="16671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57" name="Picture 9" descr="DSC09277"/>
          <p:cNvPicPr/>
          <p:nvPr/>
        </p:nvPicPr>
        <p:blipFill>
          <a:blip r:embed="rId2"/>
          <a:stretch/>
        </p:blipFill>
        <p:spPr>
          <a:xfrm>
            <a:off x="1981080" y="1447920"/>
            <a:ext cx="3149640" cy="2011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67280" y="121932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Заготовленные роллы выложить как мозаику на эскиз, постепенно склеивая их между собой небольшими участкам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Picture 13" descr="PIC_1158"/>
          <p:cNvPicPr/>
          <p:nvPr/>
        </p:nvPicPr>
        <p:blipFill>
          <a:blip r:embed="rId1"/>
          <a:stretch/>
        </p:blipFill>
        <p:spPr>
          <a:xfrm>
            <a:off x="1600200" y="1295280"/>
            <a:ext cx="3070080" cy="3353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61" name="Picture 14" descr="DSCN0645"/>
          <p:cNvPicPr/>
          <p:nvPr/>
        </p:nvPicPr>
        <p:blipFill>
          <a:blip r:embed="rId2"/>
          <a:stretch/>
        </p:blipFill>
        <p:spPr>
          <a:xfrm>
            <a:off x="6324480" y="4807080"/>
            <a:ext cx="2210040" cy="17334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6095880" y="3429000"/>
            <a:ext cx="2438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Times New Roman"/>
              </a:rPr>
              <a:t>Вее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 полоски бумаги белого цвета 2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5 см сделать гармошку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167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лось только собрать нашу даму и оформить лиц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6520" y="12952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5" descr="DSC09163"/>
          <p:cNvPicPr/>
          <p:nvPr/>
        </p:nvPicPr>
        <p:blipFill>
          <a:blip r:embed="rId1"/>
          <a:stretch/>
        </p:blipFill>
        <p:spPr>
          <a:xfrm>
            <a:off x="3589200" y="1295280"/>
            <a:ext cx="3159360" cy="45212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Технология изготовления кавал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665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,  собрать кавалер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Оформить лицо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7" descr="PIC_0718"/>
          <p:cNvPicPr/>
          <p:nvPr/>
        </p:nvPicPr>
        <p:blipFill>
          <a:blip r:embed="rId1"/>
          <a:stretch/>
        </p:blipFill>
        <p:spPr>
          <a:xfrm>
            <a:off x="1981080" y="2895480"/>
            <a:ext cx="2979720" cy="3353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70" name="Picture 5" descr="PIC_0753"/>
          <p:cNvPicPr/>
          <p:nvPr/>
        </p:nvPicPr>
        <p:blipFill>
          <a:blip r:embed="rId2"/>
          <a:stretch/>
        </p:blipFill>
        <p:spPr>
          <a:xfrm>
            <a:off x="6019920" y="2514600"/>
            <a:ext cx="2479680" cy="3886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Оформление карт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31370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олученные заготовки приклеить на заранее приготовленную основ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5" descr="DSCN0621"/>
          <p:cNvPicPr/>
          <p:nvPr/>
        </p:nvPicPr>
        <p:blipFill>
          <a:blip r:embed="rId1"/>
          <a:stretch/>
        </p:blipFill>
        <p:spPr>
          <a:xfrm>
            <a:off x="5257800" y="1523880"/>
            <a:ext cx="3527280" cy="449604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33"/>
                </a:solidFill>
                <a:latin typeface="Arial"/>
              </a:rPr>
              <a:t>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5867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 презентации использован авторский фотоматериал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ехнология изготовления разработана автором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Arial"/>
              </a:rPr>
              <a:t>Материалы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лотный картон золотого цвета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бумага белого цвета с перламутровым отливом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аппликация самоклеющаяся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олоски бумаги для квиллинга  «Золото» шириной 1,5 мм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3" name="Picture 5" descr="PIC_1314"/>
          <p:cNvPicPr/>
          <p:nvPr/>
        </p:nvPicPr>
        <p:blipFill>
          <a:blip r:embed="rId1"/>
          <a:stretch/>
        </p:blipFill>
        <p:spPr>
          <a:xfrm>
            <a:off x="3048120" y="3124080"/>
            <a:ext cx="3886200" cy="32799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099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исовать эскиз. Из картона золотого цвета вырезать  детали арки. Чтобы края были ровными лучше это сделать при помощи канцелярского ножа или ножниц с длинными лезвия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6" name="Picture 7" descr="PIC_1180"/>
          <p:cNvPicPr/>
          <p:nvPr/>
        </p:nvPicPr>
        <p:blipFill>
          <a:blip r:embed="rId1"/>
          <a:stretch/>
        </p:blipFill>
        <p:spPr>
          <a:xfrm>
            <a:off x="3124080" y="2971800"/>
            <a:ext cx="3810240" cy="31860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91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Из белой бумаги вырезать такую же деталь, только чуть меньшего размер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клеить её на первую заготовку. Чтобы детали хорошо склеились между собой, можно положить их под пресс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9" name="Picture 7" descr="DSCN0720"/>
          <p:cNvPicPr/>
          <p:nvPr/>
        </p:nvPicPr>
        <p:blipFill>
          <a:blip r:embed="rId1"/>
          <a:stretch/>
        </p:blipFill>
        <p:spPr>
          <a:xfrm>
            <a:off x="3124080" y="3048120"/>
            <a:ext cx="4114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SC0929"/>
          <p:cNvPicPr/>
          <p:nvPr/>
        </p:nvPicPr>
        <p:blipFill>
          <a:blip r:embed="rId1"/>
          <a:stretch/>
        </p:blipFill>
        <p:spPr>
          <a:xfrm>
            <a:off x="1447920" y="1523880"/>
            <a:ext cx="2143080" cy="32767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1" name="Picture 5" descr="DSC09288"/>
          <p:cNvPicPr/>
          <p:nvPr/>
        </p:nvPicPr>
        <p:blipFill>
          <a:blip r:embed="rId2"/>
          <a:stretch/>
        </p:blipFill>
        <p:spPr>
          <a:xfrm>
            <a:off x="3200400" y="2971800"/>
            <a:ext cx="2066760" cy="2895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2" name="Picture 6" descr="DSCN0703"/>
          <p:cNvPicPr/>
          <p:nvPr/>
        </p:nvPicPr>
        <p:blipFill>
          <a:blip r:embed="rId3"/>
          <a:stretch/>
        </p:blipFill>
        <p:spPr>
          <a:xfrm>
            <a:off x="5867280" y="4419720"/>
            <a:ext cx="2514600" cy="1184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822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Для украшения арки можно воспользоваться готовыми самоклеющимися аппликация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C09323"/>
          <p:cNvPicPr/>
          <p:nvPr/>
        </p:nvPicPr>
        <p:blipFill>
          <a:blip r:embed="rId1"/>
          <a:stretch/>
        </p:blipFill>
        <p:spPr>
          <a:xfrm>
            <a:off x="4952880" y="4038480"/>
            <a:ext cx="3353040" cy="22068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6" name="Picture 3" descr="DSC09267"/>
          <p:cNvPicPr/>
          <p:nvPr/>
        </p:nvPicPr>
        <p:blipFill>
          <a:blip r:embed="rId2"/>
          <a:stretch/>
        </p:blipFill>
        <p:spPr>
          <a:xfrm>
            <a:off x="1752480" y="3962520"/>
            <a:ext cx="2374920" cy="23605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7" name="Picture 5" descr="DSC0"/>
          <p:cNvPicPr/>
          <p:nvPr/>
        </p:nvPicPr>
        <p:blipFill>
          <a:blip r:embed="rId3"/>
          <a:stretch/>
        </p:blipFill>
        <p:spPr>
          <a:xfrm>
            <a:off x="1905120" y="1600200"/>
            <a:ext cx="2031840" cy="1984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9520" y="129528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родолжаем украшать, используя разные формы квиллинга: «свободная спираль», «капелька», «изогнутая капля», «глаз», «С-образный завиток». Они придадут арке вид позолоченной лепнины. Ширина полоски – 1,5 мм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PIC_1209"/>
          <p:cNvPicPr/>
          <p:nvPr/>
        </p:nvPicPr>
        <p:blipFill>
          <a:blip r:embed="rId1"/>
          <a:stretch/>
        </p:blipFill>
        <p:spPr>
          <a:xfrm>
            <a:off x="3352680" y="3886200"/>
            <a:ext cx="3048120" cy="242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SC09290"/>
          <p:cNvPicPr/>
          <p:nvPr/>
        </p:nvPicPr>
        <p:blipFill>
          <a:blip r:embed="rId2"/>
          <a:stretch/>
        </p:blipFill>
        <p:spPr>
          <a:xfrm>
            <a:off x="1676520" y="13716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SC09289"/>
          <p:cNvPicPr/>
          <p:nvPr/>
        </p:nvPicPr>
        <p:blipFill>
          <a:blip r:embed="rId3"/>
          <a:stretch/>
        </p:blipFill>
        <p:spPr>
          <a:xfrm>
            <a:off x="4724280" y="1676520"/>
            <a:ext cx="4013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5000" y="1752480"/>
            <a:ext cx="298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атериал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бумага белого цвета с перламутровым отливом 1,0x1,5 см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лоски бумаги для квиллинга  «Золото» шириной 3 м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6" name="Picture 6" descr="DSC09292"/>
          <p:cNvPicPr/>
          <p:nvPr/>
        </p:nvPicPr>
        <p:blipFill>
          <a:blip r:embed="rId1"/>
          <a:stretch/>
        </p:blipFill>
        <p:spPr>
          <a:xfrm>
            <a:off x="1752480" y="2133720"/>
            <a:ext cx="3835440" cy="28764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07" name="Rectangle 7"/>
          <p:cNvSpPr/>
          <p:nvPr/>
        </p:nvSpPr>
        <p:spPr>
          <a:xfrm>
            <a:off x="1674720" y="54856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Высота люстры – 10 см, ширина – 5 см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9T16:26:2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