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004-F312-47E8-B798-FA9340CE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D29-203B-4C5C-B21B-D3ABB9DA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2E6-1D7D-431B-AAE1-3B28B4A1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9FD-D59F-448B-B8BE-8662CC19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805-BF9A-4E49-8D17-3BFB6640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59A-40DB-453B-A3F3-A8AF00B2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B9C-EB0C-44AC-91BD-94217D29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783-4829-40D9-825B-5B84E11F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7C8-D9BE-4F1E-82C5-D25C69F0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CA0-7493-4E4B-A895-5A7D769B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870D-570C-48E8-BDD0-517378DE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169-2363-4FD4-BAC5-4062EB12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CEFE-1591-409F-8201-2FFCDD8A8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tehnologi.su/index/konkurs_1812/0-515" TargetMode="External"/><Relationship Id="rId4" Type="http://schemas.openxmlformats.org/officeDocument/2006/relationships/hyperlink" Target="http://tehnologi.su/index/konkurs_1812/0-515" TargetMode="External"/><Relationship Id="rId5" Type="http://schemas.openxmlformats.org/officeDocument/2006/relationships/hyperlink" Target="http://tehnologi.su/index/konkurs_1812/0-515" TargetMode="External"/><Relationship Id="rId6" Type="http://schemas.openxmlformats.org/officeDocument/2006/relationships/hyperlink" Target="http://tehnologi.su/index/konkurs_1812/0-515" TargetMode="External"/><Relationship Id="rId7" Type="http://schemas.openxmlformats.org/officeDocument/2006/relationships/hyperlink" Target="http://tehnologi.su/index/konkurs_1812/0-515" TargetMode="External"/><Relationship Id="rId8" Type="http://schemas.openxmlformats.org/officeDocument/2006/relationships/hyperlink" Target="http://tehnologi.su/index/konkurs_1812/0-515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6" descr="header.jpg"/>
          <p:cNvPicPr/>
          <p:nvPr/>
        </p:nvPicPr>
        <p:blipFill>
          <a:blip r:embed="rId1"/>
          <a:stretch/>
        </p:blipFill>
        <p:spPr>
          <a:xfrm>
            <a:off x="1295280" y="0"/>
            <a:ext cx="7848720" cy="67140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6" descr="slava-s.png"/>
          <p:cNvPicPr/>
          <p:nvPr/>
        </p:nvPicPr>
        <p:blipFill>
          <a:blip r:embed="rId2"/>
          <a:stretch/>
        </p:blipFill>
        <p:spPr>
          <a:xfrm>
            <a:off x="7020000" y="0"/>
            <a:ext cx="1855800" cy="14446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2208240" y="762120"/>
            <a:ext cx="43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5"/>
              </a:rPr>
              <a:t>tehnologi.su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7"/>
              </a:rPr>
              <a:t>index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8"/>
              </a:rPr>
              <a:t>/konkurs_1812/0-515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971800" y="449568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Автор:</a:t>
            </a: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 учитель высшей категории Носкова Светлана Юрьевна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ГБОУ ООШ № 21 г. Новокуйбышевск Самарской обл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4498200" y="58672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181480" y="15238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Comic Sans MS"/>
              </a:rPr>
              <a:t>Номинация</a:t>
            </a:r>
            <a:r>
              <a:rPr b="1" lang="en-US" sz="20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Comic Sans MS"/>
              </a:rPr>
              <a:t>«</a:t>
            </a:r>
            <a:r>
              <a:rPr b="0" i="1" lang="en-US" sz="2000" spc="-1" strike="noStrike">
                <a:solidFill>
                  <a:srgbClr val="333300"/>
                </a:solidFill>
                <a:latin typeface="Arial"/>
              </a:rPr>
              <a:t>Картины, панно</a:t>
            </a:r>
            <a:r>
              <a:rPr b="0" i="1" lang="en-US" sz="2000" spc="-1" strike="noStrike">
                <a:solidFill>
                  <a:srgbClr val="3333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77" name="Picture 10" descr="79209450_warandpeace6831"/>
          <p:cNvPicPr/>
          <p:nvPr/>
        </p:nvPicPr>
        <p:blipFill>
          <a:blip r:embed="rId9"/>
          <a:stretch/>
        </p:blipFill>
        <p:spPr>
          <a:xfrm>
            <a:off x="1752480" y="1295280"/>
            <a:ext cx="2406600" cy="2819520"/>
          </a:xfrm>
          <a:prstGeom prst="rect">
            <a:avLst/>
          </a:prstGeom>
          <a:ln w="0">
            <a:noFill/>
          </a:ln>
        </p:spPr>
      </p:pic>
      <p:sp>
        <p:nvSpPr>
          <p:cNvPr id="78" name="WordArt 11"/>
          <p:cNvSpPr txBox="1"/>
          <p:nvPr/>
        </p:nvSpPr>
        <p:spPr>
          <a:xfrm>
            <a:off x="4572000" y="2819520"/>
            <a:ext cx="3916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ервый бал</a:t>
            </a:r>
            <a:endParaRPr b="0" lang="en-US" sz="1800" spc="1" strike="noStrike">
              <a:ln w="12600">
                <a:solidFill>
                  <a:srgbClr val="33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Рисунок1"/>
          <p:cNvPicPr/>
          <p:nvPr/>
        </p:nvPicPr>
        <p:blipFill>
          <a:blip r:embed="rId1"/>
          <a:stretch/>
        </p:blipFill>
        <p:spPr>
          <a:xfrm>
            <a:off x="2057400" y="2362320"/>
            <a:ext cx="1641600" cy="36576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люс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81280" y="1676160"/>
            <a:ext cx="36705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00"/>
                </a:solidFill>
                <a:uFillTx/>
                <a:latin typeface="Arial"/>
              </a:rPr>
              <a:t>Верхняя часть люстры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1" name="Picture 8" descr="DSCN0737"/>
          <p:cNvPicPr/>
          <p:nvPr/>
        </p:nvPicPr>
        <p:blipFill>
          <a:blip r:embed="rId2"/>
          <a:stretch/>
        </p:blipFill>
        <p:spPr>
          <a:xfrm>
            <a:off x="4343400" y="4419720"/>
            <a:ext cx="1828800" cy="15634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2520" y="2143080"/>
            <a:ext cx="3668760" cy="22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Используя разные формы квиллинга «завиток в форме 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», «глаз», «свободную спираль»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собрать верхнюю часть люстры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3" name="Picture 13" descr="DSC09123"/>
          <p:cNvPicPr/>
          <p:nvPr/>
        </p:nvPicPr>
        <p:blipFill>
          <a:blip r:embed="rId3"/>
          <a:stretch/>
        </p:blipFill>
        <p:spPr>
          <a:xfrm>
            <a:off x="6553080" y="4419720"/>
            <a:ext cx="2235240" cy="15732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DSC09305"/>
          <p:cNvPicPr/>
          <p:nvPr/>
        </p:nvPicPr>
        <p:blipFill>
          <a:blip r:embed="rId1"/>
          <a:stretch/>
        </p:blipFill>
        <p:spPr>
          <a:xfrm>
            <a:off x="3505320" y="4419720"/>
            <a:ext cx="2768400" cy="166212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люс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Свечи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Нарезать 8 полосок белой бумаги длиной 1 см, шириной 1,5 см. Каждую полоску плотно скрутить в трубочку. Для этого можно воспользоваться или стержнем от ручки или ушной палочкой. Приложить стержень к краю полоски и вращательными движениями скрутить трубочку, придерживая край. Край подклеить клеем «ПВА». После того, когда клей высохнет, аккуратно вытащить стержень из трубочк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люс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391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Нижняя часть люстры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Разрезать полоску на 4 части. Один край скрутить, другой – оставить свободны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Соединить заготовки между собой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Сделать вторую сторону люстры таким же способом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Приклеить свечи на полученные заготовки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9" name="Picture 11" descr="PIC_1213"/>
          <p:cNvPicPr/>
          <p:nvPr/>
        </p:nvPicPr>
        <p:blipFill>
          <a:blip r:embed="rId1"/>
          <a:stretch/>
        </p:blipFill>
        <p:spPr>
          <a:xfrm>
            <a:off x="3124080" y="3505320"/>
            <a:ext cx="4038840" cy="2894040"/>
          </a:xfrm>
          <a:prstGeom prst="rect">
            <a:avLst/>
          </a:prstGeom>
          <a:ln w="1908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люс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Нижняя часть люстры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Используя разные формы квиллинга «завиток-сердце», «полумесяц», «треугольник», «капелька» собрать нижнюю часть люстры, обмотав полоской бумаги полученную заготовку.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22" name="Picture 4" descr="Рисунок2"/>
          <p:cNvPicPr/>
          <p:nvPr/>
        </p:nvPicPr>
        <p:blipFill>
          <a:blip r:embed="rId1"/>
          <a:stretch/>
        </p:blipFill>
        <p:spPr>
          <a:xfrm>
            <a:off x="2514600" y="3733920"/>
            <a:ext cx="5626080" cy="194616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да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Нарисовать эскиз, по которому будет выкладываться композици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25" name="Picture 9" descr="DSCN0641"/>
          <p:cNvPicPr/>
          <p:nvPr/>
        </p:nvPicPr>
        <p:blipFill>
          <a:blip r:embed="rId1"/>
          <a:stretch/>
        </p:blipFill>
        <p:spPr>
          <a:xfrm>
            <a:off x="3962520" y="2362320"/>
            <a:ext cx="2662200" cy="35812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да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05520" y="19051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Голов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Склеить 4-5 полосок (липовый мёд) шириной 3 мм между собой внахлёст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Скрутить полученную длинную полоску в плотный  ролл, одновременно придавая овальную форму. Подклеить внешний конец полоски и дать клею подсохнуть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Для того чтобы сделать нос, от полоски шириной 1,5 см (можно разрезать полоску 3 см вдоль), отрезать 3-4 см и скрутить в тугой ролл. Приклеить конец полоски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28" name="Picture 5" descr="DSC09191"/>
          <p:cNvPicPr/>
          <p:nvPr/>
        </p:nvPicPr>
        <p:blipFill>
          <a:blip r:embed="rId1"/>
          <a:stretch/>
        </p:blipFill>
        <p:spPr>
          <a:xfrm>
            <a:off x="1981080" y="1828800"/>
            <a:ext cx="2768760" cy="20764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29" name="Picture 6" descr="DSCN0647"/>
          <p:cNvPicPr/>
          <p:nvPr/>
        </p:nvPicPr>
        <p:blipFill>
          <a:blip r:embed="rId2"/>
          <a:stretch/>
        </p:blipFill>
        <p:spPr>
          <a:xfrm>
            <a:off x="2362320" y="4267080"/>
            <a:ext cx="2057400" cy="19288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Технология изготовления да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57800" y="1447920"/>
            <a:ext cx="3581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Шея и декольте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4 полоски (липовый мёд) соединить при помощи клея между собой. Сделать свободную спираль и сжать её в трёх местах, одновременно с одной стороны указательными пальцами сделать небольшой уголок. Чтобы закрепить форму, с обратной стороны надо промазать клеем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33" name="Picture 8" descr="DSCN0657"/>
          <p:cNvPicPr/>
          <p:nvPr/>
        </p:nvPicPr>
        <p:blipFill>
          <a:blip r:embed="rId1"/>
          <a:stretch/>
        </p:blipFill>
        <p:spPr>
          <a:xfrm>
            <a:off x="1905120" y="3429000"/>
            <a:ext cx="2759040" cy="308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4" name="Picture 9" descr="DSC09188"/>
          <p:cNvPicPr/>
          <p:nvPr/>
        </p:nvPicPr>
        <p:blipFill>
          <a:blip r:embed="rId2"/>
          <a:stretch/>
        </p:blipFill>
        <p:spPr>
          <a:xfrm>
            <a:off x="2057400" y="1295280"/>
            <a:ext cx="2692440" cy="201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Технология изготовления да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05160" y="1523520"/>
            <a:ext cx="3670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Руки, перчатки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Перчатки. Склеить между собой две полоски белого цвета, шириной 3 мм. Сделать свободную спираль. Придать форму перчатки. Чтобы закрепить форму, с обратной стороны надо промазать клеем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Для рук накрутить из половины полоски (липовый мёд, шириной 3 мм) 2 элемента «тюльпан», при этом у одного можно один уголок сделать длиннее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37" name="Picture 3" descr="DSC09193"/>
          <p:cNvPicPr/>
          <p:nvPr/>
        </p:nvPicPr>
        <p:blipFill>
          <a:blip r:embed="rId1"/>
          <a:stretch/>
        </p:blipFill>
        <p:spPr>
          <a:xfrm>
            <a:off x="2057400" y="1295280"/>
            <a:ext cx="2768760" cy="20764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38" name="Picture 8" descr="DSCN0661"/>
          <p:cNvPicPr/>
          <p:nvPr/>
        </p:nvPicPr>
        <p:blipFill>
          <a:blip r:embed="rId2"/>
          <a:stretch/>
        </p:blipFill>
        <p:spPr>
          <a:xfrm>
            <a:off x="2209680" y="3505320"/>
            <a:ext cx="2379960" cy="31240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Технология изготовления плат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Платье состоит из отдельных ролл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Лиф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Накрутить по 4 элемента «полумесяц», по 2 элемента «глаз», 1 элемент «треугольник» (</a:t>
            </a:r>
            <a:r>
              <a:rPr b="0" i="1" lang="ru-RU" sz="1800" spc="-1" strike="noStrike">
                <a:solidFill>
                  <a:srgbClr val="333300"/>
                </a:solidFill>
                <a:latin typeface="Arial"/>
              </a:rPr>
              <a:t>основные формы квиллинга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). На каждый элемент – половина полоски светло-сиреневого цвета, шириной 3 м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Чтобы создать имитацию складок, можно обернуть получившиеся спирали (роллы) белой полоской бумаг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41" name="Picture 8" descr="DSC09278"/>
          <p:cNvPicPr/>
          <p:nvPr/>
        </p:nvPicPr>
        <p:blipFill>
          <a:blip r:embed="rId1"/>
          <a:stretch/>
        </p:blipFill>
        <p:spPr>
          <a:xfrm>
            <a:off x="2057400" y="4267080"/>
            <a:ext cx="2997360" cy="181296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42" name="Picture 9" descr="DSC09281"/>
          <p:cNvPicPr/>
          <p:nvPr/>
        </p:nvPicPr>
        <p:blipFill>
          <a:blip r:embed="rId2"/>
          <a:stretch/>
        </p:blipFill>
        <p:spPr>
          <a:xfrm>
            <a:off x="1905120" y="1523880"/>
            <a:ext cx="3149640" cy="236232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Технология изготовления плат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86040" y="1523520"/>
            <a:ext cx="3505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Пояс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Из одной полоски светло-сиреневого цвета сделать прямоугольник, при этом два верхних уголка слегка изогнуть вверх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00"/>
                </a:solidFill>
                <a:uFillTx/>
                <a:latin typeface="Arial"/>
              </a:rPr>
              <a:t>Юбка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Соединить между собой при помощи клея «ПВА» 5 полосок светло-сиреневого цвета и одной полоски белого цвета.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Сделать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4 детали юбки. С обратной стороны, для фиксации, промазать клее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45" name="Picture 4" descr="DSC09307"/>
          <p:cNvPicPr/>
          <p:nvPr/>
        </p:nvPicPr>
        <p:blipFill>
          <a:blip r:embed="rId1"/>
          <a:stretch/>
        </p:blipFill>
        <p:spPr>
          <a:xfrm>
            <a:off x="2209680" y="1295280"/>
            <a:ext cx="2438640" cy="19512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46" name="Picture 6" descr="DSC09315"/>
          <p:cNvPicPr/>
          <p:nvPr/>
        </p:nvPicPr>
        <p:blipFill>
          <a:blip r:embed="rId2"/>
          <a:stretch/>
        </p:blipFill>
        <p:spPr>
          <a:xfrm>
            <a:off x="1447920" y="3429000"/>
            <a:ext cx="2390760" cy="28954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47" name="Rectangle 11"/>
          <p:cNvSpPr/>
          <p:nvPr/>
        </p:nvSpPr>
        <p:spPr>
          <a:xfrm>
            <a:off x="0" y="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0" y="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440" y="30823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1440" y="6530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51" name="Picture 15" descr="Рисунок2"/>
          <p:cNvPicPr/>
          <p:nvPr/>
        </p:nvPicPr>
        <p:blipFill>
          <a:blip r:embed="rId3"/>
          <a:stretch/>
        </p:blipFill>
        <p:spPr>
          <a:xfrm>
            <a:off x="4114800" y="3505320"/>
            <a:ext cx="1268280" cy="273024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52" name="Rectangle 16"/>
          <p:cNvSpPr/>
          <p:nvPr/>
        </p:nvSpPr>
        <p:spPr>
          <a:xfrm>
            <a:off x="4276440" y="6039720"/>
            <a:ext cx="740160" cy="337320"/>
          </a:xfrm>
          <a:prstGeom prst="rect">
            <a:avLst/>
          </a:prstGeom>
          <a:noFill/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1 дет</a:t>
            </a:r>
            <a:r>
              <a:rPr b="1" lang="en-US" sz="16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1685880" y="5735160"/>
            <a:ext cx="746280" cy="337320"/>
          </a:xfrm>
          <a:prstGeom prst="rect">
            <a:avLst/>
          </a:prstGeom>
          <a:noFill/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3 дет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3273480" cy="4191120"/>
          </a:xfrm>
          <a:prstGeom prst="rect">
            <a:avLst/>
          </a:prstGeom>
          <a:ln w="19080">
            <a:solidFill>
              <a:srgbClr val="666633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3124080" y="52574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Размер картины: 44х34 см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Высота фигурок – 11 с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Технология изготовления плат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62360" y="1523880"/>
            <a:ext cx="2971800" cy="456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Волан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Используя разные формы квиллинга «прямоугольник», «свободный ролл», «капелька» собрать волан, обмотав каждую деталь полоской белой бумаги полученную заготовк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Туфелька</a:t>
            </a:r>
            <a:r>
              <a:rPr b="0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Из половины полоски белого цвета сделать элемент «изогнутая капля»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rcRect l="0" t="64543" r="0" b="0"/>
          <a:stretch/>
        </p:blipFill>
        <p:spPr>
          <a:xfrm>
            <a:off x="1828800" y="4038480"/>
            <a:ext cx="3524400" cy="166716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57" name="Picture 9" descr="DSC09277"/>
          <p:cNvPicPr/>
          <p:nvPr/>
        </p:nvPicPr>
        <p:blipFill>
          <a:blip r:embed="rId2"/>
          <a:stretch/>
        </p:blipFill>
        <p:spPr>
          <a:xfrm>
            <a:off x="1981080" y="1447920"/>
            <a:ext cx="3149640" cy="201132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Технология изготовления плат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67280" y="1219320"/>
            <a:ext cx="2819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Заготовленные роллы выложить как мозаику на эскиз, постепенно склеивая их между собой небольшими участкам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0" name="Picture 13" descr="PIC_1158"/>
          <p:cNvPicPr/>
          <p:nvPr/>
        </p:nvPicPr>
        <p:blipFill>
          <a:blip r:embed="rId1"/>
          <a:stretch/>
        </p:blipFill>
        <p:spPr>
          <a:xfrm>
            <a:off x="1600200" y="1295280"/>
            <a:ext cx="3070080" cy="335304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61" name="Picture 14" descr="DSCN0645"/>
          <p:cNvPicPr/>
          <p:nvPr/>
        </p:nvPicPr>
        <p:blipFill>
          <a:blip r:embed="rId2"/>
          <a:stretch/>
        </p:blipFill>
        <p:spPr>
          <a:xfrm>
            <a:off x="6324480" y="4807080"/>
            <a:ext cx="2210040" cy="17334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6095880" y="3429000"/>
            <a:ext cx="2438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00"/>
                </a:solidFill>
                <a:uFillTx/>
                <a:latin typeface="Times New Roman"/>
              </a:rPr>
              <a:t>Веер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Из полоски бумаги белого цвета 2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5 см сделать гармошку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352680" y="4191120"/>
            <a:ext cx="1671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лось только собрать нашу даму и оформить лиц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6520" y="12952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6" name="Picture 5" descr="DSC09163"/>
          <p:cNvPicPr/>
          <p:nvPr/>
        </p:nvPicPr>
        <p:blipFill>
          <a:blip r:embed="rId1"/>
          <a:stretch/>
        </p:blipFill>
        <p:spPr>
          <a:xfrm>
            <a:off x="3589200" y="1295280"/>
            <a:ext cx="3159360" cy="452124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33"/>
                </a:solidFill>
                <a:latin typeface="Arial"/>
              </a:rPr>
              <a:t>Технология изготовления кавал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665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Используя разные формы квиллинга,  собрать кавалер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Оформить лицо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Picture 7" descr="PIC_0718"/>
          <p:cNvPicPr/>
          <p:nvPr/>
        </p:nvPicPr>
        <p:blipFill>
          <a:blip r:embed="rId1"/>
          <a:stretch/>
        </p:blipFill>
        <p:spPr>
          <a:xfrm>
            <a:off x="1981080" y="2895480"/>
            <a:ext cx="2979720" cy="335304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170" name="Picture 5" descr="PIC_0753"/>
          <p:cNvPicPr/>
          <p:nvPr/>
        </p:nvPicPr>
        <p:blipFill>
          <a:blip r:embed="rId2"/>
          <a:stretch/>
        </p:blipFill>
        <p:spPr>
          <a:xfrm>
            <a:off x="6019920" y="2514600"/>
            <a:ext cx="2479680" cy="38862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Оформление карти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313704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олученные заготовки приклеить на заранее приготовленную основу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осле чего изделие следует оформить в раму и повесить на стену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5" descr="DSCN0621"/>
          <p:cNvPicPr/>
          <p:nvPr/>
        </p:nvPicPr>
        <p:blipFill>
          <a:blip r:embed="rId1"/>
          <a:stretch/>
        </p:blipFill>
        <p:spPr>
          <a:xfrm>
            <a:off x="5257800" y="1523880"/>
            <a:ext cx="3527280" cy="4496040"/>
          </a:xfrm>
          <a:prstGeom prst="rect">
            <a:avLst/>
          </a:prstGeom>
          <a:ln w="1908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33"/>
                </a:solidFill>
                <a:latin typeface="Arial"/>
              </a:rPr>
              <a:t>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7400" y="1523520"/>
            <a:ext cx="5867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В презентации использован авторский фотоматериал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Технология изготовления разработана автором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ар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02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00"/>
                </a:solidFill>
                <a:uFillTx/>
                <a:latin typeface="Arial"/>
              </a:rPr>
              <a:t>Материалы: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плотный картон золотого цвета;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бумага белого цвета с перламутровым отливом;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аппликация самоклеющаяся;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полоски бумаги для квиллинга  «Золото» шириной 1,5 мм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3" name="Picture 5" descr="PIC_1314"/>
          <p:cNvPicPr/>
          <p:nvPr/>
        </p:nvPicPr>
        <p:blipFill>
          <a:blip r:embed="rId1"/>
          <a:stretch/>
        </p:blipFill>
        <p:spPr>
          <a:xfrm>
            <a:off x="3048120" y="3124080"/>
            <a:ext cx="3886200" cy="327996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ар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099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Нарисовать эскиз. Из картона золотого цвета вырезать  детали арки. Чтобы края были ровными лучше это сделать при помощи канцелярского ножа или ножниц с длинными лезвия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6" name="Picture 7" descr="PIC_1180"/>
          <p:cNvPicPr/>
          <p:nvPr/>
        </p:nvPicPr>
        <p:blipFill>
          <a:blip r:embed="rId1"/>
          <a:stretch/>
        </p:blipFill>
        <p:spPr>
          <a:xfrm>
            <a:off x="3124080" y="2971800"/>
            <a:ext cx="3810240" cy="31860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ар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491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Из белой бумаги вырезать такую же деталь, только чуть меньшего размер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клеить её на первую заготовку. Чтобы детали хорошо склеились между собой, можно положить их под пресс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89" name="Picture 7" descr="DSCN0720"/>
          <p:cNvPicPr/>
          <p:nvPr/>
        </p:nvPicPr>
        <p:blipFill>
          <a:blip r:embed="rId1"/>
          <a:stretch/>
        </p:blipFill>
        <p:spPr>
          <a:xfrm>
            <a:off x="3124080" y="3048120"/>
            <a:ext cx="41148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DSC0929"/>
          <p:cNvPicPr/>
          <p:nvPr/>
        </p:nvPicPr>
        <p:blipFill>
          <a:blip r:embed="rId1"/>
          <a:stretch/>
        </p:blipFill>
        <p:spPr>
          <a:xfrm>
            <a:off x="1447920" y="1523880"/>
            <a:ext cx="2143080" cy="327672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91" name="Picture 5" descr="DSC09288"/>
          <p:cNvPicPr/>
          <p:nvPr/>
        </p:nvPicPr>
        <p:blipFill>
          <a:blip r:embed="rId2"/>
          <a:stretch/>
        </p:blipFill>
        <p:spPr>
          <a:xfrm>
            <a:off x="3200400" y="2971800"/>
            <a:ext cx="2066760" cy="289548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92" name="Picture 6" descr="DSCN0703"/>
          <p:cNvPicPr/>
          <p:nvPr/>
        </p:nvPicPr>
        <p:blipFill>
          <a:blip r:embed="rId3"/>
          <a:stretch/>
        </p:blipFill>
        <p:spPr>
          <a:xfrm>
            <a:off x="5867280" y="4419720"/>
            <a:ext cx="2514600" cy="118404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Arial"/>
              </a:rPr>
              <a:t>Украшение ар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1676520"/>
            <a:ext cx="38224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Для украшения арки можно воспользоваться готовыми самоклеющимися аппликациям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SC09323"/>
          <p:cNvPicPr/>
          <p:nvPr/>
        </p:nvPicPr>
        <p:blipFill>
          <a:blip r:embed="rId1"/>
          <a:stretch/>
        </p:blipFill>
        <p:spPr>
          <a:xfrm>
            <a:off x="4952880" y="4038480"/>
            <a:ext cx="3353040" cy="22068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96" name="Picture 3" descr="DSC09267"/>
          <p:cNvPicPr/>
          <p:nvPr/>
        </p:nvPicPr>
        <p:blipFill>
          <a:blip r:embed="rId2"/>
          <a:stretch/>
        </p:blipFill>
        <p:spPr>
          <a:xfrm>
            <a:off x="1752480" y="3962520"/>
            <a:ext cx="2374920" cy="236052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pic>
        <p:nvPicPr>
          <p:cNvPr id="97" name="Picture 5" descr="DSC0"/>
          <p:cNvPicPr/>
          <p:nvPr/>
        </p:nvPicPr>
        <p:blipFill>
          <a:blip r:embed="rId3"/>
          <a:stretch/>
        </p:blipFill>
        <p:spPr>
          <a:xfrm>
            <a:off x="1905120" y="1600200"/>
            <a:ext cx="2031840" cy="198432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Arial"/>
              </a:rPr>
              <a:t>Украшение ар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9520" y="129528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Продолжаем украшать, используя разные формы квиллинга: «свободная спираль», «капелька», «изогнутая капля», «глаз», «С-образный завиток». Они придадут арке вид позолоченной лепнины. Ширина полоски – 1,5 мм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Arial"/>
              </a:rPr>
              <a:t>Украшение ар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PIC_1209"/>
          <p:cNvPicPr/>
          <p:nvPr/>
        </p:nvPicPr>
        <p:blipFill>
          <a:blip r:embed="rId1"/>
          <a:stretch/>
        </p:blipFill>
        <p:spPr>
          <a:xfrm>
            <a:off x="3352680" y="3886200"/>
            <a:ext cx="3048120" cy="242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DSC09290"/>
          <p:cNvPicPr/>
          <p:nvPr/>
        </p:nvPicPr>
        <p:blipFill>
          <a:blip r:embed="rId2"/>
          <a:stretch/>
        </p:blipFill>
        <p:spPr>
          <a:xfrm>
            <a:off x="1676520" y="1371600"/>
            <a:ext cx="2921040" cy="2190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DSC09289"/>
          <p:cNvPicPr/>
          <p:nvPr/>
        </p:nvPicPr>
        <p:blipFill>
          <a:blip r:embed="rId3"/>
          <a:stretch/>
        </p:blipFill>
        <p:spPr>
          <a:xfrm>
            <a:off x="4724280" y="1676520"/>
            <a:ext cx="4013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Arial"/>
              </a:rPr>
              <a:t>Технология изготовления люс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5000" y="1752480"/>
            <a:ext cx="2984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Материалы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бумага белого цвета с перламутровым отливом 1,0x1,5 см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олоски бумаги для квиллинга  «Золото» шириной 3 мм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6" name="Picture 6" descr="DSC09292"/>
          <p:cNvPicPr/>
          <p:nvPr/>
        </p:nvPicPr>
        <p:blipFill>
          <a:blip r:embed="rId1"/>
          <a:stretch/>
        </p:blipFill>
        <p:spPr>
          <a:xfrm>
            <a:off x="1752480" y="2133720"/>
            <a:ext cx="3835440" cy="2876400"/>
          </a:xfrm>
          <a:prstGeom prst="rect">
            <a:avLst/>
          </a:prstGeom>
          <a:ln w="12600">
            <a:solidFill>
              <a:srgbClr val="666633"/>
            </a:solidFill>
            <a:miter/>
          </a:ln>
        </p:spPr>
      </p:pic>
      <p:sp>
        <p:nvSpPr>
          <p:cNvPr id="107" name="Rectangle 7"/>
          <p:cNvSpPr/>
          <p:nvPr/>
        </p:nvSpPr>
        <p:spPr>
          <a:xfrm>
            <a:off x="1674720" y="548568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Высота люстры – 10 см, ширина – 5 см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9T16:26:28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