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7AE-4520-466C-97FF-F9803305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9C7-D9F2-4F80-A64F-26E84914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BDC-EB11-41C7-995B-291FE66A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44C-B1F2-49DB-9A47-A275E142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B581-52C9-4633-83CF-9E145AB7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D066-0D85-449D-82AE-4A609144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83B4-F579-44E3-AB33-1B93BE3D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9A21-C526-4BC5-90F7-08DF82B3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1E3B-FA43-4EE7-8C99-9D08DCED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DD57-04FE-4E48-9641-EA22284E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CDF9-B085-4346-8253-07B83D7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768-A340-408C-8C7A-15221069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3BE1-B8F3-43CD-A9CE-42CCC270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0B84-6FD2-4305-8838-5B2A657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D0EF-F3E7-4826-9703-1522C7A9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D7E4-CEE7-4D6F-8EEF-84C984BE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A4D0-F3D2-4976-A68C-B132E8BB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76488-BEB9-489F-BAF2-B6E9706D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B3E6-F609-49C0-B6D6-B7028735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C76C-EA80-4BD4-9E3A-7C3BF4CD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9EE0-F28D-4D5C-91D9-FF93E677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61CA-6A17-417F-AC06-78D00493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6C2-2BDB-45DB-92DC-FE73819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2369-AC7A-4BC1-98F7-35F03E7F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6FC2-D37A-49BC-A030-F8F90D23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D25C-6B4B-4A2B-96BE-2F5A76AF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6DC6-7C73-4CF5-AD30-AA342577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6E55-508E-4A7D-95A9-1FC001BC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4534-668F-441E-89A4-B78FF772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A65F-FDC9-4593-AE4F-1EBDA318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DED-37FA-4BCA-BBD9-7B80139A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4D3-8F6E-4948-B1EC-0FDD65F7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B41-1DC8-4888-A051-70695FCE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865-B267-492A-AB25-5BEFFAA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350-4991-4BC5-8F3A-5B325C6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CB8-40C6-4AD8-B306-67DCFD4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0CAB-56E8-48DD-8E3D-258F322499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EE09-3BF8-4BB6-AB49-A69002FA41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1082-3FCC-49E6-B3BC-FA3CCF0AFF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50920" y="1773000"/>
            <a:ext cx="4932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оминаци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«Картины, панно»</a:t>
            </a: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600"/>
            </a:br>
            <a:br>
              <a:rPr sz="2300"/>
            </a:br>
            <a:r>
              <a:rPr b="1" lang="en-US" sz="2300" spc="-1" strike="noStrike">
                <a:solidFill>
                  <a:srgbClr val="336699"/>
                </a:solidFill>
                <a:latin typeface="Verdana"/>
              </a:rPr>
              <a:t> «Храм Христа Спасителя»</a:t>
            </a:r>
            <a:br>
              <a:rPr sz="2300"/>
            </a:br>
            <a:r>
              <a:rPr b="1" i="1" lang="en-US" sz="1600" spc="-1" strike="noStrike">
                <a:solidFill>
                  <a:srgbClr val="336699"/>
                </a:solidFill>
                <a:latin typeface="Verdana"/>
              </a:rPr>
              <a:t>(холодный бати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00720" y="3500280"/>
            <a:ext cx="43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ученица 8Б класса Чернова Еле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итель технологии высшей категор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скова Светлана Юрье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Содержимое 6" descr="header.jpg"/>
          <p:cNvPicPr/>
          <p:nvPr/>
        </p:nvPicPr>
        <p:blipFill>
          <a:blip r:embed="rId2"/>
          <a:stretch/>
        </p:blipFill>
        <p:spPr>
          <a:xfrm>
            <a:off x="0" y="0"/>
            <a:ext cx="9145440" cy="80640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6" descr="slava-s.png"/>
          <p:cNvPicPr/>
          <p:nvPr/>
        </p:nvPicPr>
        <p:blipFill>
          <a:blip r:embed="rId3"/>
          <a:stretch/>
        </p:blipFill>
        <p:spPr>
          <a:xfrm>
            <a:off x="7164360" y="112680"/>
            <a:ext cx="1711440" cy="1332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2129760" y="90792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http://tehnologi.su/index/konkurs_1812/0-5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859280" y="4869000"/>
            <a:ext cx="3117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БОУ ООШ №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. Новокуйбышевс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амарской обл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900000" y="1989000"/>
            <a:ext cx="2897280" cy="3672000"/>
          </a:xfrm>
          <a:prstGeom prst="rect">
            <a:avLst/>
          </a:prstGeom>
          <a:ln w="12600">
            <a:solidFill>
              <a:srgbClr val="a3b2c1"/>
            </a:solidFill>
            <a:miter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Материалы и инстр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464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/б ткань белого цвета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ки для росписи тка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ерв прозрачный для нанесения контура рисун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бочка стеклянная под резер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сти натуральные разного размер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ма или деревянный подрамник для роспис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опки для закрепления ткани на рам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литра для смешивания красо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нка или стакан для промывания кис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564000" cy="2649600"/>
          </a:xfrm>
          <a:prstGeom prst="rect">
            <a:avLst/>
          </a:prstGeom>
          <a:ln w="12600">
            <a:solidFill>
              <a:srgbClr val="a3b2c1"/>
            </a:solidFill>
            <a:miter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Технология выпол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тянуть равномерно ткань на деревянный подрамник (как можно туже). Неправильная натяжка приведет к искажению рисунка. Ткань можно предварительно постирать. Это нужно для лучшего растекания краски по ткани. Затем надо тщательно прополоскать выстиранную ткань и отжать, не выкручивая. После чего ткань необходимо проутюжи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9732" t="0" r="0" b="0"/>
          <a:stretch/>
        </p:blipFill>
        <p:spPr>
          <a:xfrm>
            <a:off x="2987640" y="3645000"/>
            <a:ext cx="3746520" cy="2325600"/>
          </a:xfrm>
          <a:prstGeom prst="rect">
            <a:avLst/>
          </a:prstGeom>
          <a:ln w="12600">
            <a:solidFill>
              <a:srgbClr val="a3b2c1"/>
            </a:solidFill>
            <a:miter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Технология выполн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187800" cy="42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87640" y="1844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рисовать эскиз Храма на бумаге в натуральную величи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ложить эскиз будущей картины под ткань, обвести рисунок специальным фломастером (можно мягким простым карандашо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Технология выполн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32130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вести рисунок по контуру прозрачным резервом в стеклянной трубочке. который наносят на ткань в виде замкнутого контура, и в пределах этого контура красками расписывают издел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этого нужно подождать несколько часов, чтобы работа высох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0" r="6513" b="19569"/>
          <a:stretch/>
        </p:blipFill>
        <p:spPr>
          <a:xfrm>
            <a:off x="4643280" y="2276640"/>
            <a:ext cx="3932280" cy="2620800"/>
          </a:xfrm>
          <a:prstGeom prst="rect">
            <a:avLst/>
          </a:prstGeom>
          <a:ln w="12600">
            <a:solidFill>
              <a:srgbClr val="a3b2c1"/>
            </a:solidFill>
            <a:miter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Технология выполн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392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ести как можно больше оттенков на палитре. Расписывать изделие красками надо с более светлых тонов, стараясь не задевать резервные линии и другие плоскости. Если краситель протек сквозь резерв, то надо дождаться высыхания краски, а за тем обвести резервом "пробивший" контур. Для точной подборки цветов, лучше сделать палит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2981160" cy="4267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Окончательная отделка издел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2204640"/>
            <a:ext cx="3421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кончательной отделки изделия необходимо закрепить краски на ткани, утюгом прогладить с изнаночной сторо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чего изделие следует оформить в раму и повесить на сте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36096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40464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Информационные ресур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2420640"/>
            <a:ext cx="80010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irenabatik.ru/galeryeya-batika/risunki-xramov-batik.html Рисунки храмов - бат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m-batik.ru/2009/06/01/texniki-batika/  техника холодного ба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festival.1september.ru/articles/591112/ Батик. Практическое руководство по росписи тка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okgams-batik.narod.ru/batik.html Технология бат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http://tworchestwo21.blogspot.ru/2012/11/1812.html#more Блог Светланы Носков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3:23:10Z</dcterms:created>
  <dc:creator>admin</dc:creator>
  <dc:description/>
  <dc:language>en-US</dc:language>
  <cp:lastModifiedBy>Admin</cp:lastModifiedBy>
  <dcterms:modified xsi:type="dcterms:W3CDTF">2012-11-19T15:26:35Z</dcterms:modified>
  <cp:revision>19</cp:revision>
  <dc:subject/>
  <dc:title>Роспись ткани</dc:title>
</cp:coreProperties>
</file>