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9.png" ContentType="image/png"/>
  <Override PartName="/ppt/media/image1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B38C-FC92-4AD3-A146-AF5614CED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DD15-ECFD-4778-B797-E3A22A35D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326A-3492-4B94-9FF1-430789994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E79F-2E63-421B-86F0-8B076D305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CC15F-05F1-4AB3-8F47-6106422DE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D1120-FFB8-4195-B96B-15D12E154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B0670-08BC-4C30-A2C6-4F0BF57BB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38C55-A82B-4556-92E7-CEE37DFBE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05063-2810-4694-958B-4BA50C75F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284D8-AF14-4C7B-B716-620AD3589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A4E1B-5161-4C4C-8A71-C698C540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AE92-D8E2-4797-89BC-EC7FAFB2F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7E4EC-02D0-4E46-A7FC-5901C42B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0FFAD-F5DC-43C2-B6FA-90902B38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9A2CA-DC64-400B-99CD-DC3829FC6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C9A1C-DEEA-4F1F-A151-F32F21984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A275C-E0C0-45EE-ADF1-9E5F71D7B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1D08A-31E1-4751-8D99-36903F0E2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67DD1-0543-4998-AEE4-CAB019EE7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2991A-BA95-4332-99CC-DB73AE29C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15BFC-899C-4810-8524-DED2B0674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D65B8-B5A9-4964-96BE-4947541F5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AC32-8373-438E-B848-9DC6550DA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31646-1706-4B4F-8BDF-B6689105E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61857-4C83-4DEB-AAD8-150BE854C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55C71-674E-4E20-9359-7DDF90382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E87A7-F25E-4B67-8F0F-9552D5D44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25BDB-AA04-40BF-8B5D-43585F950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8DA04-48A3-4E58-99F5-51743BF66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C3928-A4FB-4F64-8570-A07826486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EC0E-EE2D-4D3E-8F91-B6A6E5E61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A9CF-460D-4B19-ADFC-EBCD0FA72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B0AF-9641-45CB-9FEF-4F7422C53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0875-548C-4DFA-BB96-C0CF508A3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C937-EC49-4E35-B750-8E19D8D6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CC64-3436-4AD8-9CE6-18FAC557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B57C5-1C1C-4C96-A5C5-F1B74BBB05A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18508-94D4-41B1-B840-B6A655DFC8B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EC8AA-A179-4E93-83D6-2336F8CD00D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50920" y="1773000"/>
            <a:ext cx="49323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Номинация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1900" spc="-1" strike="noStrike">
                <a:solidFill>
                  <a:srgbClr val="000000"/>
                </a:solidFill>
                <a:latin typeface="Verdana"/>
              </a:rPr>
              <a:t>«Картины, панно»</a:t>
            </a:r>
            <a:r>
              <a:rPr b="0" lang="en-US" sz="46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4600"/>
            </a:br>
            <a:br>
              <a:rPr sz="2300"/>
            </a:br>
            <a:r>
              <a:rPr b="1" lang="en-US" sz="2300" spc="-1" strike="noStrike">
                <a:solidFill>
                  <a:srgbClr val="336699"/>
                </a:solidFill>
                <a:latin typeface="Verdana"/>
              </a:rPr>
              <a:t> «Храм Христа Спасителя»</a:t>
            </a:r>
            <a:br>
              <a:rPr sz="2300"/>
            </a:br>
            <a:r>
              <a:rPr b="1" i="1" lang="en-US" sz="1600" spc="-1" strike="noStrike">
                <a:solidFill>
                  <a:srgbClr val="336699"/>
                </a:solidFill>
                <a:latin typeface="Verdana"/>
              </a:rPr>
              <a:t>(холодный батик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4500720" y="3500280"/>
            <a:ext cx="4319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Выполнил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: ученица 8Б класса Чернова Елен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Руководитель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учитель технологии высшей категор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оскова Светлана Юрьевн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Содержимое 6" descr="header.jpg"/>
          <p:cNvPicPr/>
          <p:nvPr/>
        </p:nvPicPr>
        <p:blipFill>
          <a:blip r:embed="rId2"/>
          <a:stretch/>
        </p:blipFill>
        <p:spPr>
          <a:xfrm>
            <a:off x="0" y="0"/>
            <a:ext cx="9145440" cy="806400"/>
          </a:xfrm>
          <a:prstGeom prst="rect">
            <a:avLst/>
          </a:prstGeom>
          <a:ln w="0">
            <a:noFill/>
          </a:ln>
        </p:spPr>
      </p:pic>
      <p:pic>
        <p:nvPicPr>
          <p:cNvPr id="144" name="Содержимое 6" descr="slava-s.png"/>
          <p:cNvPicPr/>
          <p:nvPr/>
        </p:nvPicPr>
        <p:blipFill>
          <a:blip r:embed="rId3"/>
          <a:stretch/>
        </p:blipFill>
        <p:spPr>
          <a:xfrm>
            <a:off x="7164360" y="112680"/>
            <a:ext cx="1711440" cy="13320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9"/>
          <p:cNvSpPr/>
          <p:nvPr/>
        </p:nvSpPr>
        <p:spPr>
          <a:xfrm>
            <a:off x="2129760" y="907920"/>
            <a:ext cx="473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http://tehnologi.su/index/konkurs_1812/0-51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4859280" y="4869000"/>
            <a:ext cx="31179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ГБОУ ООШ №2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г. Новокуйбышевск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Самарской област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12 год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900000" y="1989000"/>
            <a:ext cx="2897280" cy="3672000"/>
          </a:xfrm>
          <a:prstGeom prst="rect">
            <a:avLst/>
          </a:prstGeom>
          <a:ln w="12600">
            <a:solidFill>
              <a:srgbClr val="a3b2c1"/>
            </a:solidFill>
            <a:miter/>
          </a:ln>
        </p:spPr>
      </p:pic>
    </p:spTree>
  </p:cSld>
  <p:transition spd="slow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Verdana"/>
              </a:rPr>
              <a:t>Материалы и инструмен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4464000" cy="40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/б ткань белого цвета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раски для росписи ткан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зерв прозрачный для нанесения контура рисунк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рубочка стеклянная под резер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исти натуральные разного размер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ма или деревянный подрамник для роспис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нопки для закрепления ткани на раме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литра для смешивания красок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анка или стакан для промывания кисте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148360" y="2492280"/>
            <a:ext cx="3564000" cy="2649600"/>
          </a:xfrm>
          <a:prstGeom prst="rect">
            <a:avLst/>
          </a:prstGeom>
          <a:ln w="12600">
            <a:solidFill>
              <a:srgbClr val="a3b2c1"/>
            </a:solidFill>
            <a:miter/>
          </a:ln>
        </p:spPr>
      </p:pic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Verdana"/>
              </a:rPr>
              <a:t>Технология выполнен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0728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тянуть равномерно ткань на деревянный подрамник (как можно туже). Неправильная натяжка приведет к искажению рисунка. Ткань можно предварительно постирать. Это нужно для лучшего растекания краски по ткани. Затем надо тщательно прополоскать выстиранную ткань и отжать, не выкручивая. После чего ткань необходимо проутюжи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rcRect l="9732" t="0" r="0" b="0"/>
          <a:stretch/>
        </p:blipFill>
        <p:spPr>
          <a:xfrm>
            <a:off x="2987640" y="3645000"/>
            <a:ext cx="3746520" cy="2325600"/>
          </a:xfrm>
          <a:prstGeom prst="rect">
            <a:avLst/>
          </a:prstGeom>
          <a:ln w="12600">
            <a:solidFill>
              <a:srgbClr val="a3b2c1"/>
            </a:solidFill>
            <a:miter/>
          </a:ln>
        </p:spPr>
      </p:pic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Verdana"/>
              </a:rPr>
              <a:t>Технология выполн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900000" y="1844640"/>
            <a:ext cx="3187800" cy="4248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787640" y="1844280"/>
            <a:ext cx="3924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рисовать эскиз Храма на бумаге в натуральную величину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дложить эскиз будущей картины под ткань, обвести рисунок специальным фломастером (можно мягким простым карандашом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80010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Verdana"/>
              </a:rPr>
              <a:t>Технология выполн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32130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вести рисунок по контуру прозрачным резервом в стеклянной трубочке. который наносят на ткань в виде замкнутого контура, и в пределах этого контура красками расписывают изделие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сле этого нужно подождать несколько часов, чтобы работа высохл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rcRect l="0" t="0" r="6513" b="19569"/>
          <a:stretch/>
        </p:blipFill>
        <p:spPr>
          <a:xfrm>
            <a:off x="4643280" y="2276640"/>
            <a:ext cx="3932280" cy="2620800"/>
          </a:xfrm>
          <a:prstGeom prst="rect">
            <a:avLst/>
          </a:prstGeom>
          <a:ln w="12600">
            <a:solidFill>
              <a:srgbClr val="a3b2c1"/>
            </a:solidFill>
            <a:miter/>
          </a:ln>
        </p:spPr>
      </p:pic>
    </p:spTree>
  </p:cSld>
  <p:transition spd="slow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280" y="549360"/>
            <a:ext cx="80010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Verdana"/>
              </a:rPr>
              <a:t>Технология выполн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42920" y="2133360"/>
            <a:ext cx="392436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вести как можно больше оттенков на палитре. Расписывать изделие красками надо с более светлых тонов, стараясь не задевать резервные линии и другие плоскости. Если краситель протек сквозь резерв, то надо дождаться высыхания краски, а за тем обвести резервом "пробивший" контур. Для точной подборки цветов, лучше сделать палитру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258920" y="1773360"/>
            <a:ext cx="2981160" cy="42670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Verdana"/>
              </a:rPr>
              <a:t>Окончательная отделка издел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99640" y="2204640"/>
            <a:ext cx="342108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ля окончательной отделки изделия необходимо закрепить краски на ткани, утюгом прогладить с изнаночной сторон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сле чего изделие следует оформить в раму и повесить на стен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219640" y="1700280"/>
            <a:ext cx="3360960" cy="4321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4200" y="40464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Verdana"/>
              </a:rPr>
              <a:t>Информационные ресурс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66280" y="2420640"/>
            <a:ext cx="80010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http://irenabatik.ru/galeryeya-batika/risunki-xramov-batik.html Рисунки храмов - батик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http://m-batik.ru/2009/06/01/texniki-batika/  техника холодного батик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http://festival.1september.ru/articles/591112/ Батик. Практическое руководство по росписи ткан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http://okgams-batik.narod.ru/batik.html Технология батик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http://tworchestwo21.blogspot.ru/2012/11/1812.html#more Блог Светланы Носково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13:23:10Z</dcterms:created>
  <dc:creator>admin</dc:creator>
  <dc:description/>
  <dc:language>en-US</dc:language>
  <cp:lastModifiedBy>Admin</cp:lastModifiedBy>
  <dcterms:modified xsi:type="dcterms:W3CDTF">2012-11-19T15:26:35Z</dcterms:modified>
  <cp:revision>19</cp:revision>
  <dc:subject/>
  <dc:title>Роспись ткани</dc:title>
</cp:coreProperties>
</file>