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52.jpeg" ContentType="image/jpeg"/>
  <Override PartName="/ppt/media/image38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9.jpeg" ContentType="image/jpeg"/>
  <Override PartName="/ppt/media/image12.jpeg" ContentType="image/jpeg"/>
  <Override PartName="/ppt/media/image50.jpeg" ContentType="image/jpeg"/>
  <Override PartName="/ppt/media/image37.jpeg" ContentType="image/jpeg"/>
  <Override PartName="/ppt/media/image60.jpeg" ContentType="image/jpeg"/>
  <Override PartName="/ppt/media/image3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59.jpeg" ContentType="image/jpeg"/>
  <Override PartName="/ppt/media/image42.jpeg" ContentType="image/jpeg"/>
  <Override PartName="/ppt/media/image18.jpeg" ContentType="image/jpeg"/>
  <Override PartName="/ppt/media/image14.jpeg" ContentType="image/jpeg"/>
  <Override PartName="/ppt/media/image41.jpeg" ContentType="image/jpeg"/>
  <Override PartName="/ppt/media/image24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5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57.jpeg" ContentType="image/jpeg"/>
  <Override PartName="/ppt/media/image5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DD78B-2471-4B2F-BF89-5FB86ACBC6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0CF27-EBA1-407F-90F5-B81B77CE70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D781-4092-46EB-AAC5-064A475A9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DF2D-D937-4043-9909-41C7CD55D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77F3-D673-4E8B-A182-D53C2AAB2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75DE-4A5F-4411-9242-71DC1322F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6DDE-3093-4C29-A280-B5D9C2632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C8F7-35D0-4623-BC82-9A56E35C7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68DA-4DA0-4AD3-AB51-0D9ED119B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A32A-671B-4D57-9CDC-2661FC487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923A-7541-4BA7-BBA7-170623902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A0C7-B772-4F7C-8EB3-03407F35E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A009-9296-460C-BFBA-999A598DD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7CB3-8FC4-48E7-85C4-C733BFD88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B202B-EC21-407A-8853-EB8BC0DAC7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5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58.jpeg"/><Relationship Id="rId5" Type="http://schemas.openxmlformats.org/officeDocument/2006/relationships/image" Target="../media/image59.jpeg"/><Relationship Id="rId6" Type="http://schemas.openxmlformats.org/officeDocument/2006/relationships/image" Target="../media/image60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71720" y="19285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6600"/>
                </a:solidFill>
                <a:latin typeface="Academy Engraved LET"/>
              </a:rPr>
              <a:t>ФИТОТКАЧЕСТВО</a:t>
            </a:r>
            <a:br>
              <a:rPr sz="5400"/>
            </a:br>
            <a:r>
              <a:rPr b="1" i="1" lang="ru-RU" sz="3200" spc="-1" strike="noStrike">
                <a:solidFill>
                  <a:srgbClr val="006600"/>
                </a:solidFill>
                <a:latin typeface="Academy Engraved LET"/>
              </a:rPr>
              <a:t>Круговое плет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Подзаголовок 6" descr=""/>
          <p:cNvPicPr/>
          <p:nvPr/>
        </p:nvPicPr>
        <p:blipFill>
          <a:blip r:embed="rId1"/>
          <a:stretch/>
        </p:blipFill>
        <p:spPr>
          <a:xfrm>
            <a:off x="3852720" y="4754520"/>
            <a:ext cx="6772320" cy="15066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3723480" y="6488280"/>
            <a:ext cx="159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2012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1" descr="header"/>
          <p:cNvPicPr/>
          <p:nvPr/>
        </p:nvPicPr>
        <p:blipFill>
          <a:blip r:embed="rId2"/>
          <a:stretch/>
        </p:blipFill>
        <p:spPr>
          <a:xfrm>
            <a:off x="0" y="0"/>
            <a:ext cx="6500880" cy="78588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1" descr="http://tehnologi.su/01-Simonenko/01/Prjanosti/tm_2012.jpg"/>
          <p:cNvPicPr/>
          <p:nvPr/>
        </p:nvPicPr>
        <p:blipFill>
          <a:blip r:embed="rId3"/>
          <a:stretch/>
        </p:blipFill>
        <p:spPr>
          <a:xfrm>
            <a:off x="6500880" y="0"/>
            <a:ext cx="2643120" cy="114444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5"/>
          <p:cNvSpPr/>
          <p:nvPr/>
        </p:nvSpPr>
        <p:spPr>
          <a:xfrm>
            <a:off x="285840" y="785880"/>
            <a:ext cx="63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http://tehnologi.su/index/skazka_rukotvorchestva/0-5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1" descr=""/>
          <p:cNvPicPr/>
          <p:nvPr/>
        </p:nvPicPr>
        <p:blipFill>
          <a:blip r:embed="rId4"/>
          <a:stretch/>
        </p:blipFill>
        <p:spPr>
          <a:xfrm>
            <a:off x="2214720" y="4929120"/>
            <a:ext cx="1676160" cy="1785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" descr=""/>
          <p:cNvPicPr/>
          <p:nvPr/>
        </p:nvPicPr>
        <p:blipFill>
          <a:blip r:embed="rId5"/>
          <a:stretch/>
        </p:blipFill>
        <p:spPr>
          <a:xfrm>
            <a:off x="142920" y="2714760"/>
            <a:ext cx="1587600" cy="1796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" descr=""/>
          <p:cNvPicPr/>
          <p:nvPr/>
        </p:nvPicPr>
        <p:blipFill>
          <a:blip r:embed="rId6"/>
          <a:stretch/>
        </p:blipFill>
        <p:spPr>
          <a:xfrm>
            <a:off x="714240" y="4357800"/>
            <a:ext cx="1589400" cy="18064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13840" y="-360"/>
            <a:ext cx="60008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Этапы работы (вариант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-360" y="713880"/>
            <a:ext cx="635796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Лучевое ткачество с отверстием в центр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авливаем картонную основу для ткачества аналогично первому варианту. Чертим в центре  малый круг диаметром 6-7см, вырезаем - рассечек не делае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ую нить прокладываем без натяжения через верхние рассечки с двух сторон картон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очной нитью (нить можно не менять) выполняем полотняное переплетение по кругу, заполняя сначала внутреннее отверстие, а затем выходя на 1см на лицевую сторону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6692760" y="0"/>
            <a:ext cx="2451240" cy="2428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"/>
          <p:cNvPicPr/>
          <p:nvPr/>
        </p:nvPicPr>
        <p:blipFill>
          <a:blip r:embed="rId2"/>
          <a:stretch/>
        </p:blipFill>
        <p:spPr>
          <a:xfrm>
            <a:off x="6684840" y="2571840"/>
            <a:ext cx="2459160" cy="18572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"/>
          <p:cNvPicPr/>
          <p:nvPr/>
        </p:nvPicPr>
        <p:blipFill>
          <a:blip r:embed="rId3"/>
          <a:stretch/>
        </p:blipFill>
        <p:spPr>
          <a:xfrm>
            <a:off x="6210360" y="4765680"/>
            <a:ext cx="2933640" cy="20923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"/>
          <p:cNvPicPr/>
          <p:nvPr/>
        </p:nvPicPr>
        <p:blipFill>
          <a:blip r:embed="rId4"/>
          <a:stretch/>
        </p:blipFill>
        <p:spPr>
          <a:xfrm>
            <a:off x="1785960" y="4768920"/>
            <a:ext cx="2786040" cy="2089080"/>
          </a:xfrm>
          <a:prstGeom prst="rect">
            <a:avLst/>
          </a:prstGeom>
          <a:ln w="0">
            <a:noFill/>
          </a:ln>
        </p:spPr>
      </p:pic>
      <p:sp>
        <p:nvSpPr>
          <p:cNvPr id="135" name="TextBox 10"/>
          <p:cNvSpPr/>
          <p:nvPr/>
        </p:nvSpPr>
        <p:spPr>
          <a:xfrm>
            <a:off x="867240" y="6611760"/>
            <a:ext cx="1884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иркова Т.М., учитель технологи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85840" y="0"/>
            <a:ext cx="59292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Этапы работы (вариант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-360" y="856800"/>
            <a:ext cx="642924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наночную сторону закрываем полностью  до рассечек - тк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ë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 полотно этой же нитью. По желанию можно соткать рисунок  или выполнить ткачество с применением  тра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тимофеевки обрезаем колоски. Руками вводим колосок через одну нить. Тк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ë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 полотно, накладывая колоски с небольшим заходом друг на друга - до упора – пока позволяет натяжение основных ните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вшийся участок – до надрезов – тк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ë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 уточной                                                                             нитью,                                                                           выполняя                                                         полотняное                                                                                          переплет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6786720" y="2000160"/>
            <a:ext cx="2143080" cy="12859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"/>
          <p:cNvPicPr/>
          <p:nvPr/>
        </p:nvPicPr>
        <p:blipFill>
          <a:blip r:embed="rId2"/>
          <a:stretch/>
        </p:blipFill>
        <p:spPr>
          <a:xfrm>
            <a:off x="6786720" y="3286080"/>
            <a:ext cx="2357280" cy="1971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"/>
          <p:cNvPicPr/>
          <p:nvPr/>
        </p:nvPicPr>
        <p:blipFill>
          <a:blip r:embed="rId3"/>
          <a:stretch/>
        </p:blipFill>
        <p:spPr>
          <a:xfrm>
            <a:off x="6786720" y="4521240"/>
            <a:ext cx="2357280" cy="23367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" descr=""/>
          <p:cNvPicPr/>
          <p:nvPr/>
        </p:nvPicPr>
        <p:blipFill>
          <a:blip r:embed="rId4"/>
          <a:stretch/>
        </p:blipFill>
        <p:spPr>
          <a:xfrm>
            <a:off x="2928960" y="4681440"/>
            <a:ext cx="2786040" cy="21765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2" descr=""/>
          <p:cNvPicPr/>
          <p:nvPr/>
        </p:nvPicPr>
        <p:blipFill>
          <a:blip r:embed="rId5"/>
          <a:stretch/>
        </p:blipFill>
        <p:spPr>
          <a:xfrm>
            <a:off x="6786720" y="0"/>
            <a:ext cx="2143080" cy="2052720"/>
          </a:xfrm>
          <a:prstGeom prst="rect">
            <a:avLst/>
          </a:prstGeom>
          <a:ln w="0">
            <a:noFill/>
          </a:ln>
        </p:spPr>
      </p:pic>
      <p:sp>
        <p:nvSpPr>
          <p:cNvPr id="143" name="TextBox 14"/>
          <p:cNvSpPr/>
          <p:nvPr/>
        </p:nvSpPr>
        <p:spPr>
          <a:xfrm>
            <a:off x="724320" y="6611760"/>
            <a:ext cx="1884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иркова Т.М., учитель технологи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85480" y="-360"/>
            <a:ext cx="60008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Этапы работы  (вариант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0" y="857160"/>
            <a:ext cx="65008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куратно отрезаем картон вплотную к нижнему краю надсечек, не задевая нитей основ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яем круговое ткачество уточной нитью с лицевой и изнаночной сторон вплотную к краю. Картон по боковой стороне также  закрываем, выполняя  еще 2-3 круга ткачеств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товая работа имеет интересную фактуру и ее можно использовать без дополнительного декора – прекрасное поле для творчества. А можно придумать оригинальный яркий декор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ЖЕЛА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</a:t>
            </a:r>
            <a:r>
              <a:rPr b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ТВОРЧЕСКИ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УСПЕХОВ!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6672240" y="2928960"/>
            <a:ext cx="2471760" cy="2428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"/>
          <p:cNvPicPr/>
          <p:nvPr/>
        </p:nvPicPr>
        <p:blipFill>
          <a:blip r:embed="rId2"/>
          <a:stretch/>
        </p:blipFill>
        <p:spPr>
          <a:xfrm>
            <a:off x="6694560" y="5357880"/>
            <a:ext cx="2449440" cy="12859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0" descr=""/>
          <p:cNvPicPr/>
          <p:nvPr/>
        </p:nvPicPr>
        <p:blipFill>
          <a:blip r:embed="rId3"/>
          <a:stretch/>
        </p:blipFill>
        <p:spPr>
          <a:xfrm>
            <a:off x="6715080" y="0"/>
            <a:ext cx="2428920" cy="29289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1" descr=""/>
          <p:cNvPicPr/>
          <p:nvPr/>
        </p:nvPicPr>
        <p:blipFill>
          <a:blip r:embed="rId4"/>
          <a:stretch/>
        </p:blipFill>
        <p:spPr>
          <a:xfrm>
            <a:off x="2857680" y="4390920"/>
            <a:ext cx="2571480" cy="2467080"/>
          </a:xfrm>
          <a:prstGeom prst="rect">
            <a:avLst/>
          </a:prstGeom>
          <a:ln w="0">
            <a:noFill/>
          </a:ln>
        </p:spPr>
      </p:pic>
      <p:sp>
        <p:nvSpPr>
          <p:cNvPr id="150" name="TextBox 9"/>
          <p:cNvSpPr/>
          <p:nvPr/>
        </p:nvSpPr>
        <p:spPr>
          <a:xfrm>
            <a:off x="3582000" y="6611760"/>
            <a:ext cx="1884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иркова Т.М., учитель технологи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ове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14200" y="785880"/>
            <a:ext cx="8715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♣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кругового ткачества можно использовать практически все растения с гибким стеблем, а также почки деревьев, веточки с плодами и ягодами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♣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ения для кругового ткачества лучше использовать в сыром или полусыром виде – чуть подвяленные – они станут мягче и легче будет работать. При пересушивании  стебли будут ломать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♣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азмещения работ лучше выбрать то место, куда меньше всего будут попадать солнечные лучи и сохранят их от выцвета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♣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товые работы, с использованием цветов и трав, высыхая, могут изменить свой цвет – стать темнее или светлее, но все равно сохраняют свою оригинальность. Кроме того, работы требуют бережного отношения при перемещении. После полного высыхания можно покрыть лаком для волос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♣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ранее продумайте вариант применения работы, чтобы при необходимости  сразу сделать крепл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3"/>
          <p:cNvSpPr/>
          <p:nvPr/>
        </p:nvSpPr>
        <p:spPr>
          <a:xfrm>
            <a:off x="3000240" y="6611760"/>
            <a:ext cx="2643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иркова Т.М., учитель технологи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Готовые работы после полной суш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785880" y="1143000"/>
            <a:ext cx="2519280" cy="28940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"/>
          <p:cNvPicPr/>
          <p:nvPr/>
        </p:nvPicPr>
        <p:blipFill>
          <a:blip r:embed="rId2"/>
          <a:stretch/>
        </p:blipFill>
        <p:spPr>
          <a:xfrm>
            <a:off x="3214800" y="4016520"/>
            <a:ext cx="2500200" cy="28414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"/>
          <p:cNvPicPr/>
          <p:nvPr/>
        </p:nvPicPr>
        <p:blipFill>
          <a:blip r:embed="rId3"/>
          <a:stretch/>
        </p:blipFill>
        <p:spPr>
          <a:xfrm>
            <a:off x="5643720" y="1071720"/>
            <a:ext cx="2687400" cy="29289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"/>
          <p:cNvPicPr/>
          <p:nvPr/>
        </p:nvPicPr>
        <p:blipFill>
          <a:blip r:embed="rId4"/>
          <a:stretch/>
        </p:blipFill>
        <p:spPr>
          <a:xfrm>
            <a:off x="214200" y="4071960"/>
            <a:ext cx="2449800" cy="27860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"/>
          <p:cNvPicPr/>
          <p:nvPr/>
        </p:nvPicPr>
        <p:blipFill>
          <a:blip r:embed="rId5"/>
          <a:stretch/>
        </p:blipFill>
        <p:spPr>
          <a:xfrm>
            <a:off x="6215040" y="4022640"/>
            <a:ext cx="2500200" cy="28353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"/>
          <p:cNvPicPr/>
          <p:nvPr/>
        </p:nvPicPr>
        <p:blipFill>
          <a:blip r:embed="rId6"/>
          <a:stretch/>
        </p:blipFill>
        <p:spPr>
          <a:xfrm>
            <a:off x="3946680" y="928800"/>
            <a:ext cx="1171440" cy="3071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Источники 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irinadvorkina.ru/luchevoe.html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лучевое ткаче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сылки на картинки во втором слайд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rinadvorkina.ru/salfetki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katinclub.ru/wp-content/uploads/2011/02/%D0%A4%D0%BE%D1%82%D0%BE0402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bashvest.ru/photos/22.05.2008/medium/IMG_1945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 презентации использованы авторские фотограф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3"/>
          <p:cNvSpPr/>
          <p:nvPr/>
        </p:nvSpPr>
        <p:spPr>
          <a:xfrm>
            <a:off x="3582000" y="6611760"/>
            <a:ext cx="1884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иркова Т.М., учитель технологи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428840" y="428760"/>
            <a:ext cx="750096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говое плетение известно с древности. Необычная техника получила свое название – лучевое ткачество - по лучеобразному принципу натягивания нитей основы, пересекающиеся в центре круга. Уток пересекает нити основы по круг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я различную пряжу,  с помощью этой техники можно соткать  салфетки, подставки по горячее, коврики, круглые сумки, мини-гобеле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енные на мастер-классе работы, сочетают в себе традиционную  технологию лучевого ткачества и новое применение природного материала в качестве  уточных нитей. В результате получаются работы, которым можно найти оригинальное применение или  составить интересные  компози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0" y="3571920"/>
            <a:ext cx="1647720" cy="1643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http://irinadvorkina.ru/salfetki.jpg"/>
          <p:cNvPicPr/>
          <p:nvPr/>
        </p:nvPicPr>
        <p:blipFill>
          <a:blip r:embed="rId2"/>
          <a:stretch/>
        </p:blipFill>
        <p:spPr>
          <a:xfrm>
            <a:off x="0" y="0"/>
            <a:ext cx="1643040" cy="2071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"/>
          <p:cNvPicPr/>
          <p:nvPr/>
        </p:nvPicPr>
        <p:blipFill>
          <a:blip r:embed="rId3"/>
          <a:stretch/>
        </p:blipFill>
        <p:spPr>
          <a:xfrm>
            <a:off x="0" y="5199120"/>
            <a:ext cx="1643040" cy="165888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6" descr="Из ничего сделали нечто"/>
          <p:cNvPicPr/>
          <p:nvPr/>
        </p:nvPicPr>
        <p:blipFill>
          <a:blip r:embed="rId4"/>
          <a:stretch/>
        </p:blipFill>
        <p:spPr>
          <a:xfrm>
            <a:off x="0" y="2071800"/>
            <a:ext cx="1660680" cy="1500120"/>
          </a:xfrm>
          <a:prstGeom prst="rect">
            <a:avLst/>
          </a:prstGeom>
          <a:ln w="0">
            <a:noFill/>
          </a:ln>
        </p:spPr>
      </p:pic>
      <p:sp>
        <p:nvSpPr>
          <p:cNvPr id="62" name="TextBox 6"/>
          <p:cNvSpPr/>
          <p:nvPr/>
        </p:nvSpPr>
        <p:spPr>
          <a:xfrm>
            <a:off x="3582000" y="6611760"/>
            <a:ext cx="1884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иркова Т.М., учитель технологи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Организация рабочего ме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14200" y="785880"/>
            <a:ext cx="8715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чее место должно хорошо освещенным и иметь ровную поверх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работе с природным материалом необходимо надеть фартук, а рабочий стол  застелить клеенкой. Подготовить  газету, пакет или коробку для складирования отходов и мусора  при выполнении работ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менты и приспособления расположить со стороны рабочей руки (справа – если правша), а материалы – сле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одный материал лучше держать  в  коробке или пакете, отдельно каждый ви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облюдение техники безопасности   </a:t>
            </a:r>
            <a:r>
              <a:rPr b="1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(прил.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ка фитоткачества связана с применением  ручных работ. Во избежании травм, следует соблюдать осторожность при работе с острыми и режущими инструментами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3"/>
          <p:cNvSpPr/>
          <p:nvPr/>
        </p:nvSpPr>
        <p:spPr>
          <a:xfrm>
            <a:off x="3582000" y="6611760"/>
            <a:ext cx="1884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иркова Т.М., учитель технологи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4200" y="0"/>
            <a:ext cx="8715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Мини-панно    (три вариант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56760" y="857160"/>
            <a:ext cx="5072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Материалы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он (коробочный, гофрокартон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/б или льняная пряжа, шпага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ва пыр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евер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машк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мофеев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571720" y="857160"/>
            <a:ext cx="335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Инструменты и   приспособления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жницы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ла с большим ушко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нейк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ркуль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ндаш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ючок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1928880" y="4143240"/>
            <a:ext cx="2017800" cy="27147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"/>
          <p:cNvPicPr/>
          <p:nvPr/>
        </p:nvPicPr>
        <p:blipFill>
          <a:blip r:embed="rId2"/>
          <a:stretch/>
        </p:blipFill>
        <p:spPr>
          <a:xfrm>
            <a:off x="0" y="4143240"/>
            <a:ext cx="1968480" cy="27147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"/>
          <p:cNvPicPr/>
          <p:nvPr/>
        </p:nvPicPr>
        <p:blipFill>
          <a:blip r:embed="rId3"/>
          <a:stretch/>
        </p:blipFill>
        <p:spPr>
          <a:xfrm>
            <a:off x="7500960" y="4143240"/>
            <a:ext cx="1643040" cy="27147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1" descr=""/>
          <p:cNvPicPr/>
          <p:nvPr/>
        </p:nvPicPr>
        <p:blipFill>
          <a:blip r:embed="rId4"/>
          <a:stretch/>
        </p:blipFill>
        <p:spPr>
          <a:xfrm>
            <a:off x="3929040" y="4143240"/>
            <a:ext cx="3619440" cy="2714760"/>
          </a:xfrm>
          <a:prstGeom prst="rect">
            <a:avLst/>
          </a:prstGeom>
          <a:ln w="0">
            <a:noFill/>
          </a:ln>
        </p:spPr>
      </p:pic>
      <p:sp>
        <p:nvSpPr>
          <p:cNvPr id="73" name="TextBox 11"/>
          <p:cNvSpPr/>
          <p:nvPr/>
        </p:nvSpPr>
        <p:spPr>
          <a:xfrm>
            <a:off x="3224880" y="6611760"/>
            <a:ext cx="1884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иркова Т.М., учитель технологи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42600" y="0"/>
            <a:ext cx="600084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Этапы работы (вариант 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785880"/>
            <a:ext cx="707220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яемся с размером работы.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20см.) С помощью циркуля  чертим круг на картоне нужного радиуса  и вырезае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им окружность на нечетное количество частей: по краю окружности намечаем и делаем надрезы  глубиной 0,5см, с расстоянием между точками 1,4с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яем натягивание основной нити  на картон для лучевого ткачества ( см. прил.2). Нить прокладываем свободно, чтобы картонный круг не согнулся и легче было выполнять уточное плет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7151760" y="0"/>
            <a:ext cx="1992240" cy="17859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"/>
          <p:cNvPicPr/>
          <p:nvPr/>
        </p:nvPicPr>
        <p:blipFill>
          <a:blip r:embed="rId2"/>
          <a:stretch/>
        </p:blipFill>
        <p:spPr>
          <a:xfrm>
            <a:off x="7143840" y="1433520"/>
            <a:ext cx="2000160" cy="1969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3"/>
          <a:stretch/>
        </p:blipFill>
        <p:spPr>
          <a:xfrm>
            <a:off x="7572240" y="2351160"/>
            <a:ext cx="1571760" cy="22208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"/>
          <p:cNvPicPr/>
          <p:nvPr/>
        </p:nvPicPr>
        <p:blipFill>
          <a:blip r:embed="rId4"/>
          <a:stretch/>
        </p:blipFill>
        <p:spPr>
          <a:xfrm>
            <a:off x="4429080" y="45720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" descr=""/>
          <p:cNvPicPr/>
          <p:nvPr/>
        </p:nvPicPr>
        <p:blipFill>
          <a:blip r:embed="rId5"/>
          <a:stretch/>
        </p:blipFill>
        <p:spPr>
          <a:xfrm>
            <a:off x="7429680" y="4570560"/>
            <a:ext cx="1714320" cy="22874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6"/>
          <a:stretch/>
        </p:blipFill>
        <p:spPr>
          <a:xfrm>
            <a:off x="2214720" y="4572000"/>
            <a:ext cx="2360520" cy="2286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"/>
          <p:cNvPicPr/>
          <p:nvPr/>
        </p:nvPicPr>
        <p:blipFill>
          <a:blip r:embed="rId7"/>
          <a:stretch/>
        </p:blipFill>
        <p:spPr>
          <a:xfrm>
            <a:off x="0" y="4586400"/>
            <a:ext cx="2286000" cy="2271600"/>
          </a:xfrm>
          <a:prstGeom prst="rect">
            <a:avLst/>
          </a:prstGeom>
          <a:ln w="0">
            <a:noFill/>
          </a:ln>
        </p:spPr>
      </p:pic>
      <p:sp>
        <p:nvSpPr>
          <p:cNvPr id="83" name="TextBox 11"/>
          <p:cNvSpPr/>
          <p:nvPr/>
        </p:nvSpPr>
        <p:spPr>
          <a:xfrm>
            <a:off x="216360" y="5572080"/>
            <a:ext cx="173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наночная сторо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Прямая со стрелкой 18"/>
          <p:cNvCxnSpPr/>
          <p:nvPr/>
        </p:nvCxnSpPr>
        <p:spPr>
          <a:xfrm flipH="1" flipV="1">
            <a:off x="7857360" y="5500080"/>
            <a:ext cx="72360" cy="857880"/>
          </a:xfrm>
          <a:prstGeom prst="straightConnector1">
            <a:avLst/>
          </a:prstGeom>
          <a:ln w="0">
            <a:noFill/>
          </a:ln>
        </p:spPr>
      </p:cxnSp>
      <p:sp>
        <p:nvSpPr>
          <p:cNvPr id="85" name="Круговая стрелка 25"/>
          <p:cNvSpPr/>
          <p:nvPr/>
        </p:nvSpPr>
        <p:spPr>
          <a:xfrm>
            <a:off x="8286840" y="4714920"/>
            <a:ext cx="857160" cy="1071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Прямая со стрелкой 27"/>
          <p:cNvCxnSpPr/>
          <p:nvPr/>
        </p:nvCxnSpPr>
        <p:spPr>
          <a:xfrm>
            <a:off x="5429160" y="4357800"/>
            <a:ext cx="915120" cy="915120"/>
          </a:xfrm>
          <a:prstGeom prst="straightConnector1">
            <a:avLst/>
          </a:prstGeom>
          <a:ln w="0">
            <a:noFill/>
          </a:ln>
        </p:spPr>
      </p:cxnSp>
      <p:sp>
        <p:nvSpPr>
          <p:cNvPr id="87" name="Прямоугольник 28"/>
          <p:cNvSpPr/>
          <p:nvPr/>
        </p:nvSpPr>
        <p:spPr>
          <a:xfrm rot="21267000">
            <a:off x="8170560" y="5952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9"/>
          <p:cNvSpPr/>
          <p:nvPr/>
        </p:nvSpPr>
        <p:spPr>
          <a:xfrm>
            <a:off x="8431920" y="61437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0"/>
          <p:cNvSpPr/>
          <p:nvPr/>
        </p:nvSpPr>
        <p:spPr>
          <a:xfrm>
            <a:off x="8431920" y="50720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31"/>
          <p:cNvSpPr/>
          <p:nvPr/>
        </p:nvSpPr>
        <p:spPr>
          <a:xfrm rot="502800">
            <a:off x="8213760" y="4868640"/>
            <a:ext cx="49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32"/>
          <p:cNvSpPr/>
          <p:nvPr/>
        </p:nvSpPr>
        <p:spPr>
          <a:xfrm>
            <a:off x="7717680" y="50720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33"/>
          <p:cNvSpPr/>
          <p:nvPr/>
        </p:nvSpPr>
        <p:spPr>
          <a:xfrm rot="21423600">
            <a:off x="7800480" y="4856040"/>
            <a:ext cx="38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34"/>
          <p:cNvSpPr/>
          <p:nvPr/>
        </p:nvSpPr>
        <p:spPr>
          <a:xfrm rot="490200">
            <a:off x="7829280" y="5954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35"/>
          <p:cNvSpPr/>
          <p:nvPr/>
        </p:nvSpPr>
        <p:spPr>
          <a:xfrm>
            <a:off x="7717680" y="6072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36"/>
          <p:cNvSpPr/>
          <p:nvPr/>
        </p:nvSpPr>
        <p:spPr>
          <a:xfrm rot="18967800">
            <a:off x="6221520" y="48402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37"/>
          <p:cNvSpPr/>
          <p:nvPr/>
        </p:nvSpPr>
        <p:spPr>
          <a:xfrm rot="8848200">
            <a:off x="4988160" y="59922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9680" y="-360"/>
            <a:ext cx="60721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Этапы работы  (вариант 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0" y="785880"/>
            <a:ext cx="621504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тр работы тк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ë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 основной нитью. После натягивания основы оставляем нить длиной 0,5м., отрезаем от катушки и вдеваем в иглу с большим ушком. Нить ведем по одному из лучей к центру и начинаем ткать по кругу, выполняя полотняное переплетение. Перебираем иглой основную нить через одну на небольшом участке – подтягиваем  к центру как можно плотнее. Так выполняем   3-4 круг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ть закрепляем, выводя иглу через центр переплетения нитей – обрезае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ую травинку пырея слегка прокручиваем пальцами, делая ее эластичней и похожей на нить. Вводим траву руками толстым концом вперед, отступив на 5-6 лучей назад -  внакладку по ходу предыдущей нит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6357960" y="0"/>
            <a:ext cx="2500200" cy="17859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"/>
          <p:cNvPicPr/>
          <p:nvPr/>
        </p:nvPicPr>
        <p:blipFill>
          <a:blip r:embed="rId2"/>
          <a:stretch/>
        </p:blipFill>
        <p:spPr>
          <a:xfrm>
            <a:off x="6357960" y="1428840"/>
            <a:ext cx="2500200" cy="18223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1" descr=""/>
          <p:cNvPicPr/>
          <p:nvPr/>
        </p:nvPicPr>
        <p:blipFill>
          <a:blip r:embed="rId3"/>
          <a:stretch/>
        </p:blipFill>
        <p:spPr>
          <a:xfrm>
            <a:off x="6357960" y="3214800"/>
            <a:ext cx="1090440" cy="17143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4"/>
          <a:stretch/>
        </p:blipFill>
        <p:spPr>
          <a:xfrm>
            <a:off x="6357960" y="4929120"/>
            <a:ext cx="2546280" cy="1928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"/>
          <p:cNvPicPr/>
          <p:nvPr/>
        </p:nvPicPr>
        <p:blipFill>
          <a:blip r:embed="rId5"/>
          <a:stretch/>
        </p:blipFill>
        <p:spPr>
          <a:xfrm>
            <a:off x="7858080" y="3214800"/>
            <a:ext cx="1017720" cy="1714320"/>
          </a:xfrm>
          <a:prstGeom prst="rect">
            <a:avLst/>
          </a:prstGeom>
          <a:ln w="0">
            <a:noFill/>
          </a:ln>
        </p:spPr>
      </p:pic>
      <p:sp>
        <p:nvSpPr>
          <p:cNvPr id="104" name="TextBox 20"/>
          <p:cNvSpPr/>
          <p:nvPr/>
        </p:nvSpPr>
        <p:spPr>
          <a:xfrm>
            <a:off x="2867760" y="6627960"/>
            <a:ext cx="1884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иркова Т.М., учитель технологи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52862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Этапы работы  (вариант 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0" y="928800"/>
            <a:ext cx="614376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етем небольшой участок – аккуратно пододвигаем к центру, чтобы трава не порвалась, а  тонкий конец травинки лег на         2-3см внакладку на конец нити. Подбиваем (поддавливаем)  к центру с помощью крючка или тупого конца толстой игл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ять перебираем нити через одну – выполняя полотняное переплетение на небольшом участке. Аккуратно пододвигаем  к центру, насколько позволяет основа и подбивае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ую новую травинку вводим так, чтобы ее тонкий конец лег на конец предыдущей травинки, т.е. внакладку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етем травой до получения полотна нужного диаметра, например, 12с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"/>
          <p:cNvPicPr/>
          <p:nvPr/>
        </p:nvPicPr>
        <p:blipFill>
          <a:blip r:embed="rId1"/>
          <a:stretch/>
        </p:blipFill>
        <p:spPr>
          <a:xfrm>
            <a:off x="6286680" y="0"/>
            <a:ext cx="2857320" cy="18334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"/>
          <p:cNvPicPr/>
          <p:nvPr/>
        </p:nvPicPr>
        <p:blipFill>
          <a:blip r:embed="rId2"/>
          <a:stretch/>
        </p:blipFill>
        <p:spPr>
          <a:xfrm>
            <a:off x="6286680" y="1428840"/>
            <a:ext cx="2857320" cy="2313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1" descr=""/>
          <p:cNvPicPr/>
          <p:nvPr/>
        </p:nvPicPr>
        <p:blipFill>
          <a:blip r:embed="rId3"/>
          <a:stretch/>
        </p:blipFill>
        <p:spPr>
          <a:xfrm>
            <a:off x="6286680" y="3143160"/>
            <a:ext cx="2857320" cy="2214720"/>
          </a:xfrm>
          <a:prstGeom prst="rect">
            <a:avLst/>
          </a:prstGeom>
          <a:ln w="0">
            <a:noFill/>
          </a:ln>
        </p:spPr>
      </p:pic>
      <p:sp>
        <p:nvSpPr>
          <p:cNvPr id="110" name="TextBox 11"/>
          <p:cNvSpPr/>
          <p:nvPr/>
        </p:nvSpPr>
        <p:spPr>
          <a:xfrm>
            <a:off x="2867760" y="6611760"/>
            <a:ext cx="1884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иркова Т.М., учитель технологи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9" descr=""/>
          <p:cNvPicPr/>
          <p:nvPr/>
        </p:nvPicPr>
        <p:blipFill>
          <a:blip r:embed="rId4"/>
          <a:stretch/>
        </p:blipFill>
        <p:spPr>
          <a:xfrm>
            <a:off x="6286680" y="5213520"/>
            <a:ext cx="2857320" cy="164448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57578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Этапы работы  (вариант 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6716880" y="0"/>
            <a:ext cx="2427120" cy="23605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"/>
          <p:cNvPicPr/>
          <p:nvPr/>
        </p:nvPicPr>
        <p:blipFill>
          <a:blip r:embed="rId2"/>
          <a:stretch/>
        </p:blipFill>
        <p:spPr>
          <a:xfrm>
            <a:off x="6716880" y="2000160"/>
            <a:ext cx="2427120" cy="21798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"/>
          <p:cNvPicPr/>
          <p:nvPr/>
        </p:nvPicPr>
        <p:blipFill>
          <a:blip r:embed="rId3"/>
          <a:stretch/>
        </p:blipFill>
        <p:spPr>
          <a:xfrm>
            <a:off x="285840" y="4605480"/>
            <a:ext cx="2286000" cy="2252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"/>
          <p:cNvPicPr/>
          <p:nvPr/>
        </p:nvPicPr>
        <p:blipFill>
          <a:blip r:embed="rId4"/>
          <a:stretch/>
        </p:blipFill>
        <p:spPr>
          <a:xfrm>
            <a:off x="6721560" y="4143240"/>
            <a:ext cx="2422440" cy="14335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"/>
          <p:cNvPicPr/>
          <p:nvPr/>
        </p:nvPicPr>
        <p:blipFill>
          <a:blip r:embed="rId5"/>
          <a:stretch/>
        </p:blipFill>
        <p:spPr>
          <a:xfrm>
            <a:off x="6716880" y="5330880"/>
            <a:ext cx="2427120" cy="1527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"/>
          <p:cNvPicPr/>
          <p:nvPr/>
        </p:nvPicPr>
        <p:blipFill>
          <a:blip r:embed="rId6"/>
          <a:stretch/>
        </p:blipFill>
        <p:spPr>
          <a:xfrm>
            <a:off x="4143240" y="4568760"/>
            <a:ext cx="2413080" cy="22892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-360" y="785880"/>
            <a:ext cx="66438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им цветы клевера: цветок на  стебельке с небольшими листиками – стебельком вперед. Стараемся ткать как можно плотнее, укладывая цветы внакладку. При протягивании уплотнений с листиками – помогаем крючко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яем ткачество цветами до упора – пока позволит натяжение основных нитей. Снимаем работу с картона – скидывая основную нить с надрезов. Проверяем работу с изнанки: обрезаем и заправляем хвосты, вплетаем цветы в  прорехи или надставляем по краю, делая обвивку нитью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  ГОТОВА!                                    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2653200" y="6611760"/>
            <a:ext cx="1884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иркова Т.М., учитель технологи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5480" y="0"/>
            <a:ext cx="56149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Этапы работы  (вариант 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4200" y="714240"/>
            <a:ext cx="607248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ой вариант на примере работы с ромашкой. Стебель ромашки разбираем на более мелкие части. Ткачество травой (центральный круг) производим аналогично первому вариант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ица заключается в том, что после каждого ряда вплетения ромашки, тк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ë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 один круг нитью. За счет чего хорошо фиксируются стебельки ромашки и получается   плотное полотно. После снятия с картона этой же нитью оплетаем кра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3" descr=""/>
          <p:cNvPicPr/>
          <p:nvPr/>
        </p:nvPicPr>
        <p:blipFill>
          <a:blip r:embed="rId1"/>
          <a:stretch/>
        </p:blipFill>
        <p:spPr>
          <a:xfrm>
            <a:off x="6429240" y="0"/>
            <a:ext cx="2355840" cy="26859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6443640" y="2428920"/>
            <a:ext cx="2700360" cy="22129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"/>
          <p:cNvPicPr/>
          <p:nvPr/>
        </p:nvPicPr>
        <p:blipFill>
          <a:blip r:embed="rId3"/>
          <a:stretch/>
        </p:blipFill>
        <p:spPr>
          <a:xfrm>
            <a:off x="6477120" y="4572000"/>
            <a:ext cx="2666880" cy="20001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"/>
          <p:cNvPicPr/>
          <p:nvPr/>
        </p:nvPicPr>
        <p:blipFill>
          <a:blip r:embed="rId4"/>
          <a:stretch/>
        </p:blipFill>
        <p:spPr>
          <a:xfrm>
            <a:off x="3000240" y="4643280"/>
            <a:ext cx="3179880" cy="2214720"/>
          </a:xfrm>
          <a:prstGeom prst="rect">
            <a:avLst/>
          </a:prstGeom>
          <a:ln w="0">
            <a:noFill/>
          </a:ln>
        </p:spPr>
      </p:pic>
      <p:sp>
        <p:nvSpPr>
          <p:cNvPr id="127" name="TextBox 8"/>
          <p:cNvSpPr/>
          <p:nvPr/>
        </p:nvSpPr>
        <p:spPr>
          <a:xfrm>
            <a:off x="7248960" y="6627960"/>
            <a:ext cx="1884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иркова Т.М., учитель технологи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9" descr=""/>
          <p:cNvPicPr/>
          <p:nvPr/>
        </p:nvPicPr>
        <p:blipFill>
          <a:blip r:embed="rId5"/>
          <a:stretch/>
        </p:blipFill>
        <p:spPr>
          <a:xfrm>
            <a:off x="500040" y="4643280"/>
            <a:ext cx="2220840" cy="221472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3T09:03:55Z</dcterms:created>
  <dc:creator>Virkova T.M.</dc:creator>
  <dc:description/>
  <dc:language>en-US</dc:language>
  <cp:lastModifiedBy>Алнка</cp:lastModifiedBy>
  <dcterms:modified xsi:type="dcterms:W3CDTF">2012-08-14T18:02:19Z</dcterms:modified>
  <cp:revision>93</cp:revision>
  <dc:subject/>
  <dc:title>Fitotkachestvo. Krugovoe pletenie</dc:title>
</cp:coreProperties>
</file>