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BA2-5F89-4C2A-BD77-1CFA4FF9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2D1-3F70-4830-A662-825931F8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10F-4ECE-49F1-99A2-60A3539A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4A5-FDDD-45BE-A2F7-C618C431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A88-4A21-4FD8-87E3-F8EF0E99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AFD-1FE4-4C2E-ABCE-7B11611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EB3-6D64-4222-8AD9-601CEF53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B12-379A-43B3-A6BD-82F3FAC6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B08-1A1E-48BF-AB0B-CA283E9C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267-B744-4874-8BCD-CBCAD608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84E-EB12-45CE-A40F-E7A2E90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C64-9206-4163-9A47-867C5E0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7E8D-3F8E-41A3-B9E7-3DB1968AE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tehnologi.su/index/skazka_rukotvorchestva/0-528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Virkova%20prilozhenie%201.doc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Georgia"/>
              </a:rPr>
              <a:t>ФИТОТКАЧЕСТВО</a:t>
            </a:r>
            <a:br>
              <a:rPr sz="5400"/>
            </a:br>
            <a:r>
              <a:rPr b="0" i="1" lang="ru-RU" sz="4400" spc="-1" strike="noStrike">
                <a:solidFill>
                  <a:srgbClr val="800000"/>
                </a:solidFill>
                <a:latin typeface="Georgia"/>
              </a:rPr>
              <a:t>Техника плетения циновок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2" name="Подзаголовок 15" descr=""/>
          <p:cNvPicPr/>
          <p:nvPr/>
        </p:nvPicPr>
        <p:blipFill>
          <a:blip r:embed="rId1"/>
          <a:stretch/>
        </p:blipFill>
        <p:spPr>
          <a:xfrm>
            <a:off x="3956040" y="4767120"/>
            <a:ext cx="6443640" cy="1792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" descr="http://tehnologi.su/01-Simonenko/01/Prjanosti/tm_2012.jpg"/>
          <p:cNvPicPr/>
          <p:nvPr/>
        </p:nvPicPr>
        <p:blipFill>
          <a:blip r:embed="rId2"/>
          <a:stretch/>
        </p:blipFill>
        <p:spPr>
          <a:xfrm>
            <a:off x="6500880" y="0"/>
            <a:ext cx="2643120" cy="11444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header"/>
          <p:cNvPicPr/>
          <p:nvPr/>
        </p:nvPicPr>
        <p:blipFill>
          <a:blip r:embed="rId3"/>
          <a:stretch/>
        </p:blipFill>
        <p:spPr>
          <a:xfrm>
            <a:off x="0" y="0"/>
            <a:ext cx="6500880" cy="7858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6"/>
          <p:cNvSpPr/>
          <p:nvPr/>
        </p:nvSpPr>
        <p:spPr>
          <a:xfrm>
            <a:off x="990720" y="7621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Calibri"/>
                <a:hlinkClick r:id="rId4"/>
              </a:rPr>
              <a:t>http://tehnologi.su/index/skazka_rukotvorchestva/0-5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7"/>
          <p:cNvSpPr/>
          <p:nvPr/>
        </p:nvSpPr>
        <p:spPr>
          <a:xfrm>
            <a:off x="3690000" y="6488280"/>
            <a:ext cx="15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19814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8"/>
          <p:cNvSpPr/>
          <p:nvPr/>
        </p:nvSpPr>
        <p:spPr>
          <a:xfrm>
            <a:off x="37519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6172200" y="462924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Этапы   рабо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3772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Для получения ровного края панно первой приплетаем веточку. Кладем ее на торец и завязываем  нитями  двойным узлом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ледующими располагаем веточки конского щавеля. Грубые стебли убираем, оставляя только веточки с цветами-плодами. Толщина слоя одинаковая по всей ширине полотна. Нити с грузиками перекидываем через работу на противоположные стороны: переднюю – назад, заднюю – вперед. Главное: следим за тем, чтобы нити висели строго по намеченным линиям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Аналогично приплетаем веточки полын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Этапы  рабо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838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 этом этапе полотно смещаем к переднему краю торца. Раскладываем природный материал равномерным слоем и приплетаем: перекидываем нити на противоположные стороны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Если нити стали короткими – снимаем петлю, распускаем нить на нужную величину и опять закрепляем петле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Корзинки тысячелистника, пижмы, плоды липы, сначала укладываем в пучки, а потом приплетаем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116100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6248520" y="46864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3429000" y="485784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80880" y="4876920"/>
            <a:ext cx="26672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Горькая полынь напоминает мимозу и ароматно                                                                       пахне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5943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Этапы  рабо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37720"/>
            <a:ext cx="8839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Чередуем природный материал, ориентируясь на цветовую гамму, фактуру, собственный вкус и желание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од листья рогоза, чтобы они не сломались,  подкладываем веточку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се очень просто! Главное! – нити , на месте переплетения – на торце станка  (парты) должны всегда лежать точно на линии!  И тогда работа будет получаться равномерно сотканно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40575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276720" y="405756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6934320" y="4049640"/>
            <a:ext cx="2209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Этапы   рабо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914400"/>
            <a:ext cx="6248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Заканчиваем работу, как и начало – веточкой, завязывая нитями двойные узл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Работу по боковым сторонам можно выровнять – обрезать, а можно оставить с «хвостиками»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вободные концы нитей завязываем в общий пучок и делаем петлю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ушим работу на газетах, подальше от солнечных лучей. Панно готово!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300" spc="-1" strike="noStrike">
                <a:solidFill>
                  <a:srgbClr val="800000"/>
                </a:solidFill>
                <a:latin typeface="Georgia"/>
              </a:rPr>
              <a:t>ЖЕЛАЮ                                          ТВОРЧЕСКИХ УСПЕХОВ!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329520" y="0"/>
            <a:ext cx="2814480" cy="3843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365880" y="4359240"/>
            <a:ext cx="27781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Источники   информаци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unduchokruk.ru/post164072925 - коврик из растительного материал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sunduchokruk.ru/post164073115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- гобелен из целебных тра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applepages.kz/ru/view_element.php?id=23523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- как сделать коврик из тростни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www.feja-nitok.ru/tkaqshestvo/357-administrator.html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- коврик из луговых тра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tyup.moy.su/_ph/7/2/979709220.jpg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ссылка на картинк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Georgia"/>
              </a:rPr>
              <a:t>В презентации использованы   авторские фотограф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3599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04920" y="7621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ользование техники плетения циновок для создания настенного панно из природного материала предлагается как альтернатива уже общеизвестным: ткачество на станке, ткачество на бердышке, ткачество на рамк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лагаемая техника имеет ряд преимуществ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ораздо удобнее раскладывать природный материал для сплетен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зволяет выполнять работы большего размер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требует фактически никаких затрат на приспособления;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рантировано качественный результат работ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590920" y="0"/>
            <a:ext cx="3943080" cy="61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6095880" y="5924520"/>
            <a:ext cx="304812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3048120" y="5924520"/>
            <a:ext cx="3047760" cy="93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0" y="5924520"/>
            <a:ext cx="3048120" cy="933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35233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Техника плетения циново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3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До сих пор многие мастера Азии и Востока используют ручную технологию плетения циновок для создания своих работ, соединяя стебли тростника на самобытном традиционном станке, где основой являются несколько рядов  нитей, которые перекидываются через каждый стебель с одной стороны на другую.   Для  этого,  нити  для  скрепления  тростника  наматываются   на грузики и закрепляются петлей для того, чтобы при навешивании нитей на перекладину станка, они не разматывались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5924520"/>
            <a:ext cx="3048120" cy="933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6095880" y="5924520"/>
            <a:ext cx="3048120" cy="9334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Плетение чия"/>
          <p:cNvPicPr/>
          <p:nvPr/>
        </p:nvPicPr>
        <p:blipFill>
          <a:blip r:embed="rId3"/>
          <a:stretch/>
        </p:blipFill>
        <p:spPr>
          <a:xfrm>
            <a:off x="2720880" y="4267080"/>
            <a:ext cx="3708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Организация рабочего мес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066320"/>
            <a:ext cx="876312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бочее место должно хорошо освещенным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работе с природным материалом необходимо надеть фартук, а рабочее место  застелить клеенкой. Подготовить  газету, пакет или коробку для складирования отходов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 algn="just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родный материал лучше держать  в  коробке или бумажном  пакете, отдельно каждый вид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eorgia"/>
                <a:ea typeface="Times New Roman"/>
              </a:rPr>
              <a:t>Соблюдение техники безопасности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  <a:ea typeface="Times New Roman"/>
                <a:hlinkClick r:id="rId1"/>
              </a:rPr>
              <a:t>(прил.1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Техника плетения связана с применением  ручных работ. Во избежании травм, следует соблюдать осторожность при работе с острыми и режущими инструментами!!!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6095880" y="5924520"/>
            <a:ext cx="3048120" cy="933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3048120" y="5924520"/>
            <a:ext cx="3047760" cy="933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0" y="5924520"/>
            <a:ext cx="3048120" cy="9334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3599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Настенное панн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3772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МАТЕРИАЛ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чная  пряжа, шпагат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ыпучий материал (песок, соль, сахар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котч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атман или белый лист бумаг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родный материал: (прил.3) цветущая полынь разного вида, конский щавель, тростник и его соцветия, тысячелистник, пижма, зверобой,  соцветия вейника, мышиный горошек, две прямые веточки – палочк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81120" y="8380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Ы   И ПРИСПОСОБЛЕНИЯ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 Ножницы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 Карандаш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 Линейк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Школьная парта (прямоугольный стол) или самобытный станок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астиковые баночки из под витамин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5924520"/>
            <a:ext cx="3048120" cy="93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048120" y="5924520"/>
            <a:ext cx="3047760" cy="933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6095880" y="5924520"/>
            <a:ext cx="3048120" cy="933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9"/>
          <p:cNvSpPr/>
          <p:nvPr/>
        </p:nvSpPr>
        <p:spPr>
          <a:xfrm>
            <a:off x="367560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Этапы  рабо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240" y="9907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яем размер работы и  цветовую гамму в которой она будет выполнена. Для этого      надо знать ее будущее месторасположе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               (Образец размером 60х90, будет украшать двери кладовой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бираем природный материал отдельно по пакетам. Количество зависит от размера будущей работ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15360" indent="-315360" algn="just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кладываем материал на газете или полиэтилене, создавая тот рисунок и фактуру панно, который хотите получи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654520" y="1371600"/>
            <a:ext cx="3489480" cy="47214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352332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Этапы  рабо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837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Решаем, как часто будем сплетать природный материал между собой.  Для панно шириной 60см берем: 5,5-7-7-7-7-7-7-7-5,5  = девять полос. Значит,   18 пластиковых баночек  наполняем  сыпучим материалом (соль, сахар, песок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резаем нити,  длиной в 4 раза больше высоты панно. 90х4 = 3,6м.  Девять нитей по 4 метра.  На каждой нити, для ориентира, посередине завязываем узелок. Концы нитей завязываем на горловине баночек, наматываем, не доходя до узла 25-30см, и закрепляем обхватной петлей, чтобы нить не разматывалась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47242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"/>
          <p:cNvSpPr/>
          <p:nvPr/>
        </p:nvSpPr>
        <p:spPr>
          <a:xfrm>
            <a:off x="359928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Этапы  рабо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914400"/>
            <a:ext cx="6019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ри выполнении работы в школе используем школьную парту. Торцовый край столешницы заменяет перекладину. Парта, в перевернутом на бок положении, устанавливается на другой стол или на две параллельно стоящие парты. Сооружение в работе безопасно – проверено практико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Для работы в домашних условиях легко сделать свой самобытный станок-приспособление. Берем фанеру толщиной 1,5см, размером 70х40см; два деревянных бруска 3х5см; для опоры – бруски из ДСП. Соединение на шурупы. Устанавливаем на гладильную доску – регулируем по высоте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6172200" y="990720"/>
            <a:ext cx="2971800" cy="261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6172200" y="4264200"/>
            <a:ext cx="2971800" cy="23223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3429000" y="661176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Arial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3200400" cy="1677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Этапы работ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142640"/>
            <a:ext cx="5867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 листе бумаги шириной 60см  размечаем, с помощью  карандаша и линейки линии – места соединения полотна панно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Размеченный лист прикрепляем скотчем к фанере, перегибая через торец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Развешиваем подготовленные грузики - баночки, строго по намеченным линиям. Узелок - ориентир располагаем по дальнему краю торц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943600" y="2438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5943600" y="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3202560" y="6611760"/>
            <a:ext cx="239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9900"/>
                </a:solidFill>
                <a:latin typeface="Georgia"/>
              </a:rPr>
              <a:t>Виркова Т.М., учитель технолог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ркова Т.М.</dc:creator>
  <dc:description/>
  <dc:language>en-US</dc:language>
  <cp:lastModifiedBy>Алнка</cp:lastModifiedBy>
  <dcterms:modified xsi:type="dcterms:W3CDTF">2012-08-14T19:03:54Z</dcterms:modified>
  <cp:revision>37</cp:revision>
  <dc:subject/>
  <dc:title>Фитоткачество. Техника плетения циновок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