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42.jpeg" ContentType="image/jpeg"/>
  <Override PartName="/ppt/media/image57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1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44.jpeg" ContentType="image/jpeg"/>
  <Override PartName="/ppt/media/image37.jpeg" ContentType="image/jpeg"/>
  <Override PartName="/ppt/media/image36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87.jpeg" ContentType="image/jpeg"/>
  <Override PartName="/ppt/media/image107.jpeg" ContentType="image/jpeg"/>
  <Override PartName="/ppt/media/image9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8.jpeg" ContentType="image/jpeg"/>
  <Override PartName="/ppt/media/image43.jpeg" ContentType="image/jpeg"/>
  <Override PartName="/ppt/media/image28.png" ContentType="image/png"/>
  <Override PartName="/ppt/media/image5.png" ContentType="image/png"/>
  <Override PartName="/ppt/media/image98.jpeg" ContentType="image/jpeg"/>
  <Override PartName="/ppt/media/image38.jpeg" ContentType="image/jpeg"/>
  <Override PartName="/ppt/media/image97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55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35.jpeg" ContentType="image/jpeg"/>
  <Override PartName="/ppt/media/image1.jpeg" ContentType="image/jpeg"/>
  <Override PartName="/ppt/media/image21.png" ContentType="image/png"/>
  <Override PartName="/ppt/media/image89.jpeg" ContentType="image/jpeg"/>
  <Override PartName="/ppt/media/image39.png" ContentType="image/png"/>
  <Override PartName="/ppt/media/image64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34.png" ContentType="image/png"/>
  <Override PartName="/ppt/media/image74.jpeg" ContentType="image/jpeg"/>
  <Override PartName="/ppt/media/image4.jpeg" ContentType="image/jpeg"/>
  <Override PartName="/ppt/media/image2.png" ContentType="image/png"/>
  <Override PartName="/ppt/media/image72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56.jpeg" ContentType="image/jpeg"/>
  <Override PartName="/ppt/media/image67.jpeg" ContentType="image/jpeg"/>
  <Override PartName="/ppt/media/image58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3.png" ContentType="image/png"/>
  <Override PartName="/ppt/media/image75.jpeg" ContentType="image/jpeg"/>
  <Override PartName="/ppt/media/image76.jpeg" ContentType="image/jpeg"/>
  <Override PartName="/ppt/media/image16.png" ContentType="image/png"/>
  <Override PartName="/ppt/media/image93.jpeg" ContentType="image/jpeg"/>
  <Override PartName="/ppt/media/image49.jpeg" ContentType="image/jpeg"/>
  <Override PartName="/ppt/media/image88.png" ContentType="image/png"/>
  <Override PartName="/ppt/media/image94.jpeg" ContentType="image/jpeg"/>
  <Override PartName="/ppt/media/image92.png" ContentType="image/png"/>
  <Override PartName="/ppt/media/image122.jpeg" ContentType="image/jpeg"/>
  <Override PartName="/ppt/media/image82.jpeg" ContentType="image/jpeg"/>
  <Override PartName="/ppt/media/image102.jpeg" ContentType="image/jpeg"/>
  <Override PartName="/ppt/media/image111.jpeg" ContentType="image/jpeg"/>
  <Override PartName="/ppt/media/image91.jpeg" ContentType="image/jpeg"/>
  <Override PartName="/ppt/media/image114.png" ContentType="image/png"/>
  <Override PartName="/ppt/media/image124.png" ContentType="image/png"/>
  <Override PartName="/ppt/media/image95.jpeg" ContentType="image/jpeg"/>
  <Override PartName="/ppt/media/image3.png" ContentType="image/png"/>
  <Override PartName="/ppt/media/image80.png" ContentType="image/png"/>
  <Override PartName="/ppt/media/image112.jpeg" ContentType="image/jpeg"/>
  <Override PartName="/ppt/media/image121.jpeg" ContentType="image/jpeg"/>
  <Override PartName="/ppt/media/image115.jpeg" ContentType="image/jpeg"/>
  <Override PartName="/ppt/media/image96.jpeg" ContentType="image/jpeg"/>
  <Override PartName="/ppt/media/image113.jpeg" ContentType="image/jpeg"/>
  <Override PartName="/ppt/media/image68.jpeg" ContentType="image/jpeg"/>
  <Override PartName="/ppt/media/image110.jpeg" ContentType="image/jpeg"/>
  <Override PartName="/ppt/media/image90.jpeg" ContentType="image/jpeg"/>
  <Override PartName="/ppt/media/image63.jpeg" ContentType="image/jpeg"/>
  <Override PartName="/ppt/media/image108.png" ContentType="image/png"/>
  <Override PartName="/ppt/media/image15.jpeg" ContentType="image/jpeg"/>
  <Override PartName="/ppt/media/image123.jpeg" ContentType="image/jpeg"/>
  <Override PartName="/ppt/media/image119.png" ContentType="image/png"/>
  <Override PartName="/ppt/media/image99.png" ContentType="image/png"/>
  <Override PartName="/ppt/media/image66.jpeg" ContentType="image/jpeg"/>
  <Override PartName="/ppt/media/image117.jpeg" ContentType="image/jpeg"/>
  <Override PartName="/ppt/media/image100.jpeg" ContentType="image/jpeg"/>
  <Override PartName="/ppt/media/image65.png" ContentType="image/pn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50.jpeg" ContentType="image/jpeg"/>
  <Override PartName="/ppt/media/image14.jpeg" ContentType="image/jpeg"/>
  <Override PartName="/ppt/media/image26.jpeg" ContentType="image/jpeg"/>
  <Override PartName="/ppt/media/image105.jpeg" ContentType="image/jpeg"/>
  <Override PartName="/ppt/media/image85.jpeg" ContentType="image/jpeg"/>
  <Override PartName="/ppt/media/image24.jpeg" ContentType="image/jpeg"/>
  <Override PartName="/ppt/media/image103.jpeg" ContentType="image/jpeg"/>
  <Override PartName="/ppt/media/image83.jpeg" ContentType="image/jpeg"/>
  <Override PartName="/ppt/media/image20.jpeg" ContentType="image/jpeg"/>
  <Override PartName="/ppt/media/image116.jpeg" ContentType="image/jpeg"/>
  <Override PartName="/ppt/media/image19.jpeg" ContentType="image/jpeg"/>
  <Override PartName="/ppt/media/image41.jpeg" ContentType="image/jpeg"/>
  <Override PartName="/ppt/media/image120.jpeg" ContentType="image/jpe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C6A-39EA-4FD1-A8B9-C6B5F23E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D45-4D0F-4867-BB55-75C59FE5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3D7DC-2AA0-436A-919F-CF393F04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7C25A-5695-498C-B718-AAF53563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9FB47-A7F7-4379-9A7E-5CE571A8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ED709-7A12-4806-A38B-21EA70F0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0614C-48E6-482F-B59A-C26445A2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B55E1-8BBB-4104-9290-84D1BE5E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3D635-C84F-40FD-804E-7B932C34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8652E-AB18-40F0-A9CE-EAAC1224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BE8B5-A041-40C0-91AB-19B26478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E66-55E3-487A-AD5A-788687E2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939-304C-4567-83A4-9EF96905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4FEE-2E0B-441D-AF0E-89DB08BF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333C-59D3-4ECD-86D3-84A01B8A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9352-6284-402D-9825-F589EFF7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4F95-E414-4E9F-B47B-12E2D4BA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4195-F93B-432D-B689-135F1660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C441-89F6-4F6C-A3BC-3A11EC24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825A-2DBE-4963-8B4B-7C28DDA5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653-0D80-45B1-8B16-B309FA11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C83F-216B-4365-A1F2-018F8AF9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66BD-055E-43DB-A327-A86F9E16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C9F9-6E80-485C-9FC7-4F0658D5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3C13-0603-4DC7-BC28-BE74A5CE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77EA-8CE5-4DA9-A2F7-AEBF3C50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E4FD4-FBB6-44D7-8EDC-DB0D433E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FB417-CED8-4C8D-8375-978E7DBB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9C4A8-8A78-427E-9C2A-333F8BD3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FAEDE-841B-44F2-8CB4-DB85ABD7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E83FA-A8E6-46D0-BF6B-5638ACEE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776-479C-4D93-80B5-F303AD71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5A433-4F07-49A8-BC58-D573A2CF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B8795-FF43-4585-9860-90303F26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80589-E81D-478C-A614-FAD49778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6F057-17CE-4BD1-BF1B-4FE1C7CD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D3210-845D-408D-907C-E40CD764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5E7F3-A94A-4F78-A77A-520676FF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7DBC2-42D2-423F-A28F-826CE2FE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7E8B2-2DDE-433F-83AA-9D911982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C08F9-3A62-445F-A07F-A6C94696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41D0B-6768-4733-B132-8AACEA24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DBF-68F5-43C9-9250-84D8D16A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E90ED-1F74-4F4D-A667-C961FDF6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5BDCA-5DD8-4865-B363-557F1754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CAC08-1AB1-4A4A-BE61-EF820AE0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A9D14-9FEF-4E4F-AE06-C0ACAFC1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2768E-8E21-4021-AF0E-16E096FF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3DE05-35B8-4B34-B959-CE2C8EFF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13647-86DD-4730-9FFD-F8247AF2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44D0E-FEBC-4A67-A77C-A43132BF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24A1D-4964-4733-BA02-A4DBD76D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8D077-1923-44E1-9A50-F10864E7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A1E-6883-4756-A2FF-7CBF2E82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F8F92-AE7A-491F-9424-FC4C9261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E2A9E-E60D-4990-9DE1-7C648D89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AA1AA-9090-4FBE-97BB-C86DDF4E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F02D9-09FD-4ACD-85BB-C47217D6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D8A67-ACF4-40ED-956F-C4E4F0ED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41FED-388C-4A26-8E7F-4DD47076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C3C83-CF92-4739-AD86-9C40532C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09E98-E54E-439D-923E-A0016A7D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20A74-4516-4028-B112-4166551B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4E7CA-EE3D-4C16-B941-226E236A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E58-46EC-46FE-9E8F-8534F170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214AD-3A71-4235-8D76-E2FAF74E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32665-872E-4AF8-8902-BB3049AC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C7001-8A3D-4BA2-9CA4-6361C93E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7C116-BBD7-49F3-AD08-A8C58979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B1625-34CC-4A39-9849-804DB025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18EC5-8827-4FFF-9DF1-628C7AC0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253EB-8877-4FC9-B133-CD0858A4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80A3B-68B9-45E7-9A77-B19095A9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CBF14-3516-41D6-B7B0-3C53F4FB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32A87-AB96-46C1-BEF7-9033A1A4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A562-A19F-43CB-B179-0CAC8858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8AB59-9F8B-4C7F-AF00-0BED9F55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46D4F-AB0B-44CF-93FF-FBF8DD0F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30DBD-75E0-4846-BEB7-7044DD2C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57190-A3B8-4D97-B220-100F97FE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6C613-5FB3-461C-BF45-18580B28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EE1AF-E222-47AA-AC70-9D4CC445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F0A11-D208-4825-AD84-48D6BCED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3E87F-1054-4741-81AD-E8EBE19A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D1C82-AD4D-4E7D-9159-B6798C12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91680-4E59-4F9D-B7E1-E6BF9292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318B-7142-4619-9910-C7A13A6B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BC218-D557-48EE-99E2-5DB22FE6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214F1-41D7-443A-9EB0-34C82B78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C1E1A-9DAE-47F5-9AB5-0F0BE1CE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9A21D-0FCF-4091-954C-8DAAE691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E6997-1010-4D80-83E3-4B272C59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4F21F-44F2-43F5-BD44-7011179E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ABA5A-55CC-4A12-B8C9-496EB3D0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53DD0-F37C-4E77-AF61-10E6CC42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4394E-8B0C-485D-BF35-471054FF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409CF-1656-45C6-96F0-68A63700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5A4D-276F-4F43-A5C8-557FFD15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A3EC9-28A4-4CC3-9340-BB2D6888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11FAC-830C-47C4-A088-E66428EA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F76BA-0642-450E-9414-C99049C8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F12F7-C60F-4364-9A23-64967AEB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56B43-C08B-4A9E-8936-ED9C2290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0AF70-CF5C-48E6-B048-A9755E8D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6B8D6-7224-4FDC-8083-15AEC981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53E0A-E653-4BA3-AEB6-213A9661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3C80B-7509-415C-9042-AD1AFBE0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8A700-C1AC-45A5-ADE9-9E5595AD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D7EC-261C-4087-8101-0232E87FF05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C95F-6EF7-4146-BA28-15C521A3B06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94E4-8F78-4736-9388-648886D32F2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230E-4503-4073-820F-BA33D26E85A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C812-E69C-4BEA-9282-9C657779A94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0EFF-A5CA-4B54-8A45-911E3372FD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A9B7-E546-4AB8-A081-C48253CD9B6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216E-472E-48A1-87F9-027911BF5B4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751B-22D2-4FDF-B048-9BCFAFD38F3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hyperlink" Target="http://tehnologi.su/index/skazka_rukotvorchestva/0-528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51.jpeg"/><Relationship Id="rId9" Type="http://schemas.openxmlformats.org/officeDocument/2006/relationships/image" Target="../media/image52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64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image" Target="../media/image70.jpeg"/><Relationship Id="rId7" Type="http://schemas.openxmlformats.org/officeDocument/2006/relationships/image" Target="../media/image71.jpeg"/><Relationship Id="rId8" Type="http://schemas.openxmlformats.org/officeDocument/2006/relationships/image" Target="../media/image72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79.jpeg"/><Relationship Id="rId10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image" Target="../media/image85.jpeg"/><Relationship Id="rId7" Type="http://schemas.openxmlformats.org/officeDocument/2006/relationships/image" Target="../media/image86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87.jpeg"/><Relationship Id="rId1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63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image" Target="../media/image95.jpeg"/><Relationship Id="rId7" Type="http://schemas.openxmlformats.org/officeDocument/2006/relationships/image" Target="../media/image96.jpeg"/><Relationship Id="rId8" Type="http://schemas.openxmlformats.org/officeDocument/2006/relationships/image" Target="../media/image97.jpeg"/><Relationship Id="rId9" Type="http://schemas.openxmlformats.org/officeDocument/2006/relationships/image" Target="../media/image98.jpe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03.jpeg"/><Relationship Id="rId8" Type="http://schemas.openxmlformats.org/officeDocument/2006/relationships/image" Target="../media/image104.jpeg"/><Relationship Id="rId9" Type="http://schemas.openxmlformats.org/officeDocument/2006/relationships/image" Target="../media/image105.jpeg"/><Relationship Id="rId10" Type="http://schemas.openxmlformats.org/officeDocument/2006/relationships/image" Target="../media/image106.jpeg"/><Relationship Id="rId11" Type="http://schemas.openxmlformats.org/officeDocument/2006/relationships/image" Target="../media/image107.jpe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image" Target="../media/image111.jpeg"/><Relationship Id="rId7" Type="http://schemas.openxmlformats.org/officeDocument/2006/relationships/image" Target="../media/image112.jpeg"/><Relationship Id="rId8" Type="http://schemas.openxmlformats.org/officeDocument/2006/relationships/image" Target="../media/image113.jpe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6.xml"/><Relationship Id="rId3" Type="http://schemas.openxmlformats.org/officeDocument/2006/relationships/slide" Target="slide12.xm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15.jpeg"/><Relationship Id="rId5" Type="http://schemas.openxmlformats.org/officeDocument/2006/relationships/image" Target="../media/image116.jpeg"/><Relationship Id="rId6" Type="http://schemas.openxmlformats.org/officeDocument/2006/relationships/image" Target="../media/image117.jpeg"/><Relationship Id="rId7" Type="http://schemas.openxmlformats.org/officeDocument/2006/relationships/image" Target="../media/image118.jpeg"/><Relationship Id="rId8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20.jpeg"/><Relationship Id="rId5" Type="http://schemas.openxmlformats.org/officeDocument/2006/relationships/image" Target="../media/image121.jpeg"/><Relationship Id="rId6" Type="http://schemas.openxmlformats.org/officeDocument/2006/relationships/image" Target="../media/image122.jpeg"/><Relationship Id="rId7" Type="http://schemas.openxmlformats.org/officeDocument/2006/relationships/image" Target="../media/image123.jpeg"/><Relationship Id="rId8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Прямоугольник 2" descr=""/>
          <p:cNvPicPr/>
          <p:nvPr/>
        </p:nvPicPr>
        <p:blipFill>
          <a:blip r:embed="rId1"/>
          <a:stretch/>
        </p:blipFill>
        <p:spPr>
          <a:xfrm>
            <a:off x="890640" y="1871640"/>
            <a:ext cx="8077320" cy="1577880"/>
          </a:xfrm>
          <a:prstGeom prst="rect">
            <a:avLst/>
          </a:prstGeom>
          <a:ln w="0">
            <a:noFill/>
          </a:ln>
        </p:spPr>
      </p:pic>
      <p:pic>
        <p:nvPicPr>
          <p:cNvPr id="400" name="Прямоугольник 3" descr=""/>
          <p:cNvPicPr/>
          <p:nvPr/>
        </p:nvPicPr>
        <p:blipFill>
          <a:blip r:embed="rId2"/>
          <a:stretch/>
        </p:blipFill>
        <p:spPr>
          <a:xfrm>
            <a:off x="4297320" y="6188040"/>
            <a:ext cx="1049400" cy="432000"/>
          </a:xfrm>
          <a:prstGeom prst="rect">
            <a:avLst/>
          </a:prstGeom>
          <a:ln w="0">
            <a:noFill/>
          </a:ln>
        </p:spPr>
      </p:pic>
      <p:pic>
        <p:nvPicPr>
          <p:cNvPr id="401" name="Прямоугольник 4" descr=""/>
          <p:cNvPicPr/>
          <p:nvPr/>
        </p:nvPicPr>
        <p:blipFill>
          <a:blip r:embed="rId3"/>
          <a:stretch/>
        </p:blipFill>
        <p:spPr>
          <a:xfrm>
            <a:off x="4352760" y="4968720"/>
            <a:ext cx="6096240" cy="123696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1" descr="http://tehnologi.su/01-Simonenko/01/Prjanosti/tm_2012.jpg"/>
          <p:cNvPicPr/>
          <p:nvPr/>
        </p:nvPicPr>
        <p:blipFill>
          <a:blip r:embed="rId4"/>
          <a:stretch/>
        </p:blipFill>
        <p:spPr>
          <a:xfrm>
            <a:off x="6500880" y="0"/>
            <a:ext cx="2643120" cy="11444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9"/>
          <p:cNvSpPr/>
          <p:nvPr/>
        </p:nvSpPr>
        <p:spPr>
          <a:xfrm>
            <a:off x="1143000" y="85716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Times New Roman"/>
                <a:ea typeface="Calibri"/>
                <a:hlinkClick r:id="rId5"/>
              </a:rPr>
              <a:t>http://tehnologi.su/index/skazka_rukotvorchestva/0-5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6"/>
          <a:stretch/>
        </p:blipFill>
        <p:spPr>
          <a:xfrm>
            <a:off x="0" y="3429000"/>
            <a:ext cx="785880" cy="3429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7"/>
          <a:stretch/>
        </p:blipFill>
        <p:spPr>
          <a:xfrm>
            <a:off x="0" y="0"/>
            <a:ext cx="785880" cy="342900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1" descr="header"/>
          <p:cNvPicPr/>
          <p:nvPr/>
        </p:nvPicPr>
        <p:blipFill>
          <a:blip r:embed="rId8"/>
          <a:stretch/>
        </p:blipFill>
        <p:spPr>
          <a:xfrm>
            <a:off x="0" y="0"/>
            <a:ext cx="6451560" cy="7858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"/>
          <p:cNvPicPr/>
          <p:nvPr/>
        </p:nvPicPr>
        <p:blipFill>
          <a:blip r:embed="rId9"/>
          <a:stretch/>
        </p:blipFill>
        <p:spPr>
          <a:xfrm>
            <a:off x="785880" y="3929040"/>
            <a:ext cx="33289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Заголовок 1" descr=""/>
          <p:cNvPicPr/>
          <p:nvPr/>
        </p:nvPicPr>
        <p:blipFill>
          <a:blip r:embed="rId1"/>
          <a:stretch/>
        </p:blipFill>
        <p:spPr>
          <a:xfrm>
            <a:off x="633240" y="208080"/>
            <a:ext cx="6091560" cy="1030320"/>
          </a:xfrm>
          <a:prstGeom prst="rect">
            <a:avLst/>
          </a:prstGeom>
          <a:ln w="0">
            <a:noFill/>
          </a:ln>
        </p:spPr>
      </p:pic>
      <p:sp>
        <p:nvSpPr>
          <p:cNvPr id="478" name="TextBox 5"/>
          <p:cNvSpPr/>
          <p:nvPr/>
        </p:nvSpPr>
        <p:spPr>
          <a:xfrm>
            <a:off x="3304080" y="659592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71680" y="1071720"/>
            <a:ext cx="600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Смазываем участками наружную сторону конуса тонким слоем клея ПВА и аккуратно опускаем волокна льна, распределяя их равномерно по всей поверхности.  Приглаживаем пальцами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ля декоративной отделки  куклы крутим три двухцветных витых  шнура (прил. 3)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Оформляем линию низа: приглаживаем руками волокна льна к конусу и приклеиваем витой шнур. После высыхания свободные концы оборки выравниваем, подрезая ножницами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Оформляем прическу – заплетаем косы, вплетая ленту или красную нить. Завязываем очелье – лобную повязку для поддержания волос. Это может быть лента, тесьма,  плетеный  или витой шнур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0" name="Picture 18" descr=""/>
          <p:cNvPicPr/>
          <p:nvPr/>
        </p:nvPicPr>
        <p:blipFill>
          <a:blip r:embed="rId2"/>
          <a:stretch/>
        </p:blipFill>
        <p:spPr>
          <a:xfrm>
            <a:off x="7143840" y="2500200"/>
            <a:ext cx="1500120" cy="20876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9" descr=""/>
          <p:cNvPicPr/>
          <p:nvPr/>
        </p:nvPicPr>
        <p:blipFill>
          <a:blip r:embed="rId3"/>
          <a:stretch/>
        </p:blipFill>
        <p:spPr>
          <a:xfrm>
            <a:off x="7215120" y="5429160"/>
            <a:ext cx="1420920" cy="14288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1" descr=""/>
          <p:cNvPicPr/>
          <p:nvPr/>
        </p:nvPicPr>
        <p:blipFill>
          <a:blip r:embed="rId4"/>
          <a:stretch/>
        </p:blipFill>
        <p:spPr>
          <a:xfrm>
            <a:off x="6643800" y="4500720"/>
            <a:ext cx="1143000" cy="958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3" descr=""/>
          <p:cNvPicPr/>
          <p:nvPr/>
        </p:nvPicPr>
        <p:blipFill>
          <a:blip r:embed="rId5"/>
          <a:stretch/>
        </p:blipFill>
        <p:spPr>
          <a:xfrm>
            <a:off x="7786800" y="4500720"/>
            <a:ext cx="1179360" cy="9493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" descr=""/>
          <p:cNvPicPr/>
          <p:nvPr/>
        </p:nvPicPr>
        <p:blipFill>
          <a:blip r:embed="rId6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7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5" descr=""/>
          <p:cNvPicPr/>
          <p:nvPr/>
        </p:nvPicPr>
        <p:blipFill>
          <a:blip r:embed="rId8"/>
          <a:stretch/>
        </p:blipFill>
        <p:spPr>
          <a:xfrm>
            <a:off x="6643800" y="1143000"/>
            <a:ext cx="1593720" cy="2286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5" descr=""/>
          <p:cNvPicPr/>
          <p:nvPr/>
        </p:nvPicPr>
        <p:blipFill>
          <a:blip r:embed="rId9"/>
          <a:stretch/>
        </p:blipFill>
        <p:spPr>
          <a:xfrm>
            <a:off x="7656480" y="428760"/>
            <a:ext cx="1324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16" descr=""/>
          <p:cNvPicPr/>
          <p:nvPr/>
        </p:nvPicPr>
        <p:blipFill>
          <a:blip r:embed="rId1"/>
          <a:stretch/>
        </p:blipFill>
        <p:spPr>
          <a:xfrm>
            <a:off x="5643720" y="0"/>
            <a:ext cx="1928520" cy="25718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7" descr=""/>
          <p:cNvPicPr/>
          <p:nvPr/>
        </p:nvPicPr>
        <p:blipFill>
          <a:blip r:embed="rId2"/>
          <a:stretch/>
        </p:blipFill>
        <p:spPr>
          <a:xfrm>
            <a:off x="1071720" y="0"/>
            <a:ext cx="1928520" cy="25718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571320" y="2499840"/>
            <a:ext cx="61434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Оформляем фартук из белой канвы: вышиваем узор или нашиваем тесьму; прореживаем по краям, получая бахрому. Закладываем складочки  и закрепляем лентой.  Одеваем фартук на куклу. По линии талии завязываем поясок из витого шнура с кисточками.  Узелок располагаем слева под сердцем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e3b30"/>
                </a:solidFill>
                <a:latin typeface="Franklin Gothic Book"/>
              </a:rPr>
              <a:t>Сувенирная кукла  из льна готова!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Изменив в оформлении куклы совсем немного – получаем другой образ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1" name="Picture 12" descr=""/>
          <p:cNvPicPr/>
          <p:nvPr/>
        </p:nvPicPr>
        <p:blipFill>
          <a:blip r:embed="rId3"/>
          <a:stretch/>
        </p:blipFill>
        <p:spPr>
          <a:xfrm>
            <a:off x="3357720" y="0"/>
            <a:ext cx="1892160" cy="2523960"/>
          </a:xfrm>
          <a:prstGeom prst="rect">
            <a:avLst/>
          </a:prstGeom>
          <a:ln w="0">
            <a:noFill/>
          </a:ln>
        </p:spPr>
      </p:pic>
      <p:sp>
        <p:nvSpPr>
          <p:cNvPr id="492" name="Прямоугольник 10"/>
          <p:cNvSpPr/>
          <p:nvPr/>
        </p:nvSpPr>
        <p:spPr>
          <a:xfrm>
            <a:off x="294696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"/>
          <p:cNvPicPr/>
          <p:nvPr/>
        </p:nvPicPr>
        <p:blipFill>
          <a:blip r:embed="rId5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8" descr=""/>
          <p:cNvPicPr/>
          <p:nvPr/>
        </p:nvPicPr>
        <p:blipFill>
          <a:blip r:embed="rId6"/>
          <a:stretch/>
        </p:blipFill>
        <p:spPr>
          <a:xfrm>
            <a:off x="6986520" y="3571920"/>
            <a:ext cx="2157480" cy="26812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0" descr=""/>
          <p:cNvPicPr/>
          <p:nvPr/>
        </p:nvPicPr>
        <p:blipFill>
          <a:blip r:embed="rId7"/>
          <a:stretch/>
        </p:blipFill>
        <p:spPr>
          <a:xfrm>
            <a:off x="7786800" y="1143000"/>
            <a:ext cx="1163520" cy="1392120"/>
          </a:xfrm>
          <a:prstGeom prst="rect">
            <a:avLst/>
          </a:prstGeom>
          <a:ln w="0">
            <a:noFill/>
          </a:ln>
        </p:spPr>
      </p:pic>
      <p:sp>
        <p:nvSpPr>
          <p:cNvPr id="497" name="Управляющая кнопка: возврат 13"/>
          <p:cNvSpPr/>
          <p:nvPr/>
        </p:nvSpPr>
        <p:spPr>
          <a:xfrm>
            <a:off x="6000840" y="650088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7493"/>
                </a:moveTo>
                <a:lnTo>
                  <a:pt x="9455" y="7493"/>
                </a:lnTo>
                <a:lnTo>
                  <a:pt x="9455" y="12828"/>
                </a:lnTo>
                <a:cubicBezTo>
                  <a:pt x="9455" y="13751"/>
                  <a:pt x="10255" y="14482"/>
                  <a:pt x="11291" y="14482"/>
                </a:cubicBezTo>
                <a:lnTo>
                  <a:pt x="12953" y="14482"/>
                </a:lnTo>
                <a:cubicBezTo>
                  <a:pt x="13989" y="14482"/>
                  <a:pt x="14790" y="13751"/>
                  <a:pt x="14790" y="12828"/>
                </a:cubicBezTo>
                <a:lnTo>
                  <a:pt x="14790" y="7493"/>
                </a:lnTo>
                <a:lnTo>
                  <a:pt x="12953" y="7493"/>
                </a:lnTo>
                <a:lnTo>
                  <a:pt x="16461" y="3985"/>
                </a:lnTo>
                <a:lnTo>
                  <a:pt x="20134" y="7493"/>
                </a:lnTo>
                <a:lnTo>
                  <a:pt x="18298" y="7493"/>
                </a:lnTo>
                <a:lnTo>
                  <a:pt x="18298" y="12828"/>
                </a:lnTo>
                <a:cubicBezTo>
                  <a:pt x="18298" y="15596"/>
                  <a:pt x="15721" y="18155"/>
                  <a:pt x="12953" y="18155"/>
                </a:cubicBezTo>
                <a:lnTo>
                  <a:pt x="11291" y="18155"/>
                </a:lnTo>
                <a:cubicBezTo>
                  <a:pt x="8523" y="18155"/>
                  <a:pt x="5947" y="15596"/>
                  <a:pt x="5947" y="12828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Заголовок 4" descr=""/>
          <p:cNvPicPr/>
          <p:nvPr/>
        </p:nvPicPr>
        <p:blipFill>
          <a:blip r:embed="rId1"/>
          <a:stretch/>
        </p:blipFill>
        <p:spPr>
          <a:xfrm>
            <a:off x="633240" y="208080"/>
            <a:ext cx="8077320" cy="10303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 txBox="1"/>
          <p:nvPr/>
        </p:nvSpPr>
        <p:spPr>
          <a:xfrm>
            <a:off x="213840" y="1071360"/>
            <a:ext cx="4000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1" lang="ru-RU" sz="2400" spc="-1" strike="noStrike">
                <a:solidFill>
                  <a:srgbClr val="c17529"/>
                </a:solidFill>
                <a:latin typeface="Franklin Gothic Book"/>
              </a:rPr>
              <a:t>МАТЕРИАЛЫ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Мочало (малярная кисть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ряжа (для волос куклы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лей ПВА, «карандаш», «момент»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Тесьма, лента атласная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Искусственные цветы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итки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швейные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артон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анв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714920" y="1071360"/>
            <a:ext cx="3633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c17529"/>
                </a:solidFill>
                <a:latin typeface="Franklin Gothic Book"/>
              </a:rPr>
              <a:t>ИНСТРУМЕНТЫ и ПРИСПОСОБЛЕНИЯ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ожницы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Иглы ручные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Циркуль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Линейк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арандаш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2"/>
          <a:stretch/>
        </p:blipFill>
        <p:spPr>
          <a:xfrm>
            <a:off x="4214880" y="6143760"/>
            <a:ext cx="4286160" cy="714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"/>
          <p:cNvPicPr/>
          <p:nvPr/>
        </p:nvPicPr>
        <p:blipFill>
          <a:blip r:embed="rId3"/>
          <a:stretch/>
        </p:blipFill>
        <p:spPr>
          <a:xfrm>
            <a:off x="0" y="6143760"/>
            <a:ext cx="4214880" cy="714240"/>
          </a:xfrm>
          <a:prstGeom prst="rect">
            <a:avLst/>
          </a:prstGeom>
          <a:ln w="0">
            <a:noFill/>
          </a:ln>
        </p:spPr>
      </p:pic>
      <p:sp>
        <p:nvSpPr>
          <p:cNvPr id="503" name="Прямоугольник 10"/>
          <p:cNvSpPr/>
          <p:nvPr/>
        </p:nvSpPr>
        <p:spPr>
          <a:xfrm>
            <a:off x="358992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7" descr=""/>
          <p:cNvPicPr/>
          <p:nvPr/>
        </p:nvPicPr>
        <p:blipFill>
          <a:blip r:embed="rId4"/>
          <a:stretch/>
        </p:blipFill>
        <p:spPr>
          <a:xfrm>
            <a:off x="2786040" y="4071960"/>
            <a:ext cx="2631960" cy="20718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8" descr=""/>
          <p:cNvPicPr/>
          <p:nvPr/>
        </p:nvPicPr>
        <p:blipFill>
          <a:blip r:embed="rId5"/>
          <a:stretch/>
        </p:blipFill>
        <p:spPr>
          <a:xfrm>
            <a:off x="2071800" y="4071960"/>
            <a:ext cx="714240" cy="2070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9" descr=""/>
          <p:cNvPicPr/>
          <p:nvPr/>
        </p:nvPicPr>
        <p:blipFill>
          <a:blip r:embed="rId6"/>
          <a:stretch/>
        </p:blipFill>
        <p:spPr>
          <a:xfrm>
            <a:off x="6519960" y="3835440"/>
            <a:ext cx="1981080" cy="2259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"/>
          <p:cNvPicPr/>
          <p:nvPr/>
        </p:nvPicPr>
        <p:blipFill>
          <a:blip r:embed="rId7"/>
          <a:stretch/>
        </p:blipFill>
        <p:spPr>
          <a:xfrm>
            <a:off x="850104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" descr=""/>
          <p:cNvPicPr/>
          <p:nvPr/>
        </p:nvPicPr>
        <p:blipFill>
          <a:blip r:embed="rId8"/>
          <a:stretch/>
        </p:blipFill>
        <p:spPr>
          <a:xfrm>
            <a:off x="850104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5" descr=""/>
          <p:cNvPicPr/>
          <p:nvPr/>
        </p:nvPicPr>
        <p:blipFill>
          <a:blip r:embed="rId9"/>
          <a:stretch/>
        </p:blipFill>
        <p:spPr>
          <a:xfrm>
            <a:off x="2786040" y="5072040"/>
            <a:ext cx="304920" cy="1071720"/>
          </a:xfrm>
          <a:prstGeom prst="rect">
            <a:avLst/>
          </a:prstGeom>
          <a:ln w="0">
            <a:noFill/>
          </a:ln>
        </p:spPr>
      </p:pic>
      <p:sp>
        <p:nvSpPr>
          <p:cNvPr id="510" name="Управляющая кнопка: возврат 13"/>
          <p:cNvSpPr/>
          <p:nvPr/>
        </p:nvSpPr>
        <p:spPr>
          <a:xfrm>
            <a:off x="5786280" y="5643720"/>
            <a:ext cx="500400" cy="471240"/>
          </a:xfrm>
          <a:custGeom>
            <a:avLst/>
            <a:gdLst>
              <a:gd name="textAreaLeft" fmla="*/ 30240 w 500400"/>
              <a:gd name="textAreaRight" fmla="*/ 470160 w 500400"/>
              <a:gd name="textAreaTop" fmla="*/ 30240 h 471240"/>
              <a:gd name="textAreaBottom" fmla="*/ 441000 h 471240"/>
            </a:gdLst>
            <a:ahLst/>
            <a:rect l="textAreaLeft" t="textAreaTop" r="textAreaRight" b="textAreaBottom"/>
            <a:pathLst>
              <a:path w="22936" h="21600">
                <a:moveTo>
                  <a:pt x="0" y="0"/>
                </a:moveTo>
                <a:lnTo>
                  <a:pt x="22936" y="0"/>
                </a:lnTo>
                <a:lnTo>
                  <a:pt x="22936" y="21600"/>
                </a:lnTo>
                <a:lnTo>
                  <a:pt x="0" y="21600"/>
                </a:lnTo>
                <a:close/>
              </a:path>
              <a:path fill="lightenLess" w="22936" h="21600">
                <a:moveTo>
                  <a:pt x="0" y="0"/>
                </a:moveTo>
                <a:lnTo>
                  <a:pt x="22936" y="0"/>
                </a:lnTo>
                <a:lnTo>
                  <a:pt x="21536" y="1400"/>
                </a:lnTo>
                <a:lnTo>
                  <a:pt x="1400" y="1400"/>
                </a:lnTo>
                <a:close/>
              </a:path>
              <a:path fill="darken" w="22936" h="21600">
                <a:moveTo>
                  <a:pt x="22936" y="0"/>
                </a:moveTo>
                <a:lnTo>
                  <a:pt x="22936" y="21600"/>
                </a:lnTo>
                <a:lnTo>
                  <a:pt x="21536" y="20200"/>
                </a:lnTo>
                <a:lnTo>
                  <a:pt x="21536" y="1400"/>
                </a:lnTo>
                <a:close/>
              </a:path>
              <a:path fill="darkenLess" w="22936" h="21600">
                <a:moveTo>
                  <a:pt x="229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6" y="20200"/>
                </a:lnTo>
                <a:close/>
              </a:path>
              <a:path fill="lighten" w="229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6" h="21600">
                <a:moveTo>
                  <a:pt x="4461" y="7493"/>
                </a:moveTo>
                <a:lnTo>
                  <a:pt x="7969" y="7493"/>
                </a:lnTo>
                <a:lnTo>
                  <a:pt x="7969" y="12828"/>
                </a:lnTo>
                <a:cubicBezTo>
                  <a:pt x="7969" y="13751"/>
                  <a:pt x="8770" y="14482"/>
                  <a:pt x="9805" y="14482"/>
                </a:cubicBezTo>
                <a:lnTo>
                  <a:pt x="11468" y="14482"/>
                </a:lnTo>
                <a:cubicBezTo>
                  <a:pt x="12504" y="14482"/>
                  <a:pt x="13304" y="13751"/>
                  <a:pt x="13304" y="12828"/>
                </a:cubicBezTo>
                <a:lnTo>
                  <a:pt x="13304" y="7493"/>
                </a:lnTo>
                <a:lnTo>
                  <a:pt x="11468" y="7493"/>
                </a:lnTo>
                <a:lnTo>
                  <a:pt x="14975" y="3985"/>
                </a:lnTo>
                <a:lnTo>
                  <a:pt x="18648" y="7493"/>
                </a:lnTo>
                <a:lnTo>
                  <a:pt x="16812" y="7493"/>
                </a:lnTo>
                <a:lnTo>
                  <a:pt x="16812" y="12828"/>
                </a:lnTo>
                <a:cubicBezTo>
                  <a:pt x="16812" y="15596"/>
                  <a:pt x="14236" y="18155"/>
                  <a:pt x="11468" y="18155"/>
                </a:cubicBezTo>
                <a:lnTo>
                  <a:pt x="9805" y="18155"/>
                </a:lnTo>
                <a:cubicBezTo>
                  <a:pt x="7038" y="18155"/>
                  <a:pt x="4461" y="15596"/>
                  <a:pt x="4461" y="12828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4" descr=""/>
          <p:cNvPicPr/>
          <p:nvPr/>
        </p:nvPicPr>
        <p:blipFill>
          <a:blip r:embed="rId1"/>
          <a:stretch/>
        </p:blipFill>
        <p:spPr>
          <a:xfrm>
            <a:off x="633240" y="109440"/>
            <a:ext cx="5658120" cy="12556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571680" y="1071360"/>
            <a:ext cx="5572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Разбираем малярную кисть. Вытягиваем верхний луб из ручки – эти волокна пойдут на куклу, а внутренние части удаляем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Пряжу для волос, наматываем на картон нужной длины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(зависит от длины косы и упругости материала; для данной куклы берем 20см)</a:t>
            </a: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 разрезаем и закрепляем пучок по краю ниткой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Мочало нарезаем по размеру куклы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(25см), </a:t>
            </a: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вкладываем внутрь пучок пряжи (волосы) и туго закрепляем нитью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Выворачиваем оба пучка. Разглаживаем руками мочало со стороны лица и закрепляем на уровне шеи нитью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Оформляем руки: перетягиваем пучок мочала у запястья; тесьму сшиваем в кольцо и надеваем на руки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2"/>
          <a:stretch/>
        </p:blipFill>
        <p:spPr>
          <a:xfrm>
            <a:off x="6215040" y="500040"/>
            <a:ext cx="2786040" cy="16430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"/>
          <p:cNvPicPr/>
          <p:nvPr/>
        </p:nvPicPr>
        <p:blipFill>
          <a:blip r:embed="rId3"/>
          <a:stretch/>
        </p:blipFill>
        <p:spPr>
          <a:xfrm>
            <a:off x="6215040" y="2143080"/>
            <a:ext cx="1928880" cy="871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"/>
          <p:cNvPicPr/>
          <p:nvPr/>
        </p:nvPicPr>
        <p:blipFill>
          <a:blip r:embed="rId4"/>
          <a:stretch/>
        </p:blipFill>
        <p:spPr>
          <a:xfrm>
            <a:off x="8143920" y="2143080"/>
            <a:ext cx="826920" cy="8571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"/>
          <p:cNvPicPr/>
          <p:nvPr/>
        </p:nvPicPr>
        <p:blipFill>
          <a:blip r:embed="rId5"/>
          <a:stretch/>
        </p:blipFill>
        <p:spPr>
          <a:xfrm>
            <a:off x="6215040" y="3000240"/>
            <a:ext cx="2757600" cy="13208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" descr=""/>
          <p:cNvPicPr/>
          <p:nvPr/>
        </p:nvPicPr>
        <p:blipFill>
          <a:blip r:embed="rId6"/>
          <a:stretch/>
        </p:blipFill>
        <p:spPr>
          <a:xfrm>
            <a:off x="6215040" y="4286160"/>
            <a:ext cx="2762280" cy="14288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7"/>
          <a:stretch/>
        </p:blipFill>
        <p:spPr>
          <a:xfrm>
            <a:off x="6286680" y="5715000"/>
            <a:ext cx="2643120" cy="5508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8"/>
          <a:stretch/>
        </p:blipFill>
        <p:spPr>
          <a:xfrm>
            <a:off x="6286680" y="6215040"/>
            <a:ext cx="2643120" cy="6429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"/>
          <p:cNvPicPr/>
          <p:nvPr/>
        </p:nvPicPr>
        <p:blipFill>
          <a:blip r:embed="rId9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"/>
          <p:cNvPicPr/>
          <p:nvPr/>
        </p:nvPicPr>
        <p:blipFill>
          <a:blip r:embed="rId10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Заголовок 4" descr=""/>
          <p:cNvPicPr/>
          <p:nvPr/>
        </p:nvPicPr>
        <p:blipFill>
          <a:blip r:embed="rId1"/>
          <a:stretch/>
        </p:blipFill>
        <p:spPr>
          <a:xfrm>
            <a:off x="420840" y="55440"/>
            <a:ext cx="6040440" cy="140832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571320" y="1071720"/>
            <a:ext cx="57862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елим волокна туловища поровну, до упора вставляем руки, закрепляем по линии талии ниткой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елаем конусный картонный каркас (прил.2).  Раздвигаем волокна мочала и вклеиваем вершину конуса, вставив до упора в центр  туловища. Волокна мочала упругие, поэтому их приклеиваем клеем по низу конуса, натягивая и равномерно распределяя. Подрезаем – выравнивая волокна мочала по краю конуса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елаем метелочку из мочала длиной на 1см меньше конуса и вклеиваем внутрь конуса. Излишки обрезаем по уровню низа. Альтернатива: можно вклеить круг из картона или сделать подставку из крышки, обтянув тканью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24" name="Picture 8" descr=""/>
          <p:cNvPicPr/>
          <p:nvPr/>
        </p:nvPicPr>
        <p:blipFill>
          <a:blip r:embed="rId2"/>
          <a:stretch/>
        </p:blipFill>
        <p:spPr>
          <a:xfrm>
            <a:off x="6429240" y="285840"/>
            <a:ext cx="2500560" cy="18748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1" descr=""/>
          <p:cNvPicPr/>
          <p:nvPr/>
        </p:nvPicPr>
        <p:blipFill>
          <a:blip r:embed="rId3"/>
          <a:stretch/>
        </p:blipFill>
        <p:spPr>
          <a:xfrm>
            <a:off x="7000920" y="2143080"/>
            <a:ext cx="1969920" cy="2641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2" descr=""/>
          <p:cNvPicPr/>
          <p:nvPr/>
        </p:nvPicPr>
        <p:blipFill>
          <a:blip r:embed="rId4"/>
          <a:stretch/>
        </p:blipFill>
        <p:spPr>
          <a:xfrm>
            <a:off x="6429240" y="4786200"/>
            <a:ext cx="1096920" cy="12146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3" descr=""/>
          <p:cNvPicPr/>
          <p:nvPr/>
        </p:nvPicPr>
        <p:blipFill>
          <a:blip r:embed="rId5"/>
          <a:stretch/>
        </p:blipFill>
        <p:spPr>
          <a:xfrm>
            <a:off x="7513560" y="4786200"/>
            <a:ext cx="1416240" cy="1851120"/>
          </a:xfrm>
          <a:prstGeom prst="rect">
            <a:avLst/>
          </a:prstGeom>
          <a:ln w="0">
            <a:noFill/>
          </a:ln>
        </p:spPr>
      </p:pic>
      <p:sp>
        <p:nvSpPr>
          <p:cNvPr id="528" name="Прямоугольник 12"/>
          <p:cNvSpPr/>
          <p:nvPr/>
        </p:nvSpPr>
        <p:spPr>
          <a:xfrm>
            <a:off x="316116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0" descr=""/>
          <p:cNvPicPr/>
          <p:nvPr/>
        </p:nvPicPr>
        <p:blipFill>
          <a:blip r:embed="rId6"/>
          <a:stretch/>
        </p:blipFill>
        <p:spPr>
          <a:xfrm>
            <a:off x="6429240" y="2143080"/>
            <a:ext cx="965160" cy="12859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"/>
          <p:cNvPicPr/>
          <p:nvPr/>
        </p:nvPicPr>
        <p:blipFill>
          <a:blip r:embed="rId7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" descr=""/>
          <p:cNvPicPr/>
          <p:nvPr/>
        </p:nvPicPr>
        <p:blipFill>
          <a:blip r:embed="rId8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4" descr=""/>
          <p:cNvPicPr/>
          <p:nvPr/>
        </p:nvPicPr>
        <p:blipFill>
          <a:blip r:embed="rId9"/>
          <a:stretch/>
        </p:blipFill>
        <p:spPr>
          <a:xfrm>
            <a:off x="6429240" y="3429000"/>
            <a:ext cx="9734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Заголовок 4" descr=""/>
          <p:cNvPicPr/>
          <p:nvPr/>
        </p:nvPicPr>
        <p:blipFill>
          <a:blip r:embed="rId1"/>
          <a:stretch/>
        </p:blipFill>
        <p:spPr>
          <a:xfrm>
            <a:off x="566640" y="122400"/>
            <a:ext cx="6437520" cy="12556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571320" y="1071720"/>
            <a:ext cx="5857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Заклеиваем лентой из мочала  закрепляющие нитки на уровне шеи и запястий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Оформляем прическу: заплетаем косу. Делаем венок: наклеиваем или пришиваем мелкие искусственные цветы на ленту. Закрепляем венок на голове и оплетаем лентой косу, завязываем бант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Наклеиваем декоративную тесьму по низу юбки в два ряда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Оформляем фартук: пришиваем вручную на канву тесьму, чередуя по цвету. Имитируем тесьмой бретели и подвязываем фартук, закрывая верхний срез тесьмой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e3b30"/>
                </a:solidFill>
                <a:latin typeface="Franklin Gothic Book"/>
              </a:rPr>
              <a:t>Кукла из мочала готова!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Небольшие дополнения и образ стал ярче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Прямоугольник 7"/>
          <p:cNvSpPr/>
          <p:nvPr/>
        </p:nvSpPr>
        <p:spPr>
          <a:xfrm>
            <a:off x="358992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9" descr=""/>
          <p:cNvPicPr/>
          <p:nvPr/>
        </p:nvPicPr>
        <p:blipFill>
          <a:blip r:embed="rId2"/>
          <a:stretch/>
        </p:blipFill>
        <p:spPr>
          <a:xfrm>
            <a:off x="6715080" y="2143080"/>
            <a:ext cx="1144800" cy="17146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6" descr=""/>
          <p:cNvPicPr/>
          <p:nvPr/>
        </p:nvPicPr>
        <p:blipFill>
          <a:blip r:embed="rId3"/>
          <a:stretch/>
        </p:blipFill>
        <p:spPr>
          <a:xfrm>
            <a:off x="4929120" y="3429000"/>
            <a:ext cx="1643040" cy="4287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1" descr=""/>
          <p:cNvPicPr/>
          <p:nvPr/>
        </p:nvPicPr>
        <p:blipFill>
          <a:blip r:embed="rId4"/>
          <a:stretch/>
        </p:blipFill>
        <p:spPr>
          <a:xfrm>
            <a:off x="7929720" y="2143080"/>
            <a:ext cx="1214280" cy="7858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2" descr=""/>
          <p:cNvPicPr/>
          <p:nvPr/>
        </p:nvPicPr>
        <p:blipFill>
          <a:blip r:embed="rId5"/>
          <a:stretch/>
        </p:blipFill>
        <p:spPr>
          <a:xfrm>
            <a:off x="7929720" y="2928960"/>
            <a:ext cx="1000080" cy="944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3" descr=""/>
          <p:cNvPicPr/>
          <p:nvPr/>
        </p:nvPicPr>
        <p:blipFill>
          <a:blip r:embed="rId6"/>
          <a:stretch/>
        </p:blipFill>
        <p:spPr>
          <a:xfrm>
            <a:off x="6715080" y="571680"/>
            <a:ext cx="2174760" cy="15746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5" descr=""/>
          <p:cNvPicPr/>
          <p:nvPr/>
        </p:nvPicPr>
        <p:blipFill>
          <a:blip r:embed="rId7"/>
          <a:stretch/>
        </p:blipFill>
        <p:spPr>
          <a:xfrm>
            <a:off x="6715080" y="3859200"/>
            <a:ext cx="2121120" cy="29988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" descr=""/>
          <p:cNvPicPr/>
          <p:nvPr/>
        </p:nvPicPr>
        <p:blipFill>
          <a:blip r:embed="rId8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9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3" descr=""/>
          <p:cNvPicPr/>
          <p:nvPr/>
        </p:nvPicPr>
        <p:blipFill>
          <a:blip r:embed="rId10"/>
          <a:stretch/>
        </p:blipFill>
        <p:spPr>
          <a:xfrm>
            <a:off x="6000840" y="5516640"/>
            <a:ext cx="1000080" cy="1341360"/>
          </a:xfrm>
          <a:prstGeom prst="rect">
            <a:avLst/>
          </a:prstGeom>
          <a:ln w="0">
            <a:noFill/>
          </a:ln>
        </p:spPr>
      </p:pic>
      <p:sp>
        <p:nvSpPr>
          <p:cNvPr id="545" name="Управляющая кнопка: возврат 13"/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7493"/>
                </a:moveTo>
                <a:lnTo>
                  <a:pt x="9095" y="7493"/>
                </a:lnTo>
                <a:lnTo>
                  <a:pt x="9095" y="12828"/>
                </a:lnTo>
                <a:cubicBezTo>
                  <a:pt x="9095" y="13751"/>
                  <a:pt x="9896" y="14482"/>
                  <a:pt x="10932" y="14482"/>
                </a:cubicBezTo>
                <a:lnTo>
                  <a:pt x="12594" y="14482"/>
                </a:lnTo>
                <a:cubicBezTo>
                  <a:pt x="13630" y="14482"/>
                  <a:pt x="14430" y="13751"/>
                  <a:pt x="14430" y="12828"/>
                </a:cubicBezTo>
                <a:lnTo>
                  <a:pt x="14430" y="7493"/>
                </a:lnTo>
                <a:lnTo>
                  <a:pt x="12594" y="7493"/>
                </a:lnTo>
                <a:lnTo>
                  <a:pt x="16102" y="3985"/>
                </a:lnTo>
                <a:lnTo>
                  <a:pt x="19775" y="7493"/>
                </a:lnTo>
                <a:lnTo>
                  <a:pt x="17938" y="7493"/>
                </a:lnTo>
                <a:lnTo>
                  <a:pt x="17938" y="12828"/>
                </a:lnTo>
                <a:cubicBezTo>
                  <a:pt x="17938" y="15596"/>
                  <a:pt x="15362" y="18155"/>
                  <a:pt x="12594" y="18155"/>
                </a:cubicBezTo>
                <a:lnTo>
                  <a:pt x="10932" y="18155"/>
                </a:lnTo>
                <a:cubicBezTo>
                  <a:pt x="8164" y="18155"/>
                  <a:pt x="5587" y="15596"/>
                  <a:pt x="5587" y="12828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Заголовок 4" descr=""/>
          <p:cNvPicPr/>
          <p:nvPr/>
        </p:nvPicPr>
        <p:blipFill>
          <a:blip r:embed="rId1"/>
          <a:stretch/>
        </p:blipFill>
        <p:spPr>
          <a:xfrm>
            <a:off x="633240" y="208080"/>
            <a:ext cx="8077320" cy="10303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213840" y="1071360"/>
            <a:ext cx="40006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1" lang="ru-RU" sz="2400" spc="-1" strike="noStrike">
                <a:solidFill>
                  <a:srgbClr val="c17529"/>
                </a:solidFill>
                <a:latin typeface="Franklin Gothic Book"/>
              </a:rPr>
              <a:t>МАТЕРИАЛЫ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Шпагат  (льняной, пеньковый, джутовый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итки швейные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лей ПВА, «Момент»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Цветы бессмертник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Мешковина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роволока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артон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714920" y="1071360"/>
            <a:ext cx="3633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c17529"/>
                </a:solidFill>
                <a:latin typeface="Franklin Gothic Book"/>
              </a:rPr>
              <a:t>ИНСТРУМЕНТЫ и ПРИСПОСОБЛЕНИЯ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ожницы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Иглы ручные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Циркуль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Линейк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арандаш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2"/>
          <a:stretch/>
        </p:blipFill>
        <p:spPr>
          <a:xfrm>
            <a:off x="4214880" y="6215040"/>
            <a:ext cx="4286160" cy="6429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"/>
          <p:cNvPicPr/>
          <p:nvPr/>
        </p:nvPicPr>
        <p:blipFill>
          <a:blip r:embed="rId3"/>
          <a:stretch/>
        </p:blipFill>
        <p:spPr>
          <a:xfrm>
            <a:off x="0" y="6215040"/>
            <a:ext cx="4214880" cy="6429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4"/>
          <a:stretch/>
        </p:blipFill>
        <p:spPr>
          <a:xfrm>
            <a:off x="850104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"/>
          <p:cNvPicPr/>
          <p:nvPr/>
        </p:nvPicPr>
        <p:blipFill>
          <a:blip r:embed="rId5"/>
          <a:stretch/>
        </p:blipFill>
        <p:spPr>
          <a:xfrm>
            <a:off x="8501040" y="0"/>
            <a:ext cx="642960" cy="3429000"/>
          </a:xfrm>
          <a:prstGeom prst="rect">
            <a:avLst/>
          </a:prstGeom>
          <a:ln w="0">
            <a:noFill/>
          </a:ln>
        </p:spPr>
      </p:pic>
      <p:sp>
        <p:nvSpPr>
          <p:cNvPr id="553" name="Прямоугольник 10"/>
          <p:cNvSpPr/>
          <p:nvPr/>
        </p:nvSpPr>
        <p:spPr>
          <a:xfrm>
            <a:off x="358992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9" descr=""/>
          <p:cNvPicPr/>
          <p:nvPr/>
        </p:nvPicPr>
        <p:blipFill>
          <a:blip r:embed="rId6"/>
          <a:stretch/>
        </p:blipFill>
        <p:spPr>
          <a:xfrm>
            <a:off x="6500880" y="3929040"/>
            <a:ext cx="1979640" cy="22575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2" descr=""/>
          <p:cNvPicPr/>
          <p:nvPr/>
        </p:nvPicPr>
        <p:blipFill>
          <a:blip r:embed="rId7"/>
          <a:stretch/>
        </p:blipFill>
        <p:spPr>
          <a:xfrm>
            <a:off x="2143080" y="3959280"/>
            <a:ext cx="3148200" cy="2249280"/>
          </a:xfrm>
          <a:prstGeom prst="rect">
            <a:avLst/>
          </a:prstGeom>
          <a:ln w="0">
            <a:noFill/>
          </a:ln>
        </p:spPr>
      </p:pic>
      <p:sp>
        <p:nvSpPr>
          <p:cNvPr id="556" name="Управляющая кнопка: возврат 11"/>
          <p:cNvSpPr/>
          <p:nvPr/>
        </p:nvSpPr>
        <p:spPr>
          <a:xfrm>
            <a:off x="5643720" y="5643720"/>
            <a:ext cx="500040" cy="5428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42880"/>
              <a:gd name="textAreaBottom" fmla="*/ 510480 h 542880"/>
            </a:gdLst>
            <a:ahLst/>
            <a:rect l="textAreaLeft" t="textAreaTop" r="textAreaRight" b="textAreaBottom"/>
            <a:pathLst>
              <a:path w="21600" h="23449">
                <a:moveTo>
                  <a:pt x="0" y="0"/>
                </a:moveTo>
                <a:lnTo>
                  <a:pt x="21600" y="0"/>
                </a:lnTo>
                <a:lnTo>
                  <a:pt x="21600" y="23449"/>
                </a:lnTo>
                <a:lnTo>
                  <a:pt x="0" y="23449"/>
                </a:lnTo>
                <a:close/>
              </a:path>
              <a:path fill="lightenLess" w="21600" h="234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9">
                <a:moveTo>
                  <a:pt x="21600" y="0"/>
                </a:moveTo>
                <a:lnTo>
                  <a:pt x="21600" y="23449"/>
                </a:lnTo>
                <a:lnTo>
                  <a:pt x="20200" y="22049"/>
                </a:lnTo>
                <a:lnTo>
                  <a:pt x="20200" y="1400"/>
                </a:lnTo>
                <a:close/>
              </a:path>
              <a:path fill="darkenLess" w="21600" h="23449">
                <a:moveTo>
                  <a:pt x="21600" y="23449"/>
                </a:moveTo>
                <a:lnTo>
                  <a:pt x="0" y="23449"/>
                </a:lnTo>
                <a:lnTo>
                  <a:pt x="1400" y="22049"/>
                </a:lnTo>
                <a:lnTo>
                  <a:pt x="20200" y="22049"/>
                </a:lnTo>
                <a:close/>
              </a:path>
              <a:path fill="lighten" w="21600" h="23449">
                <a:moveTo>
                  <a:pt x="0" y="234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9"/>
                </a:lnTo>
                <a:close/>
              </a:path>
              <a:path fill="darken" w="21600" h="23449">
                <a:moveTo>
                  <a:pt x="3794" y="8417"/>
                </a:moveTo>
                <a:lnTo>
                  <a:pt x="7301" y="8417"/>
                </a:lnTo>
                <a:lnTo>
                  <a:pt x="7301" y="13753"/>
                </a:lnTo>
                <a:cubicBezTo>
                  <a:pt x="7301" y="14675"/>
                  <a:pt x="8102" y="15406"/>
                  <a:pt x="9138" y="15406"/>
                </a:cubicBezTo>
                <a:lnTo>
                  <a:pt x="10800" y="15406"/>
                </a:lnTo>
                <a:cubicBezTo>
                  <a:pt x="11836" y="15406"/>
                  <a:pt x="12636" y="14675"/>
                  <a:pt x="12636" y="13753"/>
                </a:cubicBezTo>
                <a:lnTo>
                  <a:pt x="12636" y="8417"/>
                </a:lnTo>
                <a:lnTo>
                  <a:pt x="10800" y="8417"/>
                </a:lnTo>
                <a:lnTo>
                  <a:pt x="14308" y="4910"/>
                </a:lnTo>
                <a:lnTo>
                  <a:pt x="17981" y="8417"/>
                </a:lnTo>
                <a:lnTo>
                  <a:pt x="16144" y="8417"/>
                </a:lnTo>
                <a:lnTo>
                  <a:pt x="16144" y="13753"/>
                </a:lnTo>
                <a:cubicBezTo>
                  <a:pt x="16144" y="16520"/>
                  <a:pt x="13568" y="19079"/>
                  <a:pt x="10800" y="19079"/>
                </a:cubicBezTo>
                <a:lnTo>
                  <a:pt x="9138" y="19079"/>
                </a:lnTo>
                <a:cubicBezTo>
                  <a:pt x="6370" y="19079"/>
                  <a:pt x="3794" y="16520"/>
                  <a:pt x="3794" y="13753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Заголовок 4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6840720" cy="12988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571320" y="1071360"/>
            <a:ext cx="58575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Шпагат наматываем без натяжения на картон, чтобы получились намотки нужной длины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(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и высоте куклы 20см – 23см, для волос – 20см,  для рук – 15см.)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Намотку для волос разрезаем с одной стороны  и перетягиваем со стороны среза, а намотку для туловища разрезаем с двух сторон. Равномерно распределяем основу вокруг пучка волос и  туго закрепляем ниткой. Выворачиваем оба пучка и формируем голову, закрепляя нитью на уровне шеи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Намотку для рук, разрезаем с двух сторон. Проволоку для рук сгибаем вдвое – на 0,5см меньше длины рук. Обматываем шпагатом. Вкладываем внутрь пучка и закрепляем по центру и на уровне запястий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2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sp>
        <p:nvSpPr>
          <p:cNvPr id="561" name="Прямоугольник 7"/>
          <p:cNvSpPr/>
          <p:nvPr/>
        </p:nvSpPr>
        <p:spPr>
          <a:xfrm>
            <a:off x="351828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9" descr=""/>
          <p:cNvPicPr/>
          <p:nvPr/>
        </p:nvPicPr>
        <p:blipFill>
          <a:blip r:embed="rId4"/>
          <a:stretch/>
        </p:blipFill>
        <p:spPr>
          <a:xfrm>
            <a:off x="7000920" y="214200"/>
            <a:ext cx="1814400" cy="16257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"/>
          <p:cNvPicPr/>
          <p:nvPr/>
        </p:nvPicPr>
        <p:blipFill>
          <a:blip r:embed="rId5"/>
          <a:stretch/>
        </p:blipFill>
        <p:spPr>
          <a:xfrm>
            <a:off x="6572160" y="1643040"/>
            <a:ext cx="1155960" cy="24289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0" descr=""/>
          <p:cNvPicPr/>
          <p:nvPr/>
        </p:nvPicPr>
        <p:blipFill>
          <a:blip r:embed="rId6"/>
          <a:stretch/>
        </p:blipFill>
        <p:spPr>
          <a:xfrm>
            <a:off x="7429680" y="3214800"/>
            <a:ext cx="1143000" cy="25495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1" descr=""/>
          <p:cNvPicPr/>
          <p:nvPr/>
        </p:nvPicPr>
        <p:blipFill>
          <a:blip r:embed="rId7"/>
          <a:stretch/>
        </p:blipFill>
        <p:spPr>
          <a:xfrm>
            <a:off x="8329680" y="1571760"/>
            <a:ext cx="814320" cy="25002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2" descr=""/>
          <p:cNvPicPr/>
          <p:nvPr/>
        </p:nvPicPr>
        <p:blipFill>
          <a:blip r:embed="rId8"/>
          <a:stretch/>
        </p:blipFill>
        <p:spPr>
          <a:xfrm>
            <a:off x="7000920" y="6286680"/>
            <a:ext cx="1857240" cy="5713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3" descr=""/>
          <p:cNvPicPr/>
          <p:nvPr/>
        </p:nvPicPr>
        <p:blipFill>
          <a:blip r:embed="rId9"/>
          <a:stretch/>
        </p:blipFill>
        <p:spPr>
          <a:xfrm>
            <a:off x="7000920" y="5715000"/>
            <a:ext cx="18572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Заголовок 4" descr=""/>
          <p:cNvPicPr/>
          <p:nvPr/>
        </p:nvPicPr>
        <p:blipFill>
          <a:blip r:embed="rId1"/>
          <a:stretch/>
        </p:blipFill>
        <p:spPr>
          <a:xfrm>
            <a:off x="706320" y="-6480"/>
            <a:ext cx="6516720" cy="131148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571680" y="1000080"/>
            <a:ext cx="600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елим  туловище поровну, до упора вставляем руки, закрепляем по линии талии ниткой. Руки пока не сгибаем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елаем конусный каркас из картона (прил. 2). Равномерно распределяем по окружности шпагат, идущий на юбку. Вершину конуса  вклеиваем в центр туловища  до упора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Промазываем клеем нижнюю поверхность конуса и приклеиваем шпагат,  натягивая и равномерно распределяя. Выравниваем низ юбки по краю конуса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елаем из шпагата метелочку: наматываем на картон длиной на 1,5см меньше размера конуса. Разрезаем на сгибах и  туго стягиваем по  одному краю ниткой. Смазываем этот край клеем и вклеиваем внутрь конуса. Излишки шпагата  обрезаем по уровню низа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Прямоугольник 7"/>
          <p:cNvSpPr/>
          <p:nvPr/>
        </p:nvSpPr>
        <p:spPr>
          <a:xfrm>
            <a:off x="351828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8" descr=""/>
          <p:cNvPicPr/>
          <p:nvPr/>
        </p:nvPicPr>
        <p:blipFill>
          <a:blip r:embed="rId2"/>
          <a:stretch/>
        </p:blipFill>
        <p:spPr>
          <a:xfrm>
            <a:off x="7520040" y="428760"/>
            <a:ext cx="1623960" cy="21650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"/>
          <p:cNvPicPr/>
          <p:nvPr/>
        </p:nvPicPr>
        <p:blipFill>
          <a:blip r:embed="rId3"/>
          <a:stretch/>
        </p:blipFill>
        <p:spPr>
          <a:xfrm>
            <a:off x="6643800" y="1928880"/>
            <a:ext cx="1366560" cy="13572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"/>
          <p:cNvPicPr/>
          <p:nvPr/>
        </p:nvPicPr>
        <p:blipFill>
          <a:blip r:embed="rId4"/>
          <a:stretch/>
        </p:blipFill>
        <p:spPr>
          <a:xfrm>
            <a:off x="6643800" y="3286080"/>
            <a:ext cx="1357200" cy="1870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"/>
          <p:cNvPicPr/>
          <p:nvPr/>
        </p:nvPicPr>
        <p:blipFill>
          <a:blip r:embed="rId5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"/>
          <p:cNvPicPr/>
          <p:nvPr/>
        </p:nvPicPr>
        <p:blipFill>
          <a:blip r:embed="rId6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2" descr=""/>
          <p:cNvPicPr/>
          <p:nvPr/>
        </p:nvPicPr>
        <p:blipFill>
          <a:blip r:embed="rId7"/>
          <a:stretch/>
        </p:blipFill>
        <p:spPr>
          <a:xfrm>
            <a:off x="7143840" y="5875200"/>
            <a:ext cx="871560" cy="9828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"/>
          <p:cNvPicPr/>
          <p:nvPr/>
        </p:nvPicPr>
        <p:blipFill>
          <a:blip r:embed="rId8"/>
          <a:stretch/>
        </p:blipFill>
        <p:spPr>
          <a:xfrm>
            <a:off x="7929720" y="3286080"/>
            <a:ext cx="1214280" cy="1905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1" descr=""/>
          <p:cNvPicPr/>
          <p:nvPr/>
        </p:nvPicPr>
        <p:blipFill>
          <a:blip r:embed="rId9"/>
          <a:stretch/>
        </p:blipFill>
        <p:spPr>
          <a:xfrm>
            <a:off x="6643800" y="5143680"/>
            <a:ext cx="785880" cy="10476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7" descr=""/>
          <p:cNvPicPr/>
          <p:nvPr/>
        </p:nvPicPr>
        <p:blipFill>
          <a:blip r:embed="rId10"/>
          <a:stretch/>
        </p:blipFill>
        <p:spPr>
          <a:xfrm>
            <a:off x="7859880" y="5143680"/>
            <a:ext cx="1284120" cy="1457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5" descr="DSC07599"/>
          <p:cNvPicPr/>
          <p:nvPr/>
        </p:nvPicPr>
        <p:blipFill>
          <a:blip r:embed="rId11"/>
          <a:stretch/>
        </p:blipFill>
        <p:spPr>
          <a:xfrm>
            <a:off x="8286840" y="2571840"/>
            <a:ext cx="571320" cy="743040"/>
          </a:xfrm>
          <a:prstGeom prst="rect">
            <a:avLst/>
          </a:prstGeom>
          <a:ln w="0">
            <a:noFill/>
          </a:ln>
        </p:spPr>
      </p:pic>
      <p:sp>
        <p:nvSpPr>
          <p:cNvPr id="581" name="Управляющая кнопка: возврат 14"/>
          <p:cNvSpPr/>
          <p:nvPr/>
        </p:nvSpPr>
        <p:spPr>
          <a:xfrm>
            <a:off x="600084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Заголовок 4" descr=""/>
          <p:cNvPicPr/>
          <p:nvPr/>
        </p:nvPicPr>
        <p:blipFill>
          <a:blip r:embed="rId1"/>
          <a:stretch/>
        </p:blipFill>
        <p:spPr>
          <a:xfrm>
            <a:off x="633240" y="-6480"/>
            <a:ext cx="5870880" cy="13114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 txBox="1"/>
          <p:nvPr/>
        </p:nvSpPr>
        <p:spPr>
          <a:xfrm>
            <a:off x="571320" y="1000080"/>
            <a:ext cx="5857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ля украшения фартука, низа рукавов, головного убора, пояса – плетем витые шнуры из шпагата (прил.3). Для оформления низа юбки и запястий - плетем косички из шпагата, сложенного вдвое и приклеиваем на клей «момент». Для корзинки плетем косичку  из шпагата длиной 40см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елаем выкройку фартука из бумаги в натуральную величину, накладываем на мешковину и по контуру приклеиваем на клей «момент» витой шнур. Для головного убора наклеиваем на мешковину шнур на расстоянии 1,5см друг от друга, а для рукавов (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4х10см</a:t>
            </a: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) - с одной стороны. После высыхания обрезаем детали по контуру шнура. Украшаем фартук цветами бессмертника, используя клей «момент»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Прямоугольник 7"/>
          <p:cNvSpPr/>
          <p:nvPr/>
        </p:nvSpPr>
        <p:spPr>
          <a:xfrm>
            <a:off x="351828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"/>
          <p:cNvPicPr/>
          <p:nvPr/>
        </p:nvPicPr>
        <p:blipFill>
          <a:blip r:embed="rId3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0" descr=""/>
          <p:cNvPicPr/>
          <p:nvPr/>
        </p:nvPicPr>
        <p:blipFill>
          <a:blip r:embed="rId4"/>
          <a:stretch/>
        </p:blipFill>
        <p:spPr>
          <a:xfrm>
            <a:off x="7929720" y="1000080"/>
            <a:ext cx="1214280" cy="27147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1" descr=""/>
          <p:cNvPicPr/>
          <p:nvPr/>
        </p:nvPicPr>
        <p:blipFill>
          <a:blip r:embed="rId5"/>
          <a:stretch/>
        </p:blipFill>
        <p:spPr>
          <a:xfrm>
            <a:off x="6500880" y="357120"/>
            <a:ext cx="1466640" cy="17146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5" descr=""/>
          <p:cNvPicPr/>
          <p:nvPr/>
        </p:nvPicPr>
        <p:blipFill>
          <a:blip r:embed="rId6"/>
          <a:stretch/>
        </p:blipFill>
        <p:spPr>
          <a:xfrm>
            <a:off x="6572160" y="4357800"/>
            <a:ext cx="765360" cy="22842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7" descr=""/>
          <p:cNvPicPr/>
          <p:nvPr/>
        </p:nvPicPr>
        <p:blipFill>
          <a:blip r:embed="rId7"/>
          <a:stretch/>
        </p:blipFill>
        <p:spPr>
          <a:xfrm>
            <a:off x="7358040" y="4294080"/>
            <a:ext cx="1785960" cy="2563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4" descr=""/>
          <p:cNvPicPr/>
          <p:nvPr/>
        </p:nvPicPr>
        <p:blipFill>
          <a:blip r:embed="rId8"/>
          <a:stretch/>
        </p:blipFill>
        <p:spPr>
          <a:xfrm>
            <a:off x="6500880" y="2071800"/>
            <a:ext cx="164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4429080" y="3857760"/>
            <a:ext cx="4048200" cy="28191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85480" y="1071360"/>
            <a:ext cx="8001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ля проведения занятия предлагается мастер-класс по изготовлению трех  сувенирных народных  кукол на конусной основе, выполненных из различных природных материалов. Ознакомьтесь полностью со всей презентацией, прежде чем приступить к творчеств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2" action="ppaction://hlinksldjump"/>
              </a:rPr>
              <a:t>Из льняных волокон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3" action="ppaction://hlinksldjump"/>
              </a:rPr>
              <a:t>Из мочал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Из шпагата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(пеньковый, льняной, джутовый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4071960" cy="642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5"/>
          <a:stretch/>
        </p:blipFill>
        <p:spPr>
          <a:xfrm>
            <a:off x="4071960" y="0"/>
            <a:ext cx="4429080" cy="6429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6"/>
          <a:stretch/>
        </p:blipFill>
        <p:spPr>
          <a:xfrm>
            <a:off x="850104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"/>
          <p:cNvPicPr/>
          <p:nvPr/>
        </p:nvPicPr>
        <p:blipFill>
          <a:blip r:embed="rId7"/>
          <a:stretch/>
        </p:blipFill>
        <p:spPr>
          <a:xfrm>
            <a:off x="8501040" y="0"/>
            <a:ext cx="642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Заголовок 4" descr=""/>
          <p:cNvPicPr/>
          <p:nvPr/>
        </p:nvPicPr>
        <p:blipFill>
          <a:blip r:embed="rId1"/>
          <a:stretch/>
        </p:blipFill>
        <p:spPr>
          <a:xfrm>
            <a:off x="633240" y="-6480"/>
            <a:ext cx="6091560" cy="129888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 txBox="1"/>
          <p:nvPr/>
        </p:nvSpPr>
        <p:spPr>
          <a:xfrm>
            <a:off x="571320" y="1071720"/>
            <a:ext cx="5857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Сгибаем руки по эскизу. Одеваем на куклу детали рукавов и фиксируем их по линии талии шпагатом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Приклеиваем к верху фартука плетеную из шпагата косичку,  одевая на куклу и имитируя бретель. Фартук подпоясываем витым шнуром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Оформляем прическу: переднюю прядь загибаем петлей, имитируя челку. Подклеиваем  к голове клеем. Остальные волосы распускаем.  Подравниваем волосы по линии низа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Склеиваем  в кольцо полоску для головного убора, уточняя размер по голове куклы. Одеваем на голову и приклеиваем к волосам. Наклеиваем цветы бессмертника, закрывая шов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4" name="Прямоугольник 7"/>
          <p:cNvSpPr/>
          <p:nvPr/>
        </p:nvSpPr>
        <p:spPr>
          <a:xfrm>
            <a:off x="351828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"/>
          <p:cNvPicPr/>
          <p:nvPr/>
        </p:nvPicPr>
        <p:blipFill>
          <a:blip r:embed="rId3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"/>
          <p:cNvPicPr/>
          <p:nvPr/>
        </p:nvPicPr>
        <p:blipFill>
          <a:blip r:embed="rId4"/>
          <a:stretch/>
        </p:blipFill>
        <p:spPr>
          <a:xfrm>
            <a:off x="6715080" y="214200"/>
            <a:ext cx="2071800" cy="19242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"/>
          <p:cNvPicPr/>
          <p:nvPr/>
        </p:nvPicPr>
        <p:blipFill>
          <a:blip r:embed="rId5"/>
          <a:stretch/>
        </p:blipFill>
        <p:spPr>
          <a:xfrm>
            <a:off x="6715080" y="2071800"/>
            <a:ext cx="2079720" cy="29289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"/>
          <p:cNvPicPr/>
          <p:nvPr/>
        </p:nvPicPr>
        <p:blipFill>
          <a:blip r:embed="rId6"/>
          <a:stretch/>
        </p:blipFill>
        <p:spPr>
          <a:xfrm>
            <a:off x="6500880" y="4857840"/>
            <a:ext cx="1212840" cy="17809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"/>
          <p:cNvPicPr/>
          <p:nvPr/>
        </p:nvPicPr>
        <p:blipFill>
          <a:blip r:embed="rId7"/>
          <a:stretch/>
        </p:blipFill>
        <p:spPr>
          <a:xfrm>
            <a:off x="7661160" y="5000760"/>
            <a:ext cx="148284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Заголовок 4" descr=""/>
          <p:cNvPicPr/>
          <p:nvPr/>
        </p:nvPicPr>
        <p:blipFill>
          <a:blip r:embed="rId1"/>
          <a:stretch/>
        </p:blipFill>
        <p:spPr>
          <a:xfrm>
            <a:off x="633240" y="-6480"/>
            <a:ext cx="5943600" cy="12988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 txBox="1"/>
          <p:nvPr/>
        </p:nvSpPr>
        <p:spPr>
          <a:xfrm>
            <a:off x="571320" y="1071720"/>
            <a:ext cx="5857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Изготовление корзинки: скручивая в улитку косичку, сшиваем вручную, используя иглу с большим ушком и нить шпагата.  Конец косички загибаем в виде ручки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Скатываем шарик из кусочка любой бумаги – вкладываем внутрь корзинки. Сверху на шарик наклеиваем цветы. Корзинку приклеиваем к руке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e3b30"/>
                </a:solidFill>
                <a:latin typeface="Franklin Gothic Book"/>
              </a:rPr>
              <a:t>Сувенирная кукла из шпагата готова!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ЖЕЛАЮ  УСПЕХОВ  И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ТВОРЧЕСКОГО ВДОХНОВЕНИЯ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3" name="Прямоугольник 7"/>
          <p:cNvSpPr/>
          <p:nvPr/>
        </p:nvSpPr>
        <p:spPr>
          <a:xfrm>
            <a:off x="351828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" descr=""/>
          <p:cNvPicPr/>
          <p:nvPr/>
        </p:nvPicPr>
        <p:blipFill>
          <a:blip r:embed="rId3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"/>
          <p:cNvPicPr/>
          <p:nvPr/>
        </p:nvPicPr>
        <p:blipFill>
          <a:blip r:embed="rId4"/>
          <a:stretch/>
        </p:blipFill>
        <p:spPr>
          <a:xfrm>
            <a:off x="6572160" y="0"/>
            <a:ext cx="2428920" cy="22939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5"/>
          <a:stretch/>
        </p:blipFill>
        <p:spPr>
          <a:xfrm>
            <a:off x="6572160" y="2143080"/>
            <a:ext cx="1203480" cy="15732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6"/>
          <a:stretch/>
        </p:blipFill>
        <p:spPr>
          <a:xfrm>
            <a:off x="7731000" y="2143080"/>
            <a:ext cx="1260720" cy="15717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7"/>
          <a:stretch/>
        </p:blipFill>
        <p:spPr>
          <a:xfrm>
            <a:off x="6627960" y="3714840"/>
            <a:ext cx="2301840" cy="3143160"/>
          </a:xfrm>
          <a:prstGeom prst="rect">
            <a:avLst/>
          </a:prstGeom>
          <a:ln w="0">
            <a:noFill/>
          </a:ln>
        </p:spPr>
      </p:pic>
      <p:sp>
        <p:nvSpPr>
          <p:cNvPr id="610" name="Управляющая кнопка: возврат 10"/>
          <p:cNvSpPr/>
          <p:nvPr/>
        </p:nvSpPr>
        <p:spPr>
          <a:xfrm>
            <a:off x="5857920" y="6357960"/>
            <a:ext cx="471600" cy="500040"/>
          </a:xfrm>
          <a:custGeom>
            <a:avLst/>
            <a:gdLst>
              <a:gd name="textAreaLeft" fmla="*/ 30240 w 471600"/>
              <a:gd name="textAreaRight" fmla="*/ 441360 w 471600"/>
              <a:gd name="textAreaTop" fmla="*/ 30240 h 500040"/>
              <a:gd name="textAreaBottom" fmla="*/ 469800 h 500040"/>
            </a:gdLst>
            <a:ahLst/>
            <a:rect l="textAreaLeft" t="textAreaTop" r="textAreaRight" b="textAreaBottom"/>
            <a:pathLst>
              <a:path w="21600" h="22902">
                <a:moveTo>
                  <a:pt x="0" y="0"/>
                </a:moveTo>
                <a:lnTo>
                  <a:pt x="21600" y="0"/>
                </a:lnTo>
                <a:lnTo>
                  <a:pt x="21600" y="22902"/>
                </a:lnTo>
                <a:lnTo>
                  <a:pt x="0" y="22902"/>
                </a:lnTo>
                <a:close/>
              </a:path>
              <a:path fill="lightenLess" w="21600" h="229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02">
                <a:moveTo>
                  <a:pt x="21600" y="0"/>
                </a:moveTo>
                <a:lnTo>
                  <a:pt x="21600" y="22902"/>
                </a:lnTo>
                <a:lnTo>
                  <a:pt x="20200" y="21502"/>
                </a:lnTo>
                <a:lnTo>
                  <a:pt x="20200" y="1400"/>
                </a:lnTo>
                <a:close/>
              </a:path>
              <a:path fill="darkenLess" w="21600" h="22902">
                <a:moveTo>
                  <a:pt x="21600" y="22902"/>
                </a:moveTo>
                <a:lnTo>
                  <a:pt x="0" y="22902"/>
                </a:lnTo>
                <a:lnTo>
                  <a:pt x="1400" y="21502"/>
                </a:lnTo>
                <a:lnTo>
                  <a:pt x="20200" y="21502"/>
                </a:lnTo>
                <a:close/>
              </a:path>
              <a:path fill="lighten" w="21600" h="22902">
                <a:moveTo>
                  <a:pt x="0" y="229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02"/>
                </a:lnTo>
                <a:close/>
              </a:path>
              <a:path fill="darken" w="21600" h="22902">
                <a:moveTo>
                  <a:pt x="3794" y="8143"/>
                </a:moveTo>
                <a:lnTo>
                  <a:pt x="7301" y="8143"/>
                </a:lnTo>
                <a:lnTo>
                  <a:pt x="7301" y="13479"/>
                </a:lnTo>
                <a:cubicBezTo>
                  <a:pt x="7301" y="14401"/>
                  <a:pt x="8102" y="15132"/>
                  <a:pt x="9138" y="15132"/>
                </a:cubicBezTo>
                <a:lnTo>
                  <a:pt x="10800" y="15132"/>
                </a:lnTo>
                <a:cubicBezTo>
                  <a:pt x="11836" y="15132"/>
                  <a:pt x="12636" y="14401"/>
                  <a:pt x="12636" y="13479"/>
                </a:cubicBezTo>
                <a:lnTo>
                  <a:pt x="12636" y="8143"/>
                </a:lnTo>
                <a:lnTo>
                  <a:pt x="10800" y="8143"/>
                </a:lnTo>
                <a:lnTo>
                  <a:pt x="14308" y="4636"/>
                </a:lnTo>
                <a:lnTo>
                  <a:pt x="17981" y="8143"/>
                </a:lnTo>
                <a:lnTo>
                  <a:pt x="16144" y="8143"/>
                </a:lnTo>
                <a:lnTo>
                  <a:pt x="16144" y="13479"/>
                </a:lnTo>
                <a:cubicBezTo>
                  <a:pt x="16144" y="16247"/>
                  <a:pt x="13568" y="18805"/>
                  <a:pt x="10800" y="18805"/>
                </a:cubicBezTo>
                <a:lnTo>
                  <a:pt x="9138" y="18805"/>
                </a:lnTo>
                <a:cubicBezTo>
                  <a:pt x="6370" y="18805"/>
                  <a:pt x="3794" y="16247"/>
                  <a:pt x="3794" y="13479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Заголовок 4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3032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 txBox="1"/>
          <p:nvPr/>
        </p:nvSpPr>
        <p:spPr>
          <a:xfrm>
            <a:off x="857160" y="1554120"/>
            <a:ext cx="813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ttp://ant7658.narod.ru/amuleti_talismani_oberegi/kukli_oberegi3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куклы-оберег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ttp://a-furnitura.ru/catimages/0004407.jpg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- картинка для фона презентаци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 презентации использованы авторские фотографи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3" name="Прямоугольник 7"/>
          <p:cNvSpPr/>
          <p:nvPr/>
        </p:nvSpPr>
        <p:spPr>
          <a:xfrm>
            <a:off x="373284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"/>
          <p:cNvPicPr/>
          <p:nvPr/>
        </p:nvPicPr>
        <p:blipFill>
          <a:blip r:embed="rId3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sp>
        <p:nvSpPr>
          <p:cNvPr id="616" name="Управляющая кнопка: в начало 8">
            <a:hlinkClick r:id="" action="ppaction://hlinkshowjump?jump=firstslide"/>
          </p:cNvPr>
          <p:cNvSpPr/>
          <p:nvPr/>
        </p:nvSpPr>
        <p:spPr>
          <a:xfrm>
            <a:off x="8143920" y="5857920"/>
            <a:ext cx="714240" cy="685800"/>
          </a:xfrm>
          <a:custGeom>
            <a:avLst/>
            <a:gdLst>
              <a:gd name="textAreaLeft" fmla="*/ 44280 w 714240"/>
              <a:gd name="textAreaRight" fmla="*/ 669960 w 7142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95" h="21600">
                <a:moveTo>
                  <a:pt x="7749" y="10800"/>
                </a:moveTo>
                <a:lnTo>
                  <a:pt x="18254" y="3794"/>
                </a:lnTo>
                <a:lnTo>
                  <a:pt x="18254" y="17806"/>
                </a:lnTo>
                <a:close/>
              </a:path>
              <a:path fill="darken" w="22495" h="21600">
                <a:moveTo>
                  <a:pt x="4241" y="3794"/>
                </a:moveTo>
                <a:lnTo>
                  <a:pt x="5904" y="3794"/>
                </a:lnTo>
                <a:lnTo>
                  <a:pt x="5904" y="17806"/>
                </a:lnTo>
                <a:lnTo>
                  <a:pt x="4241" y="1780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993600" y="281160"/>
            <a:ext cx="8004240" cy="1023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785880" y="1000080"/>
            <a:ext cx="81439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абочее место должно быть хорошо освещено: лучше работать при естественном дневном освещени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ри работе с природным материалом необходимо надеть фартук  (волокна прилипают к одежде), а рабочий стол  застелить клеенкой. Подготовить  газету, пакет или коробку куда будут обрезаться и складываться отходы, очесы и мусор  при выполнении работы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Инструменты и приспособления расположить со стороны рабочей руки (справа – если правша), а материалы – слева. Природный материал лучше держать  в отдельной коробке или пакете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                  </a:t>
            </a:r>
            <a:r>
              <a:rPr b="1" lang="ru-RU" sz="2200" spc="-1" strike="noStrike">
                <a:solidFill>
                  <a:srgbClr val="c17529"/>
                </a:solidFill>
                <a:latin typeface="Franklin Gothic Book"/>
              </a:rPr>
              <a:t>СОБЛЮДЕНИЕ ТЕХНИКИ БЕЗОПАСНОСТИ  (прил. 1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Изготовление сувенирной куклы связано с применением  ручных работ. Необходимо соблюдать осторожность при работе с острыми и режущими инструментами!!!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Прямоугольник 6"/>
          <p:cNvSpPr/>
          <p:nvPr/>
        </p:nvSpPr>
        <p:spPr>
          <a:xfrm>
            <a:off x="330408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3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993600" y="208080"/>
            <a:ext cx="6510600" cy="1030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642960" y="1071720"/>
            <a:ext cx="6143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Прежде чем приступить к работе делаем набросок – эскиз своего творения. Можно сделать несколько вариантов и выбрать лучший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На этом этапе  определяемся с «возрастом» и размером куклы: девочка, девушка или  замужняя  женщина; высокая или низкая, худенькая  или  полненькая. Размер  зависит от желания автора и от количества природного материала, имеющегося в наличии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Определяемся с прической и цветом волос, а также  из какого материала они будут сделаны: из природного волокна или из дополнительной пряжи. Прическа также зависит от возраста куклы (коса, распущенные волосы или убранные   под  головной убор)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TextBox 8"/>
          <p:cNvSpPr/>
          <p:nvPr/>
        </p:nvSpPr>
        <p:spPr>
          <a:xfrm>
            <a:off x="358992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3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9" descr=""/>
          <p:cNvPicPr/>
          <p:nvPr/>
        </p:nvPicPr>
        <p:blipFill>
          <a:blip r:embed="rId4"/>
          <a:stretch/>
        </p:blipFill>
        <p:spPr>
          <a:xfrm>
            <a:off x="7072200" y="3643200"/>
            <a:ext cx="1835280" cy="2876760"/>
          </a:xfrm>
          <a:prstGeom prst="rect">
            <a:avLst/>
          </a:prstGeom>
          <a:ln w="0">
            <a:noFill/>
          </a:ln>
        </p:spPr>
      </p:pic>
      <p:sp>
        <p:nvSpPr>
          <p:cNvPr id="425" name="TextBox 9"/>
          <p:cNvSpPr/>
          <p:nvPr/>
        </p:nvSpPr>
        <p:spPr>
          <a:xfrm>
            <a:off x="7072200" y="6566040"/>
            <a:ext cx="1857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киз куклы  из мочал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0"/>
          <p:cNvSpPr/>
          <p:nvPr/>
        </p:nvSpPr>
        <p:spPr>
          <a:xfrm>
            <a:off x="7072200" y="3286080"/>
            <a:ext cx="1785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киз куклы  из льн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"/>
          <p:cNvPicPr/>
          <p:nvPr/>
        </p:nvPicPr>
        <p:blipFill>
          <a:blip r:embed="rId5"/>
          <a:stretch/>
        </p:blipFill>
        <p:spPr>
          <a:xfrm>
            <a:off x="7072200" y="374760"/>
            <a:ext cx="183384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1006560" y="208080"/>
            <a:ext cx="6284880" cy="10303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642960" y="1071360"/>
            <a:ext cx="61437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Отражаем элементы одежды и украшений.  Их не должно быть много, чтобы видна  была красота природного материала, из которого выполнена основа куклы. Костюм, прическа и украшения для куклы зависят от желаемого образа, фантазии автора и имеющегося в наличии материала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Лицо у сувенирной куклы можно  оставить без оформления  или по желанию, выполнить аппликацию или  расписать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После разработки эскизов окончательно определяемся с необходимыми материалами, инструментами и приспособлениями и подготавливаем их к работе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В процессе работы можно вносить изменения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Прямоугольник 5"/>
          <p:cNvSpPr/>
          <p:nvPr/>
        </p:nvSpPr>
        <p:spPr>
          <a:xfrm>
            <a:off x="351828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"/>
          <p:cNvPicPr/>
          <p:nvPr/>
        </p:nvPicPr>
        <p:blipFill>
          <a:blip r:embed="rId3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"/>
          <p:cNvPicPr/>
          <p:nvPr/>
        </p:nvPicPr>
        <p:blipFill>
          <a:blip r:embed="rId4"/>
          <a:stretch/>
        </p:blipFill>
        <p:spPr>
          <a:xfrm>
            <a:off x="6929280" y="500040"/>
            <a:ext cx="1874880" cy="3373560"/>
          </a:xfrm>
          <a:prstGeom prst="rect">
            <a:avLst/>
          </a:prstGeom>
          <a:ln w="0">
            <a:noFill/>
          </a:ln>
        </p:spPr>
      </p:pic>
      <p:sp>
        <p:nvSpPr>
          <p:cNvPr id="434" name="TextBox 8"/>
          <p:cNvSpPr/>
          <p:nvPr/>
        </p:nvSpPr>
        <p:spPr>
          <a:xfrm>
            <a:off x="7072200" y="3857760"/>
            <a:ext cx="171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киз куклы  из шпага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2" descr=""/>
          <p:cNvPicPr/>
          <p:nvPr/>
        </p:nvPicPr>
        <p:blipFill>
          <a:blip r:embed="rId1"/>
          <a:stretch/>
        </p:blipFill>
        <p:spPr>
          <a:xfrm>
            <a:off x="-6480" y="171360"/>
            <a:ext cx="8699760" cy="12495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285480" y="1071360"/>
            <a:ext cx="3857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lang="ru-RU" sz="2200" spc="-1" strike="noStrike">
                <a:solidFill>
                  <a:srgbClr val="c17529"/>
                </a:solidFill>
                <a:latin typeface="Franklin Gothic Book"/>
              </a:rPr>
              <a:t>НЕОБХОДИМЫ МАТЕРИАЛЫ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Льняное волокно (сантехнический лен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ряжа красная, белая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итки швейные (прочные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Атласная лент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анв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Мулине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артон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лей ПВ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357440" y="107136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lang="ru-RU" sz="2200" spc="-1" strike="noStrike">
                <a:solidFill>
                  <a:srgbClr val="c17529"/>
                </a:solidFill>
                <a:latin typeface="Franklin Gothic Book"/>
              </a:rPr>
              <a:t>ИНСТУМЕНТЫ И ПРИСПОСОБЛЕНИЯ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ожницы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асческ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учные иглы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Булавк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арандаш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Циркуль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Линейка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8" name="Picture 9" descr=""/>
          <p:cNvPicPr/>
          <p:nvPr/>
        </p:nvPicPr>
        <p:blipFill>
          <a:blip r:embed="rId2"/>
          <a:stretch/>
        </p:blipFill>
        <p:spPr>
          <a:xfrm>
            <a:off x="2000160" y="3929040"/>
            <a:ext cx="2286000" cy="2292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" descr=""/>
          <p:cNvPicPr/>
          <p:nvPr/>
        </p:nvPicPr>
        <p:blipFill>
          <a:blip r:embed="rId3"/>
          <a:stretch/>
        </p:blipFill>
        <p:spPr>
          <a:xfrm>
            <a:off x="6072120" y="4286160"/>
            <a:ext cx="2428920" cy="18986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4"/>
          <a:stretch/>
        </p:blipFill>
        <p:spPr>
          <a:xfrm>
            <a:off x="0" y="6215040"/>
            <a:ext cx="4286160" cy="642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"/>
          <p:cNvPicPr/>
          <p:nvPr/>
        </p:nvPicPr>
        <p:blipFill>
          <a:blip r:embed="rId5"/>
          <a:stretch/>
        </p:blipFill>
        <p:spPr>
          <a:xfrm>
            <a:off x="4286160" y="6215040"/>
            <a:ext cx="4214880" cy="642960"/>
          </a:xfrm>
          <a:prstGeom prst="rect">
            <a:avLst/>
          </a:prstGeom>
          <a:ln w="0">
            <a:noFill/>
          </a:ln>
        </p:spPr>
      </p:pic>
      <p:sp>
        <p:nvSpPr>
          <p:cNvPr id="442" name="TextBox 13"/>
          <p:cNvSpPr/>
          <p:nvPr/>
        </p:nvSpPr>
        <p:spPr>
          <a:xfrm>
            <a:off x="358992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6"/>
          <a:stretch/>
        </p:blipFill>
        <p:spPr>
          <a:xfrm>
            <a:off x="850104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7"/>
          <a:stretch/>
        </p:blipFill>
        <p:spPr>
          <a:xfrm>
            <a:off x="8501040" y="0"/>
            <a:ext cx="642960" cy="3429000"/>
          </a:xfrm>
          <a:prstGeom prst="rect">
            <a:avLst/>
          </a:prstGeom>
          <a:ln w="0">
            <a:noFill/>
          </a:ln>
        </p:spPr>
      </p:pic>
      <p:sp>
        <p:nvSpPr>
          <p:cNvPr id="445" name="Управляющая кнопка: возврат 12"/>
          <p:cNvSpPr/>
          <p:nvPr/>
        </p:nvSpPr>
        <p:spPr>
          <a:xfrm>
            <a:off x="5000760" y="5786280"/>
            <a:ext cx="428400" cy="400320"/>
          </a:xfrm>
          <a:custGeom>
            <a:avLst/>
            <a:gdLst>
              <a:gd name="textAreaLeft" fmla="*/ 25920 w 428400"/>
              <a:gd name="textAreaRight" fmla="*/ 402480 w 428400"/>
              <a:gd name="textAreaTop" fmla="*/ 25920 h 400320"/>
              <a:gd name="textAreaBottom" fmla="*/ 374400 h 400320"/>
            </a:gdLst>
            <a:ahLst/>
            <a:rect l="textAreaLeft" t="textAreaTop" r="textAreaRight" b="textAreaBottom"/>
            <a:pathLst>
              <a:path w="23114" h="21600">
                <a:moveTo>
                  <a:pt x="0" y="0"/>
                </a:moveTo>
                <a:lnTo>
                  <a:pt x="23114" y="0"/>
                </a:lnTo>
                <a:lnTo>
                  <a:pt x="23114" y="21600"/>
                </a:lnTo>
                <a:lnTo>
                  <a:pt x="0" y="21600"/>
                </a:lnTo>
                <a:close/>
              </a:path>
              <a:path fill="lightenLess" w="23114" h="21600">
                <a:moveTo>
                  <a:pt x="0" y="0"/>
                </a:moveTo>
                <a:lnTo>
                  <a:pt x="23114" y="0"/>
                </a:lnTo>
                <a:lnTo>
                  <a:pt x="21714" y="1400"/>
                </a:lnTo>
                <a:lnTo>
                  <a:pt x="1400" y="1400"/>
                </a:lnTo>
                <a:close/>
              </a:path>
              <a:path fill="darken" w="23114" h="21600">
                <a:moveTo>
                  <a:pt x="23114" y="0"/>
                </a:moveTo>
                <a:lnTo>
                  <a:pt x="23114" y="21600"/>
                </a:lnTo>
                <a:lnTo>
                  <a:pt x="21714" y="20200"/>
                </a:lnTo>
                <a:lnTo>
                  <a:pt x="21714" y="1400"/>
                </a:lnTo>
                <a:close/>
              </a:path>
              <a:path fill="darkenLess" w="23114" h="21600">
                <a:moveTo>
                  <a:pt x="231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4" y="20200"/>
                </a:lnTo>
                <a:close/>
              </a:path>
              <a:path fill="lighten" w="231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4" h="21600">
                <a:moveTo>
                  <a:pt x="4550" y="7493"/>
                </a:moveTo>
                <a:lnTo>
                  <a:pt x="8058" y="7493"/>
                </a:lnTo>
                <a:lnTo>
                  <a:pt x="8058" y="12828"/>
                </a:lnTo>
                <a:cubicBezTo>
                  <a:pt x="8058" y="13751"/>
                  <a:pt x="8859" y="14482"/>
                  <a:pt x="9894" y="14482"/>
                </a:cubicBezTo>
                <a:lnTo>
                  <a:pt x="11557" y="14482"/>
                </a:lnTo>
                <a:cubicBezTo>
                  <a:pt x="12593" y="14482"/>
                  <a:pt x="13393" y="13751"/>
                  <a:pt x="13393" y="12828"/>
                </a:cubicBezTo>
                <a:lnTo>
                  <a:pt x="13393" y="7493"/>
                </a:lnTo>
                <a:lnTo>
                  <a:pt x="11557" y="7493"/>
                </a:lnTo>
                <a:lnTo>
                  <a:pt x="15064" y="3985"/>
                </a:lnTo>
                <a:lnTo>
                  <a:pt x="18737" y="7493"/>
                </a:lnTo>
                <a:lnTo>
                  <a:pt x="16901" y="7493"/>
                </a:lnTo>
                <a:lnTo>
                  <a:pt x="16901" y="12828"/>
                </a:lnTo>
                <a:cubicBezTo>
                  <a:pt x="16901" y="15596"/>
                  <a:pt x="14325" y="18155"/>
                  <a:pt x="11557" y="18155"/>
                </a:cubicBezTo>
                <a:lnTo>
                  <a:pt x="9894" y="18155"/>
                </a:lnTo>
                <a:cubicBezTo>
                  <a:pt x="7127" y="18155"/>
                  <a:pt x="4550" y="15596"/>
                  <a:pt x="4550" y="12828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554040" y="208080"/>
            <a:ext cx="6218280" cy="10303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571320" y="1071360"/>
            <a:ext cx="57862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Подбираем два оттенка льна – для туловища и волос. Расчесываем волокна льна редкой расческой для выравнивания по длине и удаления очесов и мусора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(Очесы можно использовать для сухого валяния или в качестве наполнителя для кукол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Нарезаем  отрезки нужной длины для туловища (для куклы высотой 20см,  нарезаем - 25см) , для рук – 15 см, для волос выбираем более светлый оттенок льна – по эскизу две длинные  косы – нарезаем 25см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Туго завязываем  пучок  льна для волос крепкой ниткой с одной стороны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Вокруг пучка волос равномерно распределяем лен  для туловища и опять туго завязываем в общий пучок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6600960" y="357120"/>
            <a:ext cx="2328840" cy="19288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"/>
          <p:cNvPicPr/>
          <p:nvPr/>
        </p:nvPicPr>
        <p:blipFill>
          <a:blip r:embed="rId3"/>
          <a:stretch/>
        </p:blipFill>
        <p:spPr>
          <a:xfrm>
            <a:off x="6600960" y="2286000"/>
            <a:ext cx="1766880" cy="2214720"/>
          </a:xfrm>
          <a:prstGeom prst="rect">
            <a:avLst/>
          </a:prstGeom>
          <a:ln w="0">
            <a:noFill/>
          </a:ln>
        </p:spPr>
      </p:pic>
      <p:sp>
        <p:nvSpPr>
          <p:cNvPr id="450" name="TextBox 8"/>
          <p:cNvSpPr/>
          <p:nvPr/>
        </p:nvSpPr>
        <p:spPr>
          <a:xfrm>
            <a:off x="3304080" y="659592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4"/>
          <a:stretch/>
        </p:blipFill>
        <p:spPr>
          <a:xfrm>
            <a:off x="6572160" y="5519880"/>
            <a:ext cx="1359000" cy="13381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"/>
          <p:cNvPicPr/>
          <p:nvPr/>
        </p:nvPicPr>
        <p:blipFill>
          <a:blip r:embed="rId5"/>
          <a:stretch/>
        </p:blipFill>
        <p:spPr>
          <a:xfrm>
            <a:off x="7643880" y="4357800"/>
            <a:ext cx="1295280" cy="20714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"/>
          <p:cNvPicPr/>
          <p:nvPr/>
        </p:nvPicPr>
        <p:blipFill>
          <a:blip r:embed="rId6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" descr=""/>
          <p:cNvPicPr/>
          <p:nvPr/>
        </p:nvPicPr>
        <p:blipFill>
          <a:blip r:embed="rId7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"/>
          <p:cNvPicPr/>
          <p:nvPr/>
        </p:nvPicPr>
        <p:blipFill>
          <a:blip r:embed="rId8"/>
          <a:stretch/>
        </p:blipFill>
        <p:spPr>
          <a:xfrm>
            <a:off x="6572160" y="4357800"/>
            <a:ext cx="13366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901800" y="128520"/>
            <a:ext cx="4908600" cy="12556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571680" y="1071360"/>
            <a:ext cx="55720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Выворачиваем оба пучка в разные стороны. Разглаживаем руками лен со стороны лица (пальцы можно смочить водой). Берем 25-30см красной пряжи и закрепляем голову куклы на уровне шеи. Нить не обрезаем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Руки можно оформить разными способами: перетянуть пучок у запястья, оплести цветными нитками или сплести косичку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Разделив волокна для туловища поровну, вставляем до упора (под шею), подготовленные руки. Концами  красной нити, сделав обережный крест на груди, закрепляем  руки снизу – линия талии. Нить обрезаем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8" name="Picture 6" descr=""/>
          <p:cNvPicPr/>
          <p:nvPr/>
        </p:nvPicPr>
        <p:blipFill>
          <a:blip r:embed="rId2"/>
          <a:stretch/>
        </p:blipFill>
        <p:spPr>
          <a:xfrm>
            <a:off x="6572160" y="285840"/>
            <a:ext cx="2143080" cy="29192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8" descr=""/>
          <p:cNvPicPr/>
          <p:nvPr/>
        </p:nvPicPr>
        <p:blipFill>
          <a:blip r:embed="rId3"/>
          <a:stretch/>
        </p:blipFill>
        <p:spPr>
          <a:xfrm>
            <a:off x="6572160" y="3143160"/>
            <a:ext cx="2344680" cy="1428840"/>
          </a:xfrm>
          <a:prstGeom prst="rect">
            <a:avLst/>
          </a:prstGeom>
          <a:ln w="0">
            <a:noFill/>
          </a:ln>
        </p:spPr>
      </p:pic>
      <p:sp>
        <p:nvSpPr>
          <p:cNvPr id="460" name="TextBox 12"/>
          <p:cNvSpPr/>
          <p:nvPr/>
        </p:nvSpPr>
        <p:spPr>
          <a:xfrm>
            <a:off x="3304080" y="659592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1" descr=""/>
          <p:cNvPicPr/>
          <p:nvPr/>
        </p:nvPicPr>
        <p:blipFill>
          <a:blip r:embed="rId4"/>
          <a:stretch/>
        </p:blipFill>
        <p:spPr>
          <a:xfrm>
            <a:off x="7572240" y="4857840"/>
            <a:ext cx="1382760" cy="17859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"/>
          <p:cNvPicPr/>
          <p:nvPr/>
        </p:nvPicPr>
        <p:blipFill>
          <a:blip r:embed="rId5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"/>
          <p:cNvPicPr/>
          <p:nvPr/>
        </p:nvPicPr>
        <p:blipFill>
          <a:blip r:embed="rId6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1" descr=""/>
          <p:cNvPicPr/>
          <p:nvPr/>
        </p:nvPicPr>
        <p:blipFill>
          <a:blip r:embed="rId7"/>
          <a:stretch/>
        </p:blipFill>
        <p:spPr>
          <a:xfrm>
            <a:off x="6215040" y="4357800"/>
            <a:ext cx="16416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633240" y="55440"/>
            <a:ext cx="6016680" cy="1413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642960" y="1142640"/>
            <a:ext cx="5572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ля оформления нижней части куклы – юбки, делаем конусный каркас из картона, применяя  простую развертку  (прил. 2)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Равномерно распределяем по окружности волокна льна, идущие на юбку, разложив на ровной поверхности. Смазываем вершину конуса клеем и вставляем до упора в туловище, за счет чего снизу  остаются припуски волокон льна, идущие на оформление (оборку)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елаем из льна дополнительную  пышную метелочку длиной на 1см меньше длины боковой стороны конуса. Туго стягиваем по краю. Смазываем этот край клеем и вставляем в конус. Волокна распушаем и подрезаем по уровню нижнего края конуса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557360" cy="1793880"/>
          </a:xfrm>
          <a:prstGeom prst="rect">
            <a:avLst/>
          </a:prstGeom>
          <a:ln w="0">
            <a:noFill/>
          </a:ln>
        </p:spPr>
      </p:pic>
      <p:sp>
        <p:nvSpPr>
          <p:cNvPr id="468" name="Прямая соединительная линия 11"/>
          <p:cNvSpPr/>
          <p:nvPr/>
        </p:nvSpPr>
        <p:spPr>
          <a:xfrm flipH="1">
            <a:off x="7643520" y="1214280"/>
            <a:ext cx="500040" cy="50040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3"/>
          <a:stretch/>
        </p:blipFill>
        <p:spPr>
          <a:xfrm>
            <a:off x="6286680" y="1649520"/>
            <a:ext cx="2012760" cy="17082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"/>
          <p:cNvPicPr/>
          <p:nvPr/>
        </p:nvPicPr>
        <p:blipFill>
          <a:blip r:embed="rId5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5" descr=""/>
          <p:cNvPicPr/>
          <p:nvPr/>
        </p:nvPicPr>
        <p:blipFill>
          <a:blip r:embed="rId6"/>
          <a:stretch/>
        </p:blipFill>
        <p:spPr>
          <a:xfrm>
            <a:off x="7429680" y="28576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4" descr=""/>
          <p:cNvPicPr/>
          <p:nvPr/>
        </p:nvPicPr>
        <p:blipFill>
          <a:blip r:embed="rId7"/>
          <a:stretch/>
        </p:blipFill>
        <p:spPr>
          <a:xfrm>
            <a:off x="6643800" y="642960"/>
            <a:ext cx="698400" cy="10065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"/>
          <p:cNvPicPr/>
          <p:nvPr/>
        </p:nvPicPr>
        <p:blipFill>
          <a:blip r:embed="rId8"/>
          <a:stretch/>
        </p:blipFill>
        <p:spPr>
          <a:xfrm>
            <a:off x="6286680" y="3714840"/>
            <a:ext cx="1250640" cy="142884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19"/>
          <p:cNvSpPr/>
          <p:nvPr/>
        </p:nvSpPr>
        <p:spPr>
          <a:xfrm>
            <a:off x="330408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4" descr=""/>
          <p:cNvPicPr/>
          <p:nvPr/>
        </p:nvPicPr>
        <p:blipFill>
          <a:blip r:embed="rId9"/>
          <a:stretch/>
        </p:blipFill>
        <p:spPr>
          <a:xfrm>
            <a:off x="7286760" y="4929120"/>
            <a:ext cx="1665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14:46:20Z</dcterms:created>
  <dc:creator>Виркова Т.М.</dc:creator>
  <dc:description/>
  <dc:language>en-US</dc:language>
  <cp:lastModifiedBy>Алнка</cp:lastModifiedBy>
  <dcterms:modified xsi:type="dcterms:W3CDTF">2012-08-14T09:08:06Z</dcterms:modified>
  <cp:revision>498</cp:revision>
  <dc:subject/>
  <dc:title>Сувенирная народная кукла</dc:title>
</cp:coreProperties>
</file>