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8.jpeg" ContentType="image/jpeg"/>
  <Override PartName="/ppt/media/image43.jpeg" ContentType="image/jpeg"/>
  <Override PartName="/ppt/media/image28.png" ContentType="image/png"/>
  <Override PartName="/ppt/media/image5.png" ContentType="image/png"/>
  <Override PartName="/ppt/media/image98.jpeg" ContentType="image/jpeg"/>
  <Override PartName="/ppt/media/image38.jpeg" ContentType="image/jpeg"/>
  <Override PartName="/ppt/media/image97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89.jpeg" ContentType="image/jpeg"/>
  <Override PartName="/ppt/media/image39.png" ContentType="image/png"/>
  <Override PartName="/ppt/media/image64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34.png" ContentType="image/png"/>
  <Override PartName="/ppt/media/image74.jpeg" ContentType="image/jpeg"/>
  <Override PartName="/ppt/media/image4.jpeg" ContentType="image/jpeg"/>
  <Override PartName="/ppt/media/image2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67.jpeg" ContentType="image/jpeg"/>
  <Override PartName="/ppt/media/image58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3.png" ContentType="image/png"/>
  <Override PartName="/ppt/media/image75.jpeg" ContentType="image/jpeg"/>
  <Override PartName="/ppt/media/image76.jpeg" ContentType="image/jpeg"/>
  <Override PartName="/ppt/media/image16.png" ContentType="image/png"/>
  <Override PartName="/ppt/media/image93.jpeg" ContentType="image/jpeg"/>
  <Override PartName="/ppt/media/image49.jpeg" ContentType="image/jpeg"/>
  <Override PartName="/ppt/media/image88.png" ContentType="image/png"/>
  <Override PartName="/ppt/media/image94.jpeg" ContentType="image/jpeg"/>
  <Override PartName="/ppt/media/image92.png" ContentType="image/png"/>
  <Override PartName="/ppt/media/image122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114.png" ContentType="image/png"/>
  <Override PartName="/ppt/media/image124.png" ContentType="image/png"/>
  <Override PartName="/ppt/media/image95.jpeg" ContentType="image/jpeg"/>
  <Override PartName="/ppt/media/image3.png" ContentType="image/png"/>
  <Override PartName="/ppt/media/image80.png" ContentType="image/png"/>
  <Override PartName="/ppt/media/image112.jpeg" ContentType="image/jpeg"/>
  <Override PartName="/ppt/media/image121.jpeg" ContentType="image/jpeg"/>
  <Override PartName="/ppt/media/image115.jpeg" ContentType="image/jpeg"/>
  <Override PartName="/ppt/media/image96.jpeg" ContentType="image/jpeg"/>
  <Override PartName="/ppt/media/image113.jpeg" ContentType="image/jpeg"/>
  <Override PartName="/ppt/media/image68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108.png" ContentType="image/png"/>
  <Override PartName="/ppt/media/image15.jpeg" ContentType="image/jpeg"/>
  <Override PartName="/ppt/media/image123.jpeg" ContentType="image/jpeg"/>
  <Override PartName="/ppt/media/image119.png" ContentType="image/png"/>
  <Override PartName="/ppt/media/image99.png" ContentType="image/png"/>
  <Override PartName="/ppt/media/image66.jpeg" ContentType="image/jpeg"/>
  <Override PartName="/ppt/media/image117.jpeg" ContentType="image/jpeg"/>
  <Override PartName="/ppt/media/image100.jpeg" ContentType="image/jpeg"/>
  <Override PartName="/ppt/media/image65.png" ContentType="image/pn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50.jpeg" ContentType="image/jpeg"/>
  <Override PartName="/ppt/media/image14.jpeg" ContentType="image/jpeg"/>
  <Override PartName="/ppt/media/image26.jpeg" ContentType="image/jpeg"/>
  <Override PartName="/ppt/media/image105.jpeg" ContentType="image/jpeg"/>
  <Override PartName="/ppt/media/image85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1.jpeg" ContentType="image/jpeg"/>
  <Override PartName="/ppt/media/image120.jpeg" ContentType="image/jpe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90C-5772-4912-ABC4-B0A9B5D6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884-D90B-4D26-A6D3-F4E57B7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76E44-2288-4366-8439-5D0839A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FFCF9-6743-4ACA-AC11-AC974D9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19337-2973-45EA-8CA2-D4E8BE2D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4322F-6769-4DA6-BDF9-FF81842A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D2BB7-8993-4E5B-91DC-2468A84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45B4A-F654-42F7-9CEB-3102EE3E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41686-60CD-4827-8857-2A8ACF33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CE2B8-834A-4048-8669-2A0F8639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63032-615E-4394-B2D7-C6DA375B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27F-6851-48F1-872A-ED1F9EEF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AED-EF2E-4795-A2A5-A900863D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802E-00AA-4A1E-A102-D62CCF37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C4FB-10E9-455A-869D-DB93B6D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E4A9-CC38-430A-AEFF-205A7AF1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D34C-505F-4E15-86E6-9DA778D7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FBDC-429A-488A-ABEF-80DB3E1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7D52-9A43-4438-BCB9-DFE420C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FB9-E537-4631-BF8D-10839C0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7DC-863C-41AC-A261-CF1BC27B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667A-F76D-4F3E-97FC-F3F43E47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2E13-EE33-4B31-8A31-BB404B1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738B-D432-4DBE-A821-1D07C501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F6B6-CA2C-4D1A-874D-19FE56D1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B173-3117-40D5-A688-91BBC402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7B3B-EEC8-4E4E-86E6-F0B9F31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401E-B0A3-461F-9690-C90C23B7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2C42-AD13-4965-B083-80767CF0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1270-129D-4177-B83C-F68B878F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812A-1D11-40B7-855A-E65FFDB9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608-ED25-4A96-80D0-431442B6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E6C0-63F1-4CCF-8726-8A6E2F7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E119-F411-4DDE-A932-646AACBB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4B49-0892-48D2-BD8A-ADDEBF94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BEB3-E121-432A-8A1A-FE518D49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A30C-960B-4C89-AFB0-4FD50BF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53FE-F6DD-4DBB-98D0-8849E036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3E35-4420-47E1-B289-9063ADAC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46FB4-3D8A-40EF-BE2D-AFCD47F0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A951-016B-4F2A-A3EE-50E7C890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6D3D-1344-4EAB-B674-7370B396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2A5-C365-480A-BD5A-9846937F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6DE7-B186-4A93-8B07-7FDBF1A2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60C0-4666-47B8-8C44-19053AD4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3643-E645-4D07-9081-1073D408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9B84-172D-429C-A733-9795682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AB38-968F-45CD-A780-FB30F3D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EC6D-8050-4079-8DE1-48EFF6EB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B7E1-C33A-4BFA-9A4B-37DCB30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E2D7-97CE-48E6-B2A0-63C0CC34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FC63-F143-41E3-A9EC-538F7F05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879D-242E-4A9E-B0AE-3A6CC2E8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46E-A084-4EC6-8296-D689FEE9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87F7-E8C1-443D-9A59-A1A64C95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CC05-48CF-45EC-A93A-56EA3D1F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872B-D89E-4C67-AB79-AFF272B0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CE0CE-3D39-46E4-9D7B-8A227015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67BC-B508-48B1-A863-F25FEB7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2D92-0B8A-4381-BAD3-E4266C06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171B-7587-4090-9388-0540F090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026FC-B3FF-41DD-A911-5341EA8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099D-2516-466C-A18A-A125CF79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747DB-6B24-420C-A96E-6E3444B3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CA9-A971-459E-8F65-88AD681E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4B84-F677-44BF-B6AA-D459A68A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E9F2-513E-4691-9618-44956EFE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4BA87-FA7E-44BA-AE55-0B6E4106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F2397-5DFD-4D77-A8C6-53B11DA9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A9817-C1B8-479E-8D41-C88106DC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EF756-BD7B-4CE8-B18E-20C6F29A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C99D-DE71-4D5F-A4F6-E5682A2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76AC5-E95E-4FA3-8AB4-6E830C1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A9A3-0D27-4013-8A6D-4F3ADFE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2ABB6-B89D-49C3-A142-FAF6F7C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573-7EB2-4316-BBE6-BA0EAEC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599A3-4A6C-405C-8C9A-D73090A8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3E39F-C923-4BF4-93B8-60528719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A67D-5E97-4ABD-99BA-82090BB5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4ABA0-9ABB-492B-A459-D82FE1FD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AB8C-41BC-45A0-A624-3D2AF7C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C46DE-A046-4E68-A915-1403C148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E1B99-B7AA-472F-A169-05C74585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5ED3-54F8-4B8D-879C-76E58D58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2AAC-6A02-4C41-BD54-817BEEF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87240-430E-4251-B5C5-ACD1202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565-E80A-408B-B3A7-C62D3614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61E7C-21A6-44E2-B7CA-6365262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4026-DE33-421A-96C0-DEFBC9FA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3BDC-7DA1-40F1-80AA-03D5677A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0C895-D187-42D8-B204-83DE6DE2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76E44-035D-4E39-AE50-D8D72CD8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8210D-BE07-415D-9A8B-4A13CE06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C35D-8A59-428A-976B-A9AFC14A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A43A3-CF85-46FF-A3BD-CEF732C4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BF130-DC8D-4461-9EBD-82DE0107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5D405-94B8-414E-98C1-7FC009AC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563-061E-499C-8FC7-72647277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7A33-6FC7-41F1-8B56-E0AB89B7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3C616-CB38-4206-B263-304F6F4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7D47E-C3B8-4962-BE8F-A1BF51A3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DD70B-E16C-4F8E-A39F-DC4B431A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A0C17-D5A9-4D7F-A7AB-D689FEAA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AF198-E353-40B5-9355-39C0F855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8CE03-472C-465A-B950-36F3CD4C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E27F6-AC6A-4C73-B1B2-28C51766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7A0A9-7DBC-40E5-A091-6C2EEF9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DF18D-2D61-4F2D-A856-EDCD599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B093-30C9-4C4F-A84D-D1777A7BD5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D016-3A59-4FE0-9D34-F12079E5AF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CBA7-25C6-42F5-99B8-610C7BAFE3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EC61-782B-488F-921F-9AFD5D51D7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3DD2-FCD7-4AED-86D1-883A69809E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5C5-48C2-411D-A883-1E5D55CD62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294D-4ED7-4D7E-9750-532F9EED53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3CA-B201-4295-8A02-AB1AC447FD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5DC-0EFA-4545-8791-EB276EDF26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hyperlink" Target="http://tehnologi.su/index/skazka_rukotvorchestva/0-528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64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image" Target="../media/image71.jpeg"/><Relationship Id="rId8" Type="http://schemas.openxmlformats.org/officeDocument/2006/relationships/image" Target="../media/image72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79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image" Target="../media/image86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87.jpeg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63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image" Target="../media/image98.jpe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03.jpeg"/><Relationship Id="rId8" Type="http://schemas.openxmlformats.org/officeDocument/2006/relationships/image" Target="../media/image104.jpeg"/><Relationship Id="rId9" Type="http://schemas.openxmlformats.org/officeDocument/2006/relationships/image" Target="../media/image105.jpeg"/><Relationship Id="rId10" Type="http://schemas.openxmlformats.org/officeDocument/2006/relationships/image" Target="../media/image106.jpeg"/><Relationship Id="rId11" Type="http://schemas.openxmlformats.org/officeDocument/2006/relationships/image" Target="../media/image107.jpe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image" Target="../media/image122.jpeg"/><Relationship Id="rId7" Type="http://schemas.openxmlformats.org/officeDocument/2006/relationships/image" Target="../media/image123.jpe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2" descr=""/>
          <p:cNvPicPr/>
          <p:nvPr/>
        </p:nvPicPr>
        <p:blipFill>
          <a:blip r:embed="rId1"/>
          <a:stretch/>
        </p:blipFill>
        <p:spPr>
          <a:xfrm>
            <a:off x="890640" y="1871640"/>
            <a:ext cx="807732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3" descr=""/>
          <p:cNvPicPr/>
          <p:nvPr/>
        </p:nvPicPr>
        <p:blipFill>
          <a:blip r:embed="rId2"/>
          <a:stretch/>
        </p:blipFill>
        <p:spPr>
          <a:xfrm>
            <a:off x="4297320" y="6188040"/>
            <a:ext cx="1049400" cy="43200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4" descr=""/>
          <p:cNvPicPr/>
          <p:nvPr/>
        </p:nvPicPr>
        <p:blipFill>
          <a:blip r:embed="rId3"/>
          <a:stretch/>
        </p:blipFill>
        <p:spPr>
          <a:xfrm>
            <a:off x="4352760" y="4968720"/>
            <a:ext cx="6096240" cy="12369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1" descr="http://tehnologi.su/01-Simonenko/01/Prjanosti/tm_2012.jpg"/>
          <p:cNvPicPr/>
          <p:nvPr/>
        </p:nvPicPr>
        <p:blipFill>
          <a:blip r:embed="rId4"/>
          <a:stretch/>
        </p:blipFill>
        <p:spPr>
          <a:xfrm>
            <a:off x="6500880" y="0"/>
            <a:ext cx="2643120" cy="11444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9"/>
          <p:cNvSpPr/>
          <p:nvPr/>
        </p:nvSpPr>
        <p:spPr>
          <a:xfrm>
            <a:off x="1143000" y="8571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Times New Roman"/>
                <a:ea typeface="Calibri"/>
                <a:hlinkClick r:id="rId5"/>
              </a:rPr>
              <a:t>http://tehnologi.su/index/skazka_rukotvorchestva/0-5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6"/>
          <a:stretch/>
        </p:blipFill>
        <p:spPr>
          <a:xfrm>
            <a:off x="0" y="3429000"/>
            <a:ext cx="785880" cy="3429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785880" cy="34290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" descr="header"/>
          <p:cNvPicPr/>
          <p:nvPr/>
        </p:nvPicPr>
        <p:blipFill>
          <a:blip r:embed="rId8"/>
          <a:stretch/>
        </p:blipFill>
        <p:spPr>
          <a:xfrm>
            <a:off x="0" y="0"/>
            <a:ext cx="6451560" cy="785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"/>
          <p:cNvPicPr/>
          <p:nvPr/>
        </p:nvPicPr>
        <p:blipFill>
          <a:blip r:embed="rId9"/>
          <a:stretch/>
        </p:blipFill>
        <p:spPr>
          <a:xfrm>
            <a:off x="785880" y="3929040"/>
            <a:ext cx="33289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6091560" cy="1030320"/>
          </a:xfrm>
          <a:prstGeom prst="rect">
            <a:avLst/>
          </a:prstGeom>
          <a:ln w="0">
            <a:noFill/>
          </a:ln>
        </p:spPr>
      </p:pic>
      <p:sp>
        <p:nvSpPr>
          <p:cNvPr id="478" name="TextBox 5"/>
          <p:cNvSpPr/>
          <p:nvPr/>
        </p:nvSpPr>
        <p:spPr>
          <a:xfrm>
            <a:off x="3304080" y="659592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71680" y="1071720"/>
            <a:ext cx="600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мазываем участками наружную сторону конуса тонким слоем клея ПВА и аккуратно опускаем волокна льна, распределяя их равномерно по всей поверхности.  Приглаживаем пальцами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ля декоративной отделки  куклы крутим три двухцветных витых  шнура (прил. 3)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линию низа: приглаживаем руками волокна льна к конусу и приклеиваем витой шнур. После высыхания свободные концы оборки выравниваем, подрезая ножницам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прическу – заплетаем косы, вплетая ленту или красную нить. Завязываем очелье – лобную повязку для поддержания волос. Это может быть лента, тесьма,  плетеный  или витой шнур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18" descr=""/>
          <p:cNvPicPr/>
          <p:nvPr/>
        </p:nvPicPr>
        <p:blipFill>
          <a:blip r:embed="rId2"/>
          <a:stretch/>
        </p:blipFill>
        <p:spPr>
          <a:xfrm>
            <a:off x="7143840" y="2500200"/>
            <a:ext cx="1500120" cy="2087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9" descr=""/>
          <p:cNvPicPr/>
          <p:nvPr/>
        </p:nvPicPr>
        <p:blipFill>
          <a:blip r:embed="rId3"/>
          <a:stretch/>
        </p:blipFill>
        <p:spPr>
          <a:xfrm>
            <a:off x="7215120" y="5429160"/>
            <a:ext cx="1420920" cy="14288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1" descr=""/>
          <p:cNvPicPr/>
          <p:nvPr/>
        </p:nvPicPr>
        <p:blipFill>
          <a:blip r:embed="rId4"/>
          <a:stretch/>
        </p:blipFill>
        <p:spPr>
          <a:xfrm>
            <a:off x="6643800" y="4500720"/>
            <a:ext cx="1143000" cy="958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3" descr=""/>
          <p:cNvPicPr/>
          <p:nvPr/>
        </p:nvPicPr>
        <p:blipFill>
          <a:blip r:embed="rId5"/>
          <a:stretch/>
        </p:blipFill>
        <p:spPr>
          <a:xfrm>
            <a:off x="7786800" y="4500720"/>
            <a:ext cx="1179360" cy="949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" descr=""/>
          <p:cNvPicPr/>
          <p:nvPr/>
        </p:nvPicPr>
        <p:blipFill>
          <a:blip r:embed="rId6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7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5" descr=""/>
          <p:cNvPicPr/>
          <p:nvPr/>
        </p:nvPicPr>
        <p:blipFill>
          <a:blip r:embed="rId8"/>
          <a:stretch/>
        </p:blipFill>
        <p:spPr>
          <a:xfrm>
            <a:off x="6643800" y="1143000"/>
            <a:ext cx="1593720" cy="2286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5" descr=""/>
          <p:cNvPicPr/>
          <p:nvPr/>
        </p:nvPicPr>
        <p:blipFill>
          <a:blip r:embed="rId9"/>
          <a:stretch/>
        </p:blipFill>
        <p:spPr>
          <a:xfrm>
            <a:off x="7656480" y="428760"/>
            <a:ext cx="1324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6" descr=""/>
          <p:cNvPicPr/>
          <p:nvPr/>
        </p:nvPicPr>
        <p:blipFill>
          <a:blip r:embed="rId1"/>
          <a:stretch/>
        </p:blipFill>
        <p:spPr>
          <a:xfrm>
            <a:off x="5643720" y="0"/>
            <a:ext cx="1928520" cy="2571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7" descr=""/>
          <p:cNvPicPr/>
          <p:nvPr/>
        </p:nvPicPr>
        <p:blipFill>
          <a:blip r:embed="rId2"/>
          <a:stretch/>
        </p:blipFill>
        <p:spPr>
          <a:xfrm>
            <a:off x="1071720" y="0"/>
            <a:ext cx="1928520" cy="2571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571320" y="2499840"/>
            <a:ext cx="6143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фартук из белой канвы: вышиваем узор или нашиваем тесьму; прореживаем по краям, получая бахрому. Закладываем складочки  и закрепляем лентой.  Одеваем фартук на куклу. По линии талии завязываем поясок из витого шнура с кисточками.  Узелок располагаем слева под сердц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e3b30"/>
                </a:solidFill>
                <a:latin typeface="Franklin Gothic Book"/>
              </a:rPr>
              <a:t>Сувенирная кукла  из льна готова!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Изменив в оформлении куклы совсем немного – получаем другой образ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12" descr=""/>
          <p:cNvPicPr/>
          <p:nvPr/>
        </p:nvPicPr>
        <p:blipFill>
          <a:blip r:embed="rId3"/>
          <a:stretch/>
        </p:blipFill>
        <p:spPr>
          <a:xfrm>
            <a:off x="3357720" y="0"/>
            <a:ext cx="1892160" cy="252396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10"/>
          <p:cNvSpPr/>
          <p:nvPr/>
        </p:nvSpPr>
        <p:spPr>
          <a:xfrm>
            <a:off x="294696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"/>
          <p:cNvPicPr/>
          <p:nvPr/>
        </p:nvPicPr>
        <p:blipFill>
          <a:blip r:embed="rId5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8" descr=""/>
          <p:cNvPicPr/>
          <p:nvPr/>
        </p:nvPicPr>
        <p:blipFill>
          <a:blip r:embed="rId6"/>
          <a:stretch/>
        </p:blipFill>
        <p:spPr>
          <a:xfrm>
            <a:off x="6986520" y="3571920"/>
            <a:ext cx="2157480" cy="2681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" descr=""/>
          <p:cNvPicPr/>
          <p:nvPr/>
        </p:nvPicPr>
        <p:blipFill>
          <a:blip r:embed="rId7"/>
          <a:stretch/>
        </p:blipFill>
        <p:spPr>
          <a:xfrm>
            <a:off x="7786800" y="1143000"/>
            <a:ext cx="1163520" cy="1392120"/>
          </a:xfrm>
          <a:prstGeom prst="rect">
            <a:avLst/>
          </a:prstGeom>
          <a:ln w="0">
            <a:noFill/>
          </a:ln>
        </p:spPr>
      </p:pic>
      <p:sp>
        <p:nvSpPr>
          <p:cNvPr id="497" name="Управляющая кнопка: возврат 13"/>
          <p:cNvSpPr/>
          <p:nvPr/>
        </p:nvSpPr>
        <p:spPr>
          <a:xfrm>
            <a:off x="6000840" y="650088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7493"/>
                </a:moveTo>
                <a:lnTo>
                  <a:pt x="9455" y="7493"/>
                </a:lnTo>
                <a:lnTo>
                  <a:pt x="9455" y="12828"/>
                </a:lnTo>
                <a:cubicBezTo>
                  <a:pt x="9455" y="13751"/>
                  <a:pt x="10255" y="14482"/>
                  <a:pt x="11291" y="14482"/>
                </a:cubicBezTo>
                <a:lnTo>
                  <a:pt x="12953" y="14482"/>
                </a:lnTo>
                <a:cubicBezTo>
                  <a:pt x="13989" y="14482"/>
                  <a:pt x="14790" y="13751"/>
                  <a:pt x="14790" y="12828"/>
                </a:cubicBezTo>
                <a:lnTo>
                  <a:pt x="14790" y="7493"/>
                </a:lnTo>
                <a:lnTo>
                  <a:pt x="12953" y="7493"/>
                </a:lnTo>
                <a:lnTo>
                  <a:pt x="16461" y="3985"/>
                </a:lnTo>
                <a:lnTo>
                  <a:pt x="20134" y="7493"/>
                </a:lnTo>
                <a:lnTo>
                  <a:pt x="18298" y="7493"/>
                </a:lnTo>
                <a:lnTo>
                  <a:pt x="18298" y="12828"/>
                </a:lnTo>
                <a:cubicBezTo>
                  <a:pt x="18298" y="15596"/>
                  <a:pt x="15721" y="18155"/>
                  <a:pt x="12953" y="18155"/>
                </a:cubicBezTo>
                <a:lnTo>
                  <a:pt x="11291" y="18155"/>
                </a:lnTo>
                <a:cubicBezTo>
                  <a:pt x="8523" y="18155"/>
                  <a:pt x="5947" y="15596"/>
                  <a:pt x="5947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Заголовок 4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077320" cy="1030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213840" y="1071360"/>
            <a:ext cx="4000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МАТЕРИАЛ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очало (малярная кисть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яжа (для волос куклы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ей ПВА, «карандаш», «момент»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Тесьма, лента атласна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скусственные цветы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итк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швей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тон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н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714920" y="1071360"/>
            <a:ext cx="3633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ИНСТРУМЕНТЫ и ПРИСПОСОБЛЕНИ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ожниц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глы руч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иркул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иней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андаш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4214880" y="6143760"/>
            <a:ext cx="4286160" cy="714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0" y="6143760"/>
            <a:ext cx="4214880" cy="71424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0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4"/>
          <a:stretch/>
        </p:blipFill>
        <p:spPr>
          <a:xfrm>
            <a:off x="2786040" y="4071960"/>
            <a:ext cx="2631960" cy="20718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"/>
          <p:cNvPicPr/>
          <p:nvPr/>
        </p:nvPicPr>
        <p:blipFill>
          <a:blip r:embed="rId5"/>
          <a:stretch/>
        </p:blipFill>
        <p:spPr>
          <a:xfrm>
            <a:off x="2071800" y="4071960"/>
            <a:ext cx="714240" cy="2070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9" descr=""/>
          <p:cNvPicPr/>
          <p:nvPr/>
        </p:nvPicPr>
        <p:blipFill>
          <a:blip r:embed="rId6"/>
          <a:stretch/>
        </p:blipFill>
        <p:spPr>
          <a:xfrm>
            <a:off x="6519960" y="3835440"/>
            <a:ext cx="1981080" cy="2259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"/>
          <p:cNvPicPr/>
          <p:nvPr/>
        </p:nvPicPr>
        <p:blipFill>
          <a:blip r:embed="rId7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"/>
          <p:cNvPicPr/>
          <p:nvPr/>
        </p:nvPicPr>
        <p:blipFill>
          <a:blip r:embed="rId8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5" descr=""/>
          <p:cNvPicPr/>
          <p:nvPr/>
        </p:nvPicPr>
        <p:blipFill>
          <a:blip r:embed="rId9"/>
          <a:stretch/>
        </p:blipFill>
        <p:spPr>
          <a:xfrm>
            <a:off x="2786040" y="5072040"/>
            <a:ext cx="304920" cy="1071720"/>
          </a:xfrm>
          <a:prstGeom prst="rect">
            <a:avLst/>
          </a:prstGeom>
          <a:ln w="0">
            <a:noFill/>
          </a:ln>
        </p:spPr>
      </p:pic>
      <p:sp>
        <p:nvSpPr>
          <p:cNvPr id="510" name="Управляющая кнопка: возврат 13"/>
          <p:cNvSpPr/>
          <p:nvPr/>
        </p:nvSpPr>
        <p:spPr>
          <a:xfrm>
            <a:off x="5786280" y="5643720"/>
            <a:ext cx="500400" cy="471240"/>
          </a:xfrm>
          <a:custGeom>
            <a:avLst/>
            <a:gdLst>
              <a:gd name="textAreaLeft" fmla="*/ 30240 w 500400"/>
              <a:gd name="textAreaRight" fmla="*/ 470160 w 500400"/>
              <a:gd name="textAreaTop" fmla="*/ 30240 h 471240"/>
              <a:gd name="textAreaBottom" fmla="*/ 441000 h 47124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4461" y="7493"/>
                </a:moveTo>
                <a:lnTo>
                  <a:pt x="7969" y="7493"/>
                </a:lnTo>
                <a:lnTo>
                  <a:pt x="7969" y="12828"/>
                </a:lnTo>
                <a:cubicBezTo>
                  <a:pt x="7969" y="13751"/>
                  <a:pt x="8770" y="14482"/>
                  <a:pt x="9805" y="14482"/>
                </a:cubicBezTo>
                <a:lnTo>
                  <a:pt x="11468" y="14482"/>
                </a:lnTo>
                <a:cubicBezTo>
                  <a:pt x="12504" y="14482"/>
                  <a:pt x="13304" y="13751"/>
                  <a:pt x="13304" y="12828"/>
                </a:cubicBezTo>
                <a:lnTo>
                  <a:pt x="13304" y="7493"/>
                </a:lnTo>
                <a:lnTo>
                  <a:pt x="11468" y="7493"/>
                </a:lnTo>
                <a:lnTo>
                  <a:pt x="14975" y="3985"/>
                </a:lnTo>
                <a:lnTo>
                  <a:pt x="18648" y="7493"/>
                </a:lnTo>
                <a:lnTo>
                  <a:pt x="16812" y="7493"/>
                </a:lnTo>
                <a:lnTo>
                  <a:pt x="16812" y="12828"/>
                </a:lnTo>
                <a:cubicBezTo>
                  <a:pt x="16812" y="15596"/>
                  <a:pt x="14236" y="18155"/>
                  <a:pt x="11468" y="18155"/>
                </a:cubicBezTo>
                <a:lnTo>
                  <a:pt x="9805" y="18155"/>
                </a:lnTo>
                <a:cubicBezTo>
                  <a:pt x="7038" y="18155"/>
                  <a:pt x="4461" y="15596"/>
                  <a:pt x="4461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4" descr=""/>
          <p:cNvPicPr/>
          <p:nvPr/>
        </p:nvPicPr>
        <p:blipFill>
          <a:blip r:embed="rId1"/>
          <a:stretch/>
        </p:blipFill>
        <p:spPr>
          <a:xfrm>
            <a:off x="633240" y="109440"/>
            <a:ext cx="5658120" cy="12556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571680" y="1071360"/>
            <a:ext cx="5572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азбираем малярную кисть. Вытягиваем верхний луб из ручки – эти волокна пойдут на куклу, а внутренние части удаля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яжу для волос, наматываем на картон нужной длины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зависит от длины косы и упругости материала; для данной куклы берем 20см)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 разрезаем и закрепляем пучок по краю нитко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Мочало нарезаем по размеру куклы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25см), 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кладываем внутрь пучок пряжи (волосы) и туго закрепляем нитью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ыворачиваем оба пучка. Разглаживаем руками мочало со стороны лица и закрепляем на уровне шеи нитью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руки: перетягиваем пучок мочала у запястья; тесьму сшиваем в кольцо и надеваем на рук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2"/>
          <a:stretch/>
        </p:blipFill>
        <p:spPr>
          <a:xfrm>
            <a:off x="6215040" y="500040"/>
            <a:ext cx="2786040" cy="1643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3"/>
          <a:stretch/>
        </p:blipFill>
        <p:spPr>
          <a:xfrm>
            <a:off x="6215040" y="2143080"/>
            <a:ext cx="1928880" cy="871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4"/>
          <a:stretch/>
        </p:blipFill>
        <p:spPr>
          <a:xfrm>
            <a:off x="8143920" y="2143080"/>
            <a:ext cx="826920" cy="8571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5"/>
          <a:stretch/>
        </p:blipFill>
        <p:spPr>
          <a:xfrm>
            <a:off x="6215040" y="3000240"/>
            <a:ext cx="2757600" cy="1320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6"/>
          <a:stretch/>
        </p:blipFill>
        <p:spPr>
          <a:xfrm>
            <a:off x="6215040" y="4286160"/>
            <a:ext cx="2762280" cy="14288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7"/>
          <a:stretch/>
        </p:blipFill>
        <p:spPr>
          <a:xfrm>
            <a:off x="6286680" y="5715000"/>
            <a:ext cx="2643120" cy="5508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8"/>
          <a:stretch/>
        </p:blipFill>
        <p:spPr>
          <a:xfrm>
            <a:off x="6286680" y="6215040"/>
            <a:ext cx="2643120" cy="642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"/>
          <p:cNvPicPr/>
          <p:nvPr/>
        </p:nvPicPr>
        <p:blipFill>
          <a:blip r:embed="rId9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10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4" descr=""/>
          <p:cNvPicPr/>
          <p:nvPr/>
        </p:nvPicPr>
        <p:blipFill>
          <a:blip r:embed="rId1"/>
          <a:stretch/>
        </p:blipFill>
        <p:spPr>
          <a:xfrm>
            <a:off x="420840" y="55440"/>
            <a:ext cx="6040440" cy="14083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571320" y="1071720"/>
            <a:ext cx="5786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им волокна туловища поровну, до упора вставляем руки, закрепляем по линии талии нитко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конусный картонный каркас (прил.2).  Раздвигаем волокна мочала и вклеиваем вершину конуса, вставив до упора в центр  туловища. Волокна мочала упругие, поэтому их приклеиваем клеем по низу конуса, натягивая и равномерно распределяя. Подрезаем – выравнивая волокна мочала по краю конус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метелочку из мочала длиной на 1см меньше конуса и вклеиваем внутрь конуса. Излишки обрезаем по уровню низа. Альтернатива: можно вклеить круг из картона или сделать подставку из крышки, обтянув тканью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6429240" y="28584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"/>
          <p:cNvPicPr/>
          <p:nvPr/>
        </p:nvPicPr>
        <p:blipFill>
          <a:blip r:embed="rId3"/>
          <a:stretch/>
        </p:blipFill>
        <p:spPr>
          <a:xfrm>
            <a:off x="7000920" y="2143080"/>
            <a:ext cx="1969920" cy="2641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"/>
          <p:cNvPicPr/>
          <p:nvPr/>
        </p:nvPicPr>
        <p:blipFill>
          <a:blip r:embed="rId4"/>
          <a:stretch/>
        </p:blipFill>
        <p:spPr>
          <a:xfrm>
            <a:off x="6429240" y="4786200"/>
            <a:ext cx="1096920" cy="1214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"/>
          <p:cNvPicPr/>
          <p:nvPr/>
        </p:nvPicPr>
        <p:blipFill>
          <a:blip r:embed="rId5"/>
          <a:stretch/>
        </p:blipFill>
        <p:spPr>
          <a:xfrm>
            <a:off x="7513560" y="4786200"/>
            <a:ext cx="1416240" cy="185112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12"/>
          <p:cNvSpPr/>
          <p:nvPr/>
        </p:nvSpPr>
        <p:spPr>
          <a:xfrm>
            <a:off x="316116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0" descr=""/>
          <p:cNvPicPr/>
          <p:nvPr/>
        </p:nvPicPr>
        <p:blipFill>
          <a:blip r:embed="rId6"/>
          <a:stretch/>
        </p:blipFill>
        <p:spPr>
          <a:xfrm>
            <a:off x="6429240" y="2143080"/>
            <a:ext cx="965160" cy="12859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8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"/>
          <p:cNvPicPr/>
          <p:nvPr/>
        </p:nvPicPr>
        <p:blipFill>
          <a:blip r:embed="rId9"/>
          <a:stretch/>
        </p:blipFill>
        <p:spPr>
          <a:xfrm>
            <a:off x="6429240" y="3429000"/>
            <a:ext cx="9734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Заголовок 4" descr=""/>
          <p:cNvPicPr/>
          <p:nvPr/>
        </p:nvPicPr>
        <p:blipFill>
          <a:blip r:embed="rId1"/>
          <a:stretch/>
        </p:blipFill>
        <p:spPr>
          <a:xfrm>
            <a:off x="566640" y="122400"/>
            <a:ext cx="6437520" cy="12556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571320" y="107172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Заклеиваем лентой из мочала  закрепляющие нитки на уровне шеи и запяст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прическу: заплетаем косу. Делаем венок: наклеиваем или пришиваем мелкие искусственные цветы на ленту. Закрепляем венок на голове и оплетаем лентой косу, завязываем бант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клеиваем декоративную тесьму по низу юбки в два ряд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фартук: пришиваем вручную на канву тесьму, чередуя по цвету. Имитируем тесьмой бретели и подвязываем фартук, закрывая верхний срез тесьмо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e3b30"/>
                </a:solidFill>
                <a:latin typeface="Franklin Gothic Book"/>
              </a:rPr>
              <a:t>Кукла из мочала готова!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ебольшие дополнения и образ стал ярче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Прямоугольник 7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9" descr=""/>
          <p:cNvPicPr/>
          <p:nvPr/>
        </p:nvPicPr>
        <p:blipFill>
          <a:blip r:embed="rId2"/>
          <a:stretch/>
        </p:blipFill>
        <p:spPr>
          <a:xfrm>
            <a:off x="6715080" y="2143080"/>
            <a:ext cx="1144800" cy="1714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"/>
          <p:cNvPicPr/>
          <p:nvPr/>
        </p:nvPicPr>
        <p:blipFill>
          <a:blip r:embed="rId3"/>
          <a:stretch/>
        </p:blipFill>
        <p:spPr>
          <a:xfrm>
            <a:off x="4929120" y="3429000"/>
            <a:ext cx="1643040" cy="428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1" descr=""/>
          <p:cNvPicPr/>
          <p:nvPr/>
        </p:nvPicPr>
        <p:blipFill>
          <a:blip r:embed="rId4"/>
          <a:stretch/>
        </p:blipFill>
        <p:spPr>
          <a:xfrm>
            <a:off x="7929720" y="214308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2" descr=""/>
          <p:cNvPicPr/>
          <p:nvPr/>
        </p:nvPicPr>
        <p:blipFill>
          <a:blip r:embed="rId5"/>
          <a:stretch/>
        </p:blipFill>
        <p:spPr>
          <a:xfrm>
            <a:off x="7929720" y="2928960"/>
            <a:ext cx="1000080" cy="94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3" descr=""/>
          <p:cNvPicPr/>
          <p:nvPr/>
        </p:nvPicPr>
        <p:blipFill>
          <a:blip r:embed="rId6"/>
          <a:stretch/>
        </p:blipFill>
        <p:spPr>
          <a:xfrm>
            <a:off x="6715080" y="571680"/>
            <a:ext cx="2174760" cy="1574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5" descr=""/>
          <p:cNvPicPr/>
          <p:nvPr/>
        </p:nvPicPr>
        <p:blipFill>
          <a:blip r:embed="rId7"/>
          <a:stretch/>
        </p:blipFill>
        <p:spPr>
          <a:xfrm>
            <a:off x="6715080" y="3859200"/>
            <a:ext cx="2121120" cy="2998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9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10"/>
          <a:stretch/>
        </p:blipFill>
        <p:spPr>
          <a:xfrm>
            <a:off x="6000840" y="5516640"/>
            <a:ext cx="1000080" cy="1341360"/>
          </a:xfrm>
          <a:prstGeom prst="rect">
            <a:avLst/>
          </a:prstGeom>
          <a:ln w="0">
            <a:noFill/>
          </a:ln>
        </p:spPr>
      </p:pic>
      <p:sp>
        <p:nvSpPr>
          <p:cNvPr id="545" name="Управляющая кнопка: возврат 13"/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7493"/>
                </a:moveTo>
                <a:lnTo>
                  <a:pt x="9095" y="7493"/>
                </a:lnTo>
                <a:lnTo>
                  <a:pt x="9095" y="12828"/>
                </a:lnTo>
                <a:cubicBezTo>
                  <a:pt x="9095" y="13751"/>
                  <a:pt x="9896" y="14482"/>
                  <a:pt x="10932" y="14482"/>
                </a:cubicBezTo>
                <a:lnTo>
                  <a:pt x="12594" y="14482"/>
                </a:lnTo>
                <a:cubicBezTo>
                  <a:pt x="13630" y="14482"/>
                  <a:pt x="14430" y="13751"/>
                  <a:pt x="14430" y="12828"/>
                </a:cubicBezTo>
                <a:lnTo>
                  <a:pt x="14430" y="7493"/>
                </a:lnTo>
                <a:lnTo>
                  <a:pt x="12594" y="7493"/>
                </a:lnTo>
                <a:lnTo>
                  <a:pt x="16102" y="3985"/>
                </a:lnTo>
                <a:lnTo>
                  <a:pt x="19775" y="7493"/>
                </a:lnTo>
                <a:lnTo>
                  <a:pt x="17938" y="7493"/>
                </a:lnTo>
                <a:lnTo>
                  <a:pt x="17938" y="12828"/>
                </a:lnTo>
                <a:cubicBezTo>
                  <a:pt x="17938" y="15596"/>
                  <a:pt x="15362" y="18155"/>
                  <a:pt x="12594" y="18155"/>
                </a:cubicBezTo>
                <a:lnTo>
                  <a:pt x="10932" y="18155"/>
                </a:lnTo>
                <a:cubicBezTo>
                  <a:pt x="8164" y="18155"/>
                  <a:pt x="5587" y="15596"/>
                  <a:pt x="5587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4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077320" cy="10303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213840" y="1071360"/>
            <a:ext cx="4000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МАТЕРИАЛ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Шпагат  (льняной, пеньковый, джутовый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итки швей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ей ПВА, «Момент»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веты бессмертни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ешковина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волока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тон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714920" y="1071360"/>
            <a:ext cx="3633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c17529"/>
                </a:solidFill>
                <a:latin typeface="Franklin Gothic Book"/>
              </a:rPr>
              <a:t>ИНСТРУМЕНТЫ и ПРИСПОСОБЛЕНИ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ожниц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глы ручные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иркул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иней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андаш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4214880" y="6215040"/>
            <a:ext cx="4286160" cy="642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3"/>
          <a:stretch/>
        </p:blipFill>
        <p:spPr>
          <a:xfrm>
            <a:off x="0" y="6215040"/>
            <a:ext cx="4214880" cy="642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4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5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0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9" descr=""/>
          <p:cNvPicPr/>
          <p:nvPr/>
        </p:nvPicPr>
        <p:blipFill>
          <a:blip r:embed="rId6"/>
          <a:stretch/>
        </p:blipFill>
        <p:spPr>
          <a:xfrm>
            <a:off x="6500880" y="3929040"/>
            <a:ext cx="1979640" cy="2257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/>
          <p:cNvPicPr/>
          <p:nvPr/>
        </p:nvPicPr>
        <p:blipFill>
          <a:blip r:embed="rId7"/>
          <a:stretch/>
        </p:blipFill>
        <p:spPr>
          <a:xfrm>
            <a:off x="2143080" y="3959280"/>
            <a:ext cx="3148200" cy="2249280"/>
          </a:xfrm>
          <a:prstGeom prst="rect">
            <a:avLst/>
          </a:prstGeom>
          <a:ln w="0">
            <a:noFill/>
          </a:ln>
        </p:spPr>
      </p:pic>
      <p:sp>
        <p:nvSpPr>
          <p:cNvPr id="556" name="Управляющая кнопка: возврат 11"/>
          <p:cNvSpPr/>
          <p:nvPr/>
        </p:nvSpPr>
        <p:spPr>
          <a:xfrm>
            <a:off x="5643720" y="5643720"/>
            <a:ext cx="500040" cy="5428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42880"/>
              <a:gd name="textAreaBottom" fmla="*/ 510480 h 542880"/>
            </a:gdLst>
            <a:ahLst/>
            <a:rect l="textAreaLeft" t="textAreaTop" r="textAreaRight" b="textAreaBottom"/>
            <a:pathLst>
              <a:path w="21600" h="23449">
                <a:moveTo>
                  <a:pt x="0" y="0"/>
                </a:moveTo>
                <a:lnTo>
                  <a:pt x="21600" y="0"/>
                </a:lnTo>
                <a:lnTo>
                  <a:pt x="21600" y="23449"/>
                </a:lnTo>
                <a:lnTo>
                  <a:pt x="0" y="23449"/>
                </a:lnTo>
                <a:close/>
              </a:path>
              <a:path fill="lightenLess" w="21600" h="234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49">
                <a:moveTo>
                  <a:pt x="21600" y="0"/>
                </a:moveTo>
                <a:lnTo>
                  <a:pt x="21600" y="23449"/>
                </a:lnTo>
                <a:lnTo>
                  <a:pt x="20200" y="22049"/>
                </a:lnTo>
                <a:lnTo>
                  <a:pt x="20200" y="1400"/>
                </a:lnTo>
                <a:close/>
              </a:path>
              <a:path fill="darkenLess" w="21600" h="23449">
                <a:moveTo>
                  <a:pt x="21600" y="23449"/>
                </a:moveTo>
                <a:lnTo>
                  <a:pt x="0" y="23449"/>
                </a:lnTo>
                <a:lnTo>
                  <a:pt x="1400" y="22049"/>
                </a:lnTo>
                <a:lnTo>
                  <a:pt x="20200" y="22049"/>
                </a:lnTo>
                <a:close/>
              </a:path>
              <a:path fill="lighten" w="21600" h="23449">
                <a:moveTo>
                  <a:pt x="0" y="234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49"/>
                </a:lnTo>
                <a:close/>
              </a:path>
              <a:path fill="darken" w="21600" h="23449">
                <a:moveTo>
                  <a:pt x="3794" y="8417"/>
                </a:moveTo>
                <a:lnTo>
                  <a:pt x="7301" y="8417"/>
                </a:lnTo>
                <a:lnTo>
                  <a:pt x="7301" y="13753"/>
                </a:lnTo>
                <a:cubicBezTo>
                  <a:pt x="7301" y="14675"/>
                  <a:pt x="8102" y="15406"/>
                  <a:pt x="9138" y="15406"/>
                </a:cubicBezTo>
                <a:lnTo>
                  <a:pt x="10800" y="15406"/>
                </a:lnTo>
                <a:cubicBezTo>
                  <a:pt x="11836" y="15406"/>
                  <a:pt x="12636" y="14675"/>
                  <a:pt x="12636" y="13753"/>
                </a:cubicBezTo>
                <a:lnTo>
                  <a:pt x="12636" y="8417"/>
                </a:lnTo>
                <a:lnTo>
                  <a:pt x="10800" y="8417"/>
                </a:lnTo>
                <a:lnTo>
                  <a:pt x="14308" y="4910"/>
                </a:lnTo>
                <a:lnTo>
                  <a:pt x="17981" y="8417"/>
                </a:lnTo>
                <a:lnTo>
                  <a:pt x="16144" y="8417"/>
                </a:lnTo>
                <a:lnTo>
                  <a:pt x="16144" y="13753"/>
                </a:lnTo>
                <a:cubicBezTo>
                  <a:pt x="16144" y="16520"/>
                  <a:pt x="13568" y="19079"/>
                  <a:pt x="10800" y="19079"/>
                </a:cubicBezTo>
                <a:lnTo>
                  <a:pt x="9138" y="19079"/>
                </a:lnTo>
                <a:cubicBezTo>
                  <a:pt x="6370" y="19079"/>
                  <a:pt x="3794" y="16520"/>
                  <a:pt x="3794" y="13753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Заголовок 4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6840720" cy="1298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571320" y="1071360"/>
            <a:ext cx="58575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Шпагат наматываем без натяжения на картон, чтобы получились намотки нужной длины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и высоте куклы 20см – 23см, для волос – 20см,  для рук – 15см.)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мотку для волос разрезаем с одной стороны  и перетягиваем со стороны среза, а намотку для туловища разрезаем с двух сторон. Равномерно распределяем основу вокруг пучка волос и  туго закрепляем ниткой. Выворачиваем оба пучка и формируем голову, закрепляя нитью на уровне ше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мотку для рук, разрезаем с двух сторон. Проволоку для рук сгибаем вдвое – на 0,5см меньше длины рук. Обматываем шпагатом. Вкладываем внутрь пучка и закрепляем по центру и на уровне запяст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"/>
          <p:cNvPicPr/>
          <p:nvPr/>
        </p:nvPicPr>
        <p:blipFill>
          <a:blip r:embed="rId4"/>
          <a:stretch/>
        </p:blipFill>
        <p:spPr>
          <a:xfrm>
            <a:off x="7000920" y="214200"/>
            <a:ext cx="1814400" cy="16257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"/>
          <p:cNvPicPr/>
          <p:nvPr/>
        </p:nvPicPr>
        <p:blipFill>
          <a:blip r:embed="rId5"/>
          <a:stretch/>
        </p:blipFill>
        <p:spPr>
          <a:xfrm>
            <a:off x="6572160" y="1643040"/>
            <a:ext cx="1155960" cy="2428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0" descr=""/>
          <p:cNvPicPr/>
          <p:nvPr/>
        </p:nvPicPr>
        <p:blipFill>
          <a:blip r:embed="rId6"/>
          <a:stretch/>
        </p:blipFill>
        <p:spPr>
          <a:xfrm>
            <a:off x="7429680" y="3214800"/>
            <a:ext cx="1143000" cy="2549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"/>
          <p:cNvPicPr/>
          <p:nvPr/>
        </p:nvPicPr>
        <p:blipFill>
          <a:blip r:embed="rId7"/>
          <a:stretch/>
        </p:blipFill>
        <p:spPr>
          <a:xfrm>
            <a:off x="8329680" y="1571760"/>
            <a:ext cx="814320" cy="25002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"/>
          <p:cNvPicPr/>
          <p:nvPr/>
        </p:nvPicPr>
        <p:blipFill>
          <a:blip r:embed="rId8"/>
          <a:stretch/>
        </p:blipFill>
        <p:spPr>
          <a:xfrm>
            <a:off x="7000920" y="6286680"/>
            <a:ext cx="1857240" cy="5713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"/>
          <p:cNvPicPr/>
          <p:nvPr/>
        </p:nvPicPr>
        <p:blipFill>
          <a:blip r:embed="rId9"/>
          <a:stretch/>
        </p:blipFill>
        <p:spPr>
          <a:xfrm>
            <a:off x="7000920" y="5715000"/>
            <a:ext cx="18572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Заголовок 4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6516720" cy="1311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571680" y="1000080"/>
            <a:ext cx="600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им  туловище поровну, до упора вставляем руки, закрепляем по линии талии ниткой. Руки пока не сгиба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конусный каркас из картона (прил. 2). Равномерно распределяем по окружности шпагат, идущий на юбку. Вершину конуса  вклеиваем в центр туловища  до упора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омазываем клеем нижнюю поверхность конуса и приклеиваем шпагат,  натягивая и равномерно распределяя. Выравниваем низ юбки по краю конус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из шпагата метелочку: наматываем на картон длиной на 1,5см меньше размера конуса. Разрезаем на сгибах и  туго стягиваем по  одному краю ниткой. Смазываем этот край клеем и вклеиваем внутрь конуса. Излишки шпагата  обрезаем по уровню низ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8" descr=""/>
          <p:cNvPicPr/>
          <p:nvPr/>
        </p:nvPicPr>
        <p:blipFill>
          <a:blip r:embed="rId2"/>
          <a:stretch/>
        </p:blipFill>
        <p:spPr>
          <a:xfrm>
            <a:off x="7520040" y="428760"/>
            <a:ext cx="1623960" cy="2165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3"/>
          <a:stretch/>
        </p:blipFill>
        <p:spPr>
          <a:xfrm>
            <a:off x="6643800" y="1928880"/>
            <a:ext cx="1366560" cy="1357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4"/>
          <a:stretch/>
        </p:blipFill>
        <p:spPr>
          <a:xfrm>
            <a:off x="6643800" y="3286080"/>
            <a:ext cx="1357200" cy="1870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"/>
          <p:cNvPicPr/>
          <p:nvPr/>
        </p:nvPicPr>
        <p:blipFill>
          <a:blip r:embed="rId6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"/>
          <p:cNvPicPr/>
          <p:nvPr/>
        </p:nvPicPr>
        <p:blipFill>
          <a:blip r:embed="rId7"/>
          <a:stretch/>
        </p:blipFill>
        <p:spPr>
          <a:xfrm>
            <a:off x="7143840" y="5875200"/>
            <a:ext cx="871560" cy="982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"/>
          <p:cNvPicPr/>
          <p:nvPr/>
        </p:nvPicPr>
        <p:blipFill>
          <a:blip r:embed="rId8"/>
          <a:stretch/>
        </p:blipFill>
        <p:spPr>
          <a:xfrm>
            <a:off x="7929720" y="3286080"/>
            <a:ext cx="1214280" cy="1905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9"/>
          <a:stretch/>
        </p:blipFill>
        <p:spPr>
          <a:xfrm>
            <a:off x="6643800" y="5143680"/>
            <a:ext cx="785880" cy="1047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7" descr=""/>
          <p:cNvPicPr/>
          <p:nvPr/>
        </p:nvPicPr>
        <p:blipFill>
          <a:blip r:embed="rId10"/>
          <a:stretch/>
        </p:blipFill>
        <p:spPr>
          <a:xfrm>
            <a:off x="7859880" y="5143680"/>
            <a:ext cx="1284120" cy="1457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DSC07599"/>
          <p:cNvPicPr/>
          <p:nvPr/>
        </p:nvPicPr>
        <p:blipFill>
          <a:blip r:embed="rId11"/>
          <a:stretch/>
        </p:blipFill>
        <p:spPr>
          <a:xfrm>
            <a:off x="8286840" y="2571840"/>
            <a:ext cx="571320" cy="743040"/>
          </a:xfrm>
          <a:prstGeom prst="rect">
            <a:avLst/>
          </a:prstGeom>
          <a:ln w="0">
            <a:noFill/>
          </a:ln>
        </p:spPr>
      </p:pic>
      <p:sp>
        <p:nvSpPr>
          <p:cNvPr id="581" name="Управляющая кнопка: возврат 14"/>
          <p:cNvSpPr/>
          <p:nvPr/>
        </p:nvSpPr>
        <p:spPr>
          <a:xfrm>
            <a:off x="600084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Заголовок 4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5870880" cy="13114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571320" y="100008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ля украшения фартука, низа рукавов, головного убора, пояса – плетем витые шнуры из шпагата (прил.3). Для оформления низа юбки и запястий - плетем косички из шпагата, сложенного вдвое и приклеиваем на клей «момент». Для корзинки плетем косичку  из шпагата длиной 40с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выкройку фартука из бумаги в натуральную величину, накладываем на мешковину и по контуру приклеиваем на клей «момент» витой шнур. Для головного убора наклеиваем на мешковину шнур на расстоянии 1,5см друг от друга, а для рукавов (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х10см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) - с одной стороны. После высыхания обрезаем детали по контуру шнура. Украшаем фартук цветами бессмертника, используя клей «момент»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4"/>
          <a:stretch/>
        </p:blipFill>
        <p:spPr>
          <a:xfrm>
            <a:off x="7929720" y="1000080"/>
            <a:ext cx="1214280" cy="27147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5"/>
          <a:stretch/>
        </p:blipFill>
        <p:spPr>
          <a:xfrm>
            <a:off x="6500880" y="357120"/>
            <a:ext cx="1466640" cy="1714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5" descr=""/>
          <p:cNvPicPr/>
          <p:nvPr/>
        </p:nvPicPr>
        <p:blipFill>
          <a:blip r:embed="rId6"/>
          <a:stretch/>
        </p:blipFill>
        <p:spPr>
          <a:xfrm>
            <a:off x="6572160" y="4357800"/>
            <a:ext cx="765360" cy="2284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"/>
          <p:cNvPicPr/>
          <p:nvPr/>
        </p:nvPicPr>
        <p:blipFill>
          <a:blip r:embed="rId7"/>
          <a:stretch/>
        </p:blipFill>
        <p:spPr>
          <a:xfrm>
            <a:off x="7358040" y="4294080"/>
            <a:ext cx="1785960" cy="2563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8"/>
          <a:stretch/>
        </p:blipFill>
        <p:spPr>
          <a:xfrm>
            <a:off x="6500880" y="207180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4429080" y="3857760"/>
            <a:ext cx="4048200" cy="28191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85480" y="1071360"/>
            <a:ext cx="8001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ля проведения занятия предлагается мастер-класс по изготовлению трех  сувенирных народных  кукол на конусной основе, выполненных из различных природных материалов. Ознакомьтесь полностью со всей презентацией, прежде чем приступить к творчеств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Из льняных волоко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Из мочал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Из шпагата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(пеньковый, льняной, джутовый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4071960" cy="642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5"/>
          <a:stretch/>
        </p:blipFill>
        <p:spPr>
          <a:xfrm>
            <a:off x="4071960" y="0"/>
            <a:ext cx="4429080" cy="642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6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7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Заголовок 4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6091560" cy="129888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571320" y="107172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гибаем руки по эскизу. Одеваем на куклу детали рукавов и фиксируем их по линии талии шпагато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иклеиваем к верху фартука плетеную из шпагата косичку,  одевая на куклу и имитируя бретель. Фартук подпоясываем витым шнуро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формляем прическу: переднюю прядь загибаем петлей, имитируя челку. Подклеиваем  к голове клеем. Остальные волосы распускаем.  Подравниваем волосы по линии низ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клеиваем  в кольцо полоску для головного убора, уточняя размер по голове куклы. Одеваем на голову и приклеиваем к волосам. Наклеиваем цветы бессмертника, закрывая шов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4"/>
          <a:stretch/>
        </p:blipFill>
        <p:spPr>
          <a:xfrm>
            <a:off x="6715080" y="214200"/>
            <a:ext cx="2071800" cy="19242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"/>
          <p:cNvPicPr/>
          <p:nvPr/>
        </p:nvPicPr>
        <p:blipFill>
          <a:blip r:embed="rId5"/>
          <a:stretch/>
        </p:blipFill>
        <p:spPr>
          <a:xfrm>
            <a:off x="6715080" y="2071800"/>
            <a:ext cx="2079720" cy="29289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"/>
          <p:cNvPicPr/>
          <p:nvPr/>
        </p:nvPicPr>
        <p:blipFill>
          <a:blip r:embed="rId6"/>
          <a:stretch/>
        </p:blipFill>
        <p:spPr>
          <a:xfrm>
            <a:off x="6500880" y="4857840"/>
            <a:ext cx="1212840" cy="17809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7"/>
          <a:stretch/>
        </p:blipFill>
        <p:spPr>
          <a:xfrm>
            <a:off x="7661160" y="5000760"/>
            <a:ext cx="148284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4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5943600" cy="12988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571320" y="1071720"/>
            <a:ext cx="5857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Изготовление корзинки: скручивая в улитку косичку, сшиваем вручную, используя иглу с большим ушком и нить шпагата.  Конец косички загибаем в виде ручки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Скатываем шарик из кусочка любой бумаги – вкладываем внутрь корзинки. Сверху на шарик наклеиваем цветы. Корзинку приклеиваем к руке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4e3b30"/>
                </a:solidFill>
                <a:latin typeface="Franklin Gothic Book"/>
              </a:rPr>
              <a:t>Сувенирная кукла из шпагата готова!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ЖЕЛАЮ  УСПЕХОВ  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ТВОРЧЕСКОГО ВДОХНОВЕНИЯ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6572160" y="0"/>
            <a:ext cx="2428920" cy="2293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5"/>
          <a:stretch/>
        </p:blipFill>
        <p:spPr>
          <a:xfrm>
            <a:off x="6572160" y="2143080"/>
            <a:ext cx="1203480" cy="1573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6"/>
          <a:stretch/>
        </p:blipFill>
        <p:spPr>
          <a:xfrm>
            <a:off x="7731000" y="2143080"/>
            <a:ext cx="1260720" cy="15717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7"/>
          <a:stretch/>
        </p:blipFill>
        <p:spPr>
          <a:xfrm>
            <a:off x="6627960" y="3714840"/>
            <a:ext cx="2301840" cy="3143160"/>
          </a:xfrm>
          <a:prstGeom prst="rect">
            <a:avLst/>
          </a:prstGeom>
          <a:ln w="0">
            <a:noFill/>
          </a:ln>
        </p:spPr>
      </p:pic>
      <p:sp>
        <p:nvSpPr>
          <p:cNvPr id="610" name="Управляющая кнопка: возврат 10"/>
          <p:cNvSpPr/>
          <p:nvPr/>
        </p:nvSpPr>
        <p:spPr>
          <a:xfrm>
            <a:off x="5857920" y="6357960"/>
            <a:ext cx="471600" cy="500040"/>
          </a:xfrm>
          <a:custGeom>
            <a:avLst/>
            <a:gdLst>
              <a:gd name="textAreaLeft" fmla="*/ 30240 w 471600"/>
              <a:gd name="textAreaRight" fmla="*/ 441360 w 471600"/>
              <a:gd name="textAreaTop" fmla="*/ 30240 h 500040"/>
              <a:gd name="textAreaBottom" fmla="*/ 469800 h 500040"/>
            </a:gdLst>
            <a:ahLst/>
            <a:rect l="textAreaLeft" t="textAreaTop" r="textAreaRight" b="textAreaBottom"/>
            <a:pathLst>
              <a:path w="21600" h="22902">
                <a:moveTo>
                  <a:pt x="0" y="0"/>
                </a:moveTo>
                <a:lnTo>
                  <a:pt x="21600" y="0"/>
                </a:lnTo>
                <a:lnTo>
                  <a:pt x="21600" y="22902"/>
                </a:lnTo>
                <a:lnTo>
                  <a:pt x="0" y="22902"/>
                </a:lnTo>
                <a:close/>
              </a:path>
              <a:path fill="lightenLess" w="21600" h="229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02">
                <a:moveTo>
                  <a:pt x="21600" y="0"/>
                </a:moveTo>
                <a:lnTo>
                  <a:pt x="21600" y="22902"/>
                </a:lnTo>
                <a:lnTo>
                  <a:pt x="20200" y="21502"/>
                </a:lnTo>
                <a:lnTo>
                  <a:pt x="20200" y="1400"/>
                </a:lnTo>
                <a:close/>
              </a:path>
              <a:path fill="darkenLess" w="21600" h="22902">
                <a:moveTo>
                  <a:pt x="21600" y="22902"/>
                </a:moveTo>
                <a:lnTo>
                  <a:pt x="0" y="22902"/>
                </a:lnTo>
                <a:lnTo>
                  <a:pt x="1400" y="21502"/>
                </a:lnTo>
                <a:lnTo>
                  <a:pt x="20200" y="21502"/>
                </a:lnTo>
                <a:close/>
              </a:path>
              <a:path fill="lighten" w="21600" h="22902">
                <a:moveTo>
                  <a:pt x="0" y="229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02"/>
                </a:lnTo>
                <a:close/>
              </a:path>
              <a:path fill="darken" w="21600" h="22902">
                <a:moveTo>
                  <a:pt x="3794" y="8143"/>
                </a:moveTo>
                <a:lnTo>
                  <a:pt x="7301" y="8143"/>
                </a:lnTo>
                <a:lnTo>
                  <a:pt x="7301" y="13479"/>
                </a:lnTo>
                <a:cubicBezTo>
                  <a:pt x="7301" y="14401"/>
                  <a:pt x="8102" y="15132"/>
                  <a:pt x="9138" y="15132"/>
                </a:cubicBezTo>
                <a:lnTo>
                  <a:pt x="10800" y="15132"/>
                </a:lnTo>
                <a:cubicBezTo>
                  <a:pt x="11836" y="15132"/>
                  <a:pt x="12636" y="14401"/>
                  <a:pt x="12636" y="13479"/>
                </a:cubicBezTo>
                <a:lnTo>
                  <a:pt x="12636" y="8143"/>
                </a:lnTo>
                <a:lnTo>
                  <a:pt x="10800" y="8143"/>
                </a:lnTo>
                <a:lnTo>
                  <a:pt x="14308" y="4636"/>
                </a:lnTo>
                <a:lnTo>
                  <a:pt x="17981" y="8143"/>
                </a:lnTo>
                <a:lnTo>
                  <a:pt x="16144" y="8143"/>
                </a:lnTo>
                <a:lnTo>
                  <a:pt x="16144" y="13479"/>
                </a:lnTo>
                <a:cubicBezTo>
                  <a:pt x="16144" y="16247"/>
                  <a:pt x="13568" y="18805"/>
                  <a:pt x="10800" y="18805"/>
                </a:cubicBezTo>
                <a:lnTo>
                  <a:pt x="9138" y="18805"/>
                </a:lnTo>
                <a:cubicBezTo>
                  <a:pt x="6370" y="18805"/>
                  <a:pt x="3794" y="16247"/>
                  <a:pt x="3794" y="13479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Заголовок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30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857160" y="1554120"/>
            <a:ext cx="813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ant7658.narod.ru/amuleti_talismani_oberegi/kukli_oberegi3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куклы-обере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a-furnitura.ru/catimages/0004407.jpg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- картинка для фона презентац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 презентации использованы авторские фотографи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Прямоугольник 7"/>
          <p:cNvSpPr/>
          <p:nvPr/>
        </p:nvSpPr>
        <p:spPr>
          <a:xfrm>
            <a:off x="373284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616" name="Управляющая кнопка: в начало 8">
            <a:hlinkClick r:id="" action="ppaction://hlinkshowjump?jump=firstslide"/>
          </p:cNvPr>
          <p:cNvSpPr/>
          <p:nvPr/>
        </p:nvSpPr>
        <p:spPr>
          <a:xfrm>
            <a:off x="8143920" y="585792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7749" y="10800"/>
                </a:moveTo>
                <a:lnTo>
                  <a:pt x="18254" y="3794"/>
                </a:lnTo>
                <a:lnTo>
                  <a:pt x="18254" y="17806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5904" y="3794"/>
                </a:lnTo>
                <a:lnTo>
                  <a:pt x="5904" y="17806"/>
                </a:lnTo>
                <a:lnTo>
                  <a:pt x="4241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8004240" cy="1023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785880" y="1000080"/>
            <a:ext cx="8143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бочее место должно быть хорошо освещено: лучше работать при естественном дневном освещен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и работе с природным материалом необходимо надеть фартук  (волокна прилипают к одежде), а рабочий стол  застелить клеенкой. Подготовить  газету, пакет или коробку куда будут обрезаться и складываться отходы, очесы и мусор  при выполнении работы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нструменты и приспособления расположить со стороны рабочей руки (справа – если правша), а материалы – слева. Природный материал лучше держать  в отдельной коробке или пакет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               </a:t>
            </a:r>
            <a:r>
              <a:rPr b="1" lang="ru-RU" sz="2200" spc="-1" strike="noStrike">
                <a:solidFill>
                  <a:srgbClr val="c17529"/>
                </a:solidFill>
                <a:latin typeface="Franklin Gothic Book"/>
              </a:rPr>
              <a:t>СОБЛЮДЕНИЕ ТЕХНИКИ БЕЗОПАСНОСТИ  (прил. 1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Изготовление сувенирной куклы связано с применением  ручных работ. Необходимо соблюдать осторожность при работе с острыми и режущими инструментами!!!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Прямоугольник 6"/>
          <p:cNvSpPr/>
          <p:nvPr/>
        </p:nvSpPr>
        <p:spPr>
          <a:xfrm>
            <a:off x="33040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993600" y="208080"/>
            <a:ext cx="651060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642960" y="1071720"/>
            <a:ext cx="6143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режде чем приступить к работе делаем набросок – эскиз своего творения. Можно сделать несколько вариантов и выбрать лучш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 этом этапе  определяемся с «возрастом» и размером куклы: девочка, девушка или  замужняя  женщина; высокая или низкая, худенькая  или  полненькая. Размер  зависит от желания автора и от количества природного материала, имеющегося в наличии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пределяемся с прической и цветом волос, а также  из какого материала они будут сделаны: из природного волокна или из дополнительной пряжи. Прическа также зависит от возраста куклы (коса, распущенные волосы или убранные   под  головной убор)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"/>
          <p:cNvPicPr/>
          <p:nvPr/>
        </p:nvPicPr>
        <p:blipFill>
          <a:blip r:embed="rId4"/>
          <a:stretch/>
        </p:blipFill>
        <p:spPr>
          <a:xfrm>
            <a:off x="7072200" y="3643200"/>
            <a:ext cx="1835280" cy="28767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9"/>
          <p:cNvSpPr/>
          <p:nvPr/>
        </p:nvSpPr>
        <p:spPr>
          <a:xfrm>
            <a:off x="7072200" y="6566040"/>
            <a:ext cx="1857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куклы  из моча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0"/>
          <p:cNvSpPr/>
          <p:nvPr/>
        </p:nvSpPr>
        <p:spPr>
          <a:xfrm>
            <a:off x="7072200" y="32860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куклы  из ль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"/>
          <p:cNvPicPr/>
          <p:nvPr/>
        </p:nvPicPr>
        <p:blipFill>
          <a:blip r:embed="rId5"/>
          <a:stretch/>
        </p:blipFill>
        <p:spPr>
          <a:xfrm>
            <a:off x="7072200" y="374760"/>
            <a:ext cx="18338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006560" y="208080"/>
            <a:ext cx="6284880" cy="10303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642960" y="1071360"/>
            <a:ext cx="6143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Отражаем элементы одежды и украшений.  Их не должно быть много, чтобы видна  была красота природного материала, из которого выполнена основа куклы. Костюм, прическа и украшения для куклы зависят от желаемого образа, фантазии автора и имеющегося в наличии материал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Лицо у сувенирной куклы можно  оставить без оформления  или по желанию, выполнить аппликацию или  расписать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осле разработки эскизов окончательно определяемся с необходимыми материалами, инструментами и приспособлениями и подготавливаем их к работе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 процессе работы можно вносить изменения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Прямоугольник 5"/>
          <p:cNvSpPr/>
          <p:nvPr/>
        </p:nvSpPr>
        <p:spPr>
          <a:xfrm>
            <a:off x="3518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3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"/>
          <p:cNvPicPr/>
          <p:nvPr/>
        </p:nvPicPr>
        <p:blipFill>
          <a:blip r:embed="rId4"/>
          <a:stretch/>
        </p:blipFill>
        <p:spPr>
          <a:xfrm>
            <a:off x="6929280" y="500040"/>
            <a:ext cx="1874880" cy="33735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8"/>
          <p:cNvSpPr/>
          <p:nvPr/>
        </p:nvSpPr>
        <p:spPr>
          <a:xfrm>
            <a:off x="7072200" y="3857760"/>
            <a:ext cx="171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киз куклы  из шпаг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2" descr=""/>
          <p:cNvPicPr/>
          <p:nvPr/>
        </p:nvPicPr>
        <p:blipFill>
          <a:blip r:embed="rId1"/>
          <a:stretch/>
        </p:blipFill>
        <p:spPr>
          <a:xfrm>
            <a:off x="-6480" y="171360"/>
            <a:ext cx="8699760" cy="1249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5480" y="1071360"/>
            <a:ext cx="3857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c17529"/>
                </a:solidFill>
                <a:latin typeface="Franklin Gothic Book"/>
              </a:rPr>
              <a:t>НЕОБХОДИМЫ МАТЕРИАЛЫ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ьняное волокно (сантехнический лен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яжа красная, белая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итки швейные (прочные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Атласная лент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н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Мулине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тон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лей ПВ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357440" y="10713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c17529"/>
                </a:solidFill>
                <a:latin typeface="Franklin Gothic Book"/>
              </a:rPr>
              <a:t>ИНСТУМЕНТЫ И ПРИСПОСОБЛЕНИЯ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ожниц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счес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учные иглы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Булав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арандаш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Циркул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Линейка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9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2286000" cy="229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3"/>
          <a:stretch/>
        </p:blipFill>
        <p:spPr>
          <a:xfrm>
            <a:off x="6072120" y="4286160"/>
            <a:ext cx="2428920" cy="1898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4"/>
          <a:stretch/>
        </p:blipFill>
        <p:spPr>
          <a:xfrm>
            <a:off x="0" y="6215040"/>
            <a:ext cx="4286160" cy="64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5"/>
          <a:stretch/>
        </p:blipFill>
        <p:spPr>
          <a:xfrm>
            <a:off x="4286160" y="6215040"/>
            <a:ext cx="4214880" cy="6429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3"/>
          <p:cNvSpPr/>
          <p:nvPr/>
        </p:nvSpPr>
        <p:spPr>
          <a:xfrm>
            <a:off x="3589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6"/>
          <a:stretch/>
        </p:blipFill>
        <p:spPr>
          <a:xfrm>
            <a:off x="850104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7"/>
          <a:stretch/>
        </p:blipFill>
        <p:spPr>
          <a:xfrm>
            <a:off x="8501040" y="0"/>
            <a:ext cx="642960" cy="3429000"/>
          </a:xfrm>
          <a:prstGeom prst="rect">
            <a:avLst/>
          </a:prstGeom>
          <a:ln w="0">
            <a:noFill/>
          </a:ln>
        </p:spPr>
      </p:pic>
      <p:sp>
        <p:nvSpPr>
          <p:cNvPr id="445" name="Управляющая кнопка: возврат 12"/>
          <p:cNvSpPr/>
          <p:nvPr/>
        </p:nvSpPr>
        <p:spPr>
          <a:xfrm>
            <a:off x="5000760" y="5786280"/>
            <a:ext cx="428400" cy="400320"/>
          </a:xfrm>
          <a:custGeom>
            <a:avLst/>
            <a:gdLst>
              <a:gd name="textAreaLeft" fmla="*/ 25920 w 428400"/>
              <a:gd name="textAreaRight" fmla="*/ 402480 w 428400"/>
              <a:gd name="textAreaTop" fmla="*/ 25920 h 400320"/>
              <a:gd name="textAreaBottom" fmla="*/ 374400 h 400320"/>
            </a:gdLst>
            <a:ahLst/>
            <a:rect l="textAreaLeft" t="textAreaTop" r="textAreaRight" b="textAreaBottom"/>
            <a:pathLst>
              <a:path w="23114" h="21600">
                <a:moveTo>
                  <a:pt x="0" y="0"/>
                </a:moveTo>
                <a:lnTo>
                  <a:pt x="23114" y="0"/>
                </a:lnTo>
                <a:lnTo>
                  <a:pt x="23114" y="21600"/>
                </a:lnTo>
                <a:lnTo>
                  <a:pt x="0" y="21600"/>
                </a:lnTo>
                <a:close/>
              </a:path>
              <a:path fill="lightenLess" w="23114" h="21600">
                <a:moveTo>
                  <a:pt x="0" y="0"/>
                </a:moveTo>
                <a:lnTo>
                  <a:pt x="23114" y="0"/>
                </a:lnTo>
                <a:lnTo>
                  <a:pt x="21714" y="1400"/>
                </a:lnTo>
                <a:lnTo>
                  <a:pt x="1400" y="1400"/>
                </a:lnTo>
                <a:close/>
              </a:path>
              <a:path fill="darken" w="23114" h="21600">
                <a:moveTo>
                  <a:pt x="23114" y="0"/>
                </a:moveTo>
                <a:lnTo>
                  <a:pt x="23114" y="21600"/>
                </a:lnTo>
                <a:lnTo>
                  <a:pt x="21714" y="20200"/>
                </a:lnTo>
                <a:lnTo>
                  <a:pt x="21714" y="1400"/>
                </a:lnTo>
                <a:close/>
              </a:path>
              <a:path fill="darkenLess" w="23114" h="21600">
                <a:moveTo>
                  <a:pt x="2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4" y="20200"/>
                </a:lnTo>
                <a:close/>
              </a:path>
              <a:path fill="lighten" w="2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4" h="21600">
                <a:moveTo>
                  <a:pt x="4550" y="7493"/>
                </a:moveTo>
                <a:lnTo>
                  <a:pt x="8058" y="7493"/>
                </a:lnTo>
                <a:lnTo>
                  <a:pt x="8058" y="12828"/>
                </a:lnTo>
                <a:cubicBezTo>
                  <a:pt x="8058" y="13751"/>
                  <a:pt x="8859" y="14482"/>
                  <a:pt x="9894" y="14482"/>
                </a:cubicBezTo>
                <a:lnTo>
                  <a:pt x="11557" y="14482"/>
                </a:lnTo>
                <a:cubicBezTo>
                  <a:pt x="12593" y="14482"/>
                  <a:pt x="13393" y="13751"/>
                  <a:pt x="13393" y="12828"/>
                </a:cubicBezTo>
                <a:lnTo>
                  <a:pt x="13393" y="7493"/>
                </a:lnTo>
                <a:lnTo>
                  <a:pt x="11557" y="7493"/>
                </a:lnTo>
                <a:lnTo>
                  <a:pt x="15064" y="3985"/>
                </a:lnTo>
                <a:lnTo>
                  <a:pt x="18737" y="7493"/>
                </a:lnTo>
                <a:lnTo>
                  <a:pt x="16901" y="7493"/>
                </a:lnTo>
                <a:lnTo>
                  <a:pt x="16901" y="12828"/>
                </a:lnTo>
                <a:cubicBezTo>
                  <a:pt x="16901" y="15596"/>
                  <a:pt x="14325" y="18155"/>
                  <a:pt x="11557" y="18155"/>
                </a:cubicBezTo>
                <a:lnTo>
                  <a:pt x="9894" y="18155"/>
                </a:lnTo>
                <a:cubicBezTo>
                  <a:pt x="7127" y="18155"/>
                  <a:pt x="4550" y="15596"/>
                  <a:pt x="4550" y="12828"/>
                </a:cubicBez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554040" y="208080"/>
            <a:ext cx="6218280" cy="10303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571320" y="1071360"/>
            <a:ext cx="5786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Подбираем два оттенка льна – для туловища и волос. Расчесываем волокна льна редкой расческой для выравнивания по длине и удаления очесов и мусора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Очесы можно использовать для сухого валяния или в качестве наполнителя для кукол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Нарезаем  отрезки нужной длины для туловища (для куклы высотой 20см,  нарезаем - 25см) , для рук – 15 см, для волос выбираем более светлый оттенок льна – по эскизу две длинные  косы – нарезаем 25с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Туго завязываем  пучок  льна для волос крепкой ниткой с одной стороны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округ пучка волос равномерно распределяем лен  для туловища и опять туго завязываем в общий пучок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6600960" y="357120"/>
            <a:ext cx="2328840" cy="19288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3"/>
          <a:stretch/>
        </p:blipFill>
        <p:spPr>
          <a:xfrm>
            <a:off x="6600960" y="2286000"/>
            <a:ext cx="1766880" cy="2214720"/>
          </a:xfrm>
          <a:prstGeom prst="rect">
            <a:avLst/>
          </a:prstGeom>
          <a:ln w="0">
            <a:noFill/>
          </a:ln>
        </p:spPr>
      </p:pic>
      <p:sp>
        <p:nvSpPr>
          <p:cNvPr id="450" name="TextBox 8"/>
          <p:cNvSpPr/>
          <p:nvPr/>
        </p:nvSpPr>
        <p:spPr>
          <a:xfrm>
            <a:off x="3304080" y="659592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4"/>
          <a:stretch/>
        </p:blipFill>
        <p:spPr>
          <a:xfrm>
            <a:off x="6572160" y="5519880"/>
            <a:ext cx="1359000" cy="1338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"/>
          <p:cNvPicPr/>
          <p:nvPr/>
        </p:nvPicPr>
        <p:blipFill>
          <a:blip r:embed="rId5"/>
          <a:stretch/>
        </p:blipFill>
        <p:spPr>
          <a:xfrm>
            <a:off x="7643880" y="4357800"/>
            <a:ext cx="1295280" cy="2071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6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7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8"/>
          <a:stretch/>
        </p:blipFill>
        <p:spPr>
          <a:xfrm>
            <a:off x="6572160" y="4357800"/>
            <a:ext cx="13366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901800" y="128520"/>
            <a:ext cx="4908600" cy="12556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571680" y="1071360"/>
            <a:ext cx="5572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Выворачиваем оба пучка в разные стороны. Разглаживаем руками лен со стороны лица (пальцы можно смочить водой). Берем 25-30см красной пряжи и закрепляем голову куклы на уровне шеи. Нить не обрезаем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уки можно оформить разными способами: перетянуть пучок у запястья, оплести цветными нитками или сплести косичку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азделив волокна для туловища поровну, вставляем до упора (под шею), подготовленные руки. Концами  красной нити, сделав обережный крест на груди, закрепляем  руки снизу – линия талии. Нить обрезае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285840"/>
            <a:ext cx="2143080" cy="2919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"/>
          <p:cNvPicPr/>
          <p:nvPr/>
        </p:nvPicPr>
        <p:blipFill>
          <a:blip r:embed="rId3"/>
          <a:stretch/>
        </p:blipFill>
        <p:spPr>
          <a:xfrm>
            <a:off x="6572160" y="3143160"/>
            <a:ext cx="2344680" cy="14288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2"/>
          <p:cNvSpPr/>
          <p:nvPr/>
        </p:nvSpPr>
        <p:spPr>
          <a:xfrm>
            <a:off x="3304080" y="659592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1" descr=""/>
          <p:cNvPicPr/>
          <p:nvPr/>
        </p:nvPicPr>
        <p:blipFill>
          <a:blip r:embed="rId4"/>
          <a:stretch/>
        </p:blipFill>
        <p:spPr>
          <a:xfrm>
            <a:off x="7572240" y="4857840"/>
            <a:ext cx="1382760" cy="17859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6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"/>
          <p:cNvPicPr/>
          <p:nvPr/>
        </p:nvPicPr>
        <p:blipFill>
          <a:blip r:embed="rId7"/>
          <a:stretch/>
        </p:blipFill>
        <p:spPr>
          <a:xfrm>
            <a:off x="6215040" y="4357800"/>
            <a:ext cx="1641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633240" y="55440"/>
            <a:ext cx="6016680" cy="1413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642960" y="1142640"/>
            <a:ext cx="5572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ля оформления нижней части куклы – юбки, делаем конусный каркас из картона, применяя  простую развертку  (прил. 2)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авномерно распределяем по окружности волокна льна, идущие на юбку, разложив на ровной поверхности. Смазываем вершину конуса клеем и вставляем до упора в туловище, за счет чего снизу  остаются припуски волокон льна, идущие на оформление (оборку)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 algn="just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Делаем из льна дополнительную  пышную метелочку длиной на 1см меньше длины боковой стороны конуса. Туго стягиваем по краю. Смазываем этот край клеем и вставляем в конус. Волокна распушаем и подрезаем по уровню нижнего края конуса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557360" cy="17938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ая соединительная линия 11"/>
          <p:cNvSpPr/>
          <p:nvPr/>
        </p:nvSpPr>
        <p:spPr>
          <a:xfrm flipH="1">
            <a:off x="7643520" y="1214280"/>
            <a:ext cx="500040" cy="50040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3"/>
          <a:stretch/>
        </p:blipFill>
        <p:spPr>
          <a:xfrm>
            <a:off x="6286680" y="1649520"/>
            <a:ext cx="2012760" cy="1708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5"/>
          <a:stretch/>
        </p:blipFill>
        <p:spPr>
          <a:xfrm>
            <a:off x="0" y="3429000"/>
            <a:ext cx="642960" cy="3429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5" descr=""/>
          <p:cNvPicPr/>
          <p:nvPr/>
        </p:nvPicPr>
        <p:blipFill>
          <a:blip r:embed="rId6"/>
          <a:stretch/>
        </p:blipFill>
        <p:spPr>
          <a:xfrm>
            <a:off x="7429680" y="2857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7"/>
          <a:stretch/>
        </p:blipFill>
        <p:spPr>
          <a:xfrm>
            <a:off x="6643800" y="642960"/>
            <a:ext cx="698400" cy="10065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"/>
          <p:cNvPicPr/>
          <p:nvPr/>
        </p:nvPicPr>
        <p:blipFill>
          <a:blip r:embed="rId8"/>
          <a:stretch/>
        </p:blipFill>
        <p:spPr>
          <a:xfrm>
            <a:off x="6286680" y="3714840"/>
            <a:ext cx="1250640" cy="14288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9"/>
          <p:cNvSpPr/>
          <p:nvPr/>
        </p:nvSpPr>
        <p:spPr>
          <a:xfrm>
            <a:off x="33040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a01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4" descr=""/>
          <p:cNvPicPr/>
          <p:nvPr/>
        </p:nvPicPr>
        <p:blipFill>
          <a:blip r:embed="rId9"/>
          <a:stretch/>
        </p:blipFill>
        <p:spPr>
          <a:xfrm>
            <a:off x="7286760" y="4929120"/>
            <a:ext cx="1665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4:46:20Z</dcterms:created>
  <dc:creator>Виркова Т.М.</dc:creator>
  <dc:description/>
  <dc:language>en-US</dc:language>
  <cp:lastModifiedBy>Алнка</cp:lastModifiedBy>
  <dcterms:modified xsi:type="dcterms:W3CDTF">2012-08-14T09:08:06Z</dcterms:modified>
  <cp:revision>498</cp:revision>
  <dc:subject/>
  <dc:title>Сувенирная народная кукла</dc:title>
</cp:coreProperties>
</file>