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40.png" ContentType="image/png"/>
  <Override PartName="/ppt/media/image11.jpeg" ContentType="image/jpeg"/>
  <Override PartName="/ppt/media/image44.png" ContentType="image/png"/>
  <Override PartName="/ppt/media/image46.jpeg" ContentType="image/jpeg"/>
  <Override PartName="/ppt/media/image41.png" ContentType="image/png"/>
  <Override PartName="/ppt/media/image48.jpeg" ContentType="image/jpeg"/>
  <Override PartName="/ppt/media/image34.jpeg" ContentType="image/jpeg"/>
  <Override PartName="/ppt/media/image37.png" ContentType="image/png"/>
  <Override PartName="/ppt/media/image49.png" ContentType="image/png"/>
  <Override PartName="/ppt/media/image51.png" ContentType="image/png"/>
  <Override PartName="/ppt/media/image43.png" ContentType="image/png"/>
  <Override PartName="/ppt/media/image52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9.png" ContentType="image/png"/>
  <Override PartName="/ppt/media/image9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10.jpeg" ContentType="image/jpeg"/>
  <Override PartName="/ppt/media/image38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FF5-F422-4320-AF5C-49D44992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E48-9A99-4A69-8ABD-4D201EB9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A96-3297-4241-8146-EF909083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739-4427-46C7-A9FB-3D7A5260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899-0908-4274-9EF6-D77355E1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A9C-2C08-4765-9F37-DA84B4E4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EB8-BEBC-4439-BEC0-3AB3C8DF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D3D-A7C6-4C30-89EE-FF763791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E34-0196-4C43-BBA9-E401D6D3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8749-20BF-4728-9DFC-8D4A1D35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3F2-41CA-4CBA-AB34-F32AB2BC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31A-925F-4F2F-87D3-D68A4326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5458-59AC-4A55-834A-862088D4E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5310/119528728.d98/0_a4fd0_ef326f09_XL" TargetMode="External"/><Relationship Id="rId3" Type="http://schemas.openxmlformats.org/officeDocument/2006/relationships/image" Target="../media/image51.pn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datas/literatura/Gabdulla-Tukaj/0015-015-Gabdulla-Tukaj.jpg" TargetMode="External"/><Relationship Id="rId3" Type="http://schemas.openxmlformats.org/officeDocument/2006/relationships/hyperlink" Target="http://900igr.net/datas/literatura/Gabdulla-Tukaj/0015-015-Gabdulla-Tukaj.jpg" TargetMode="External"/><Relationship Id="rId4" Type="http://schemas.openxmlformats.org/officeDocument/2006/relationships/hyperlink" Target="http://900igr.net/datas/literatura/Gabdulla-Tukaj/0015-015-Gabdulla-Tukaj.jpg" TargetMode="External"/><Relationship Id="rId5" Type="http://schemas.openxmlformats.org/officeDocument/2006/relationships/hyperlink" Target="http://900igr.net/datas/literatura/Gabdulla-Tukaj/0015-015-Gabdulla-Tukaj.jpg" TargetMode="External"/><Relationship Id="rId6" Type="http://schemas.openxmlformats.org/officeDocument/2006/relationships/hyperlink" Target="http://900igr.net/datas/literatura/Gabdulla-Tukaj/0015-015-Gabdulla-Tukaj.jpg" TargetMode="External"/><Relationship Id="rId7" Type="http://schemas.openxmlformats.org/officeDocument/2006/relationships/hyperlink" Target="http://900igr.net/datas/literatura/Gabdulla-Tukaj/0015-015-Gabdulla-Tukaj.jpg" TargetMode="External"/><Relationship Id="rId8" Type="http://schemas.openxmlformats.org/officeDocument/2006/relationships/hyperlink" Target="http://900igr.net/datas/literatura/Gabdulla-Tukaj/0015-015-Gabdulla-Tukaj.jpg" TargetMode="External"/><Relationship Id="rId9" Type="http://schemas.openxmlformats.org/officeDocument/2006/relationships/hyperlink" Target="http://img-fotki.yandex.ru/get/5112/44774248.f0/0_67782_10227f96_XL" TargetMode="External"/><Relationship Id="rId10" Type="http://schemas.openxmlformats.org/officeDocument/2006/relationships/hyperlink" Target="http://file.mobilmusic.ru/de/67/2d/825698.gif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11381" t="19453" r="13386" b="65794"/>
          <a:stretch/>
        </p:blipFill>
        <p:spPr>
          <a:xfrm>
            <a:off x="0" y="404640"/>
            <a:ext cx="6370560" cy="889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rcRect l="31286" t="38873" r="32585" b="35028"/>
          <a:stretch/>
        </p:blipFill>
        <p:spPr>
          <a:xfrm>
            <a:off x="6372360" y="189000"/>
            <a:ext cx="2592360" cy="13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835280" y="1989000"/>
            <a:ext cx="5905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ЕЛЫЕ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РЕПАШКИ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342900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работа с мехом и лоскут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5013360"/>
            <a:ext cx="352908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кушева Елена Анатольевна, учитель технологии ГБОУ СОШ №1108 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оскутная черепашка</a:t>
            </a:r>
            <a:br>
              <a:rPr sz="44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Приложение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Картинка 1 из 446"/>
          <p:cNvPicPr/>
          <p:nvPr/>
        </p:nvPicPr>
        <p:blipFill>
          <a:blip r:embed="rId2"/>
          <a:stretch/>
        </p:blipFill>
        <p:spPr>
          <a:xfrm>
            <a:off x="179280" y="1125360"/>
            <a:ext cx="1839960" cy="1748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rcRect l="43443" t="39877" r="37648" b="21729"/>
          <a:stretch/>
        </p:blipFill>
        <p:spPr>
          <a:xfrm>
            <a:off x="250920" y="2852640"/>
            <a:ext cx="1844640" cy="3745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50920" y="1413000"/>
            <a:ext cx="69138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пашка может быть выполнена как на основе 5-угольного так и 6-угольного шаблон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лова, лапы и хвост сделаны по выкройке предыдущ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ьте материалы, переведите выкройки на ткань, учитывая направление долевой нити. Необходимо дать припуски на шов! Стачайте на швейной машине или прошейте вручную мелкими стежками «вперед игло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124000" y="3860640"/>
            <a:ext cx="3168720" cy="2379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292720" y="4292640"/>
            <a:ext cx="37083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2390760" cy="259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79280" y="692280"/>
            <a:ext cx="3313080" cy="2787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92360" y="1413000"/>
            <a:ext cx="54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нцирь игрушки сделан в технике лоскутного шитья «подушечка»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дробное описание работы смотри в Приложении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3141720"/>
            <a:ext cx="540072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выполнения всех блоков, наполните их набивкой, но не туго, сметайте и  сшейте их. Если необходимо, добавьте боковые треугольные вставки. Выкроите донышк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по выкройке предыдущей работы). Соедините донышко и панцирь черепа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5445000"/>
            <a:ext cx="55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блюдайте правила техники безопасности при работе с иглой и ножницам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2519280" cy="3024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132000" y="1052640"/>
            <a:ext cx="2914920" cy="2189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72360" y="1989000"/>
            <a:ext cx="2597040" cy="3457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8000" y="3645000"/>
            <a:ext cx="604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верните детали головы и лап, расправьте швы. Наполните детали набивкой, наметьте места, где пришить детали к панцирю. Пришейте детали потайным шв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оформления черепахи можно использовать аппликацию, вышивку, фурниту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формите вашу черепаху – в этом вам поможет ваша фантазия и неиссякаемое твор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етканый гобелен</a:t>
            </a:r>
            <a:br>
              <a:rPr sz="4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Приложение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4221000"/>
            <a:ext cx="48974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тянуть ткань на основу, перевести рисунок на ткань – в нашем случае используйте выкройку лоскутной черепахи (5-угольни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3311280" cy="2435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35146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3611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равьте нитку выбранного цвета в ковровую иг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3029040" cy="4035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284720" y="1197000"/>
            <a:ext cx="4608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олните контур детали выкройки. «Шаги» делайте небольшие, на расстоянии 1,5-3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16360" y="3068640"/>
            <a:ext cx="4035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4321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няя цвет нитей и высоту петли заполните пространство 5-уголь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4035240" cy="3029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219640" y="2060640"/>
            <a:ext cx="3456000" cy="302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6920" y="57340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наночная сторона 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5300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цевая сторона 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4038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огично заполните все 5-угольные детали черепаш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32360" y="620280"/>
            <a:ext cx="403848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наночную сторону слегка смажьте разведенным водой клеем П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2951280" cy="2703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700360" y="4005360"/>
            <a:ext cx="3024000" cy="2703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5013360"/>
            <a:ext cx="25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знаночная и лицевая стороны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9210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816360" cy="3733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932360" y="1700280"/>
            <a:ext cx="3816360" cy="3406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76720" y="51577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скиз творческой работы «Черепаха», выполненный в графическом редактор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еницы 6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5157720"/>
            <a:ext cx="216000" cy="10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484360" y="5084640"/>
            <a:ext cx="216000" cy="115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6308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ытачки заш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549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да все детали будут заполнены, сшейте вытачки. Получился панци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кроите донышко, голову и лапы черепахи (используйте выкройку мягкой игрушки), сшейте детали. Оформите вашу игрушк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512928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3446280" cy="4752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24360" y="1628640"/>
            <a:ext cx="4968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репаха – удивительное существо. Сколько преданий, мифов, сказок, рассказов создано о 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знакомьтесь с данным приложением, а также с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ложением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ложением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и вы узнаете много нового и интерес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458136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Желаю вам удивительного путешествия в мир черепах и творческого поле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Картинка 194 из 81873"/>
          <p:cNvPicPr/>
          <p:nvPr/>
        </p:nvPicPr>
        <p:blipFill>
          <a:blip r:embed="rId2"/>
          <a:srcRect l="0" t="20335" r="0" b="20292"/>
          <a:stretch/>
        </p:blipFill>
        <p:spPr>
          <a:xfrm>
            <a:off x="395280" y="765000"/>
            <a:ext cx="3063960" cy="2737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3573360"/>
            <a:ext cx="864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пахи – очень красивые и необычные живот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знаешь ли ты, что черепахи занесены в Красную Книгу? Это значит, что их осталось очень мало, и люди заботятся о том, чтобы черепахи совсем не исчезли. Во многих культурах черепаха – древнейший, окруженный особым почтением символ: с ней часто связывают начало творения и образ существа, поддерживающего мир. Панцирь черепахи – выступает образом неба и земли. Знаки на панцире черепахи с древности интерпретируются как некие письмена, несущие сокровенный смы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репаха – верный страж своего дома, символ хорошей хозяй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1700280"/>
            <a:ext cx="489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«Те, кто продвигаются медленно, но вер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Могут забраться далек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Это доказыва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Что хорошо быть терпеливы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от чего мы можем добиться трудолю6ие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Если мы еще и постоянны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4000" y="1557360"/>
            <a:ext cx="8642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о посетите сай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епах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собенно раздел «Мир черепах» http://cherepahi.ru/mir-cherepa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развлекательно-познавательный раздел сайта, он рассказывает о мифологии, о черепахах в литературе, кинематографии, искусстве, коллекционировании, а также о рецептах приготовления блюд в виде черепах, о том как самостоятельно сшить, связать, слепить, сделать из бисера или бумаги черепах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414972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7093080" y="3716280"/>
            <a:ext cx="1361880" cy="1523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7020000" y="5300640"/>
            <a:ext cx="1800000" cy="1395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500720" y="4076640"/>
            <a:ext cx="2089080" cy="1814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268360" y="4005360"/>
            <a:ext cx="1952640" cy="2149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4000" y="1557360"/>
            <a:ext cx="8642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о посетите сай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епах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собенно раздел «Мир черепах» http://cherepahi.ru/mir-cherepa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развлекательно-познавательный раздел сайта, он рассказывает о мифологии, о черепахах в литературе, кинематографии, искусстве, коллекционировании, а также о рецептах приготовления блюд в виде черепах, о том как самостоятельно сшить, связать, слепить, сделать из бисера или бумаги черепах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427640" y="3500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о на свете ходит в каменной рубахе? В каменной рубахе ходят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341360"/>
            <a:ext cx="293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ет домик по дорож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ет вдоль овраж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под ним четыре н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Картинка 9 из 172619"/>
          <p:cNvPicPr/>
          <p:nvPr/>
        </p:nvPicPr>
        <p:blipFill>
          <a:blip r:embed="rId2"/>
          <a:stretch/>
        </p:blipFill>
        <p:spPr>
          <a:xfrm>
            <a:off x="6804000" y="1197000"/>
            <a:ext cx="1920960" cy="19209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707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гадки о черепах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1916280"/>
            <a:ext cx="359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ет спокойно, не спеш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всякий случай носит щ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 ним, не зная страх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уляет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3357720"/>
            <a:ext cx="34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за чудо! Вот так чуд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ерху блюдо, снизу блюд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дит чудо по дорог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лова торчит да н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494172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за дом, странный 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 ни стен, ни окон в н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ько пол да пото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 еще две пары н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Картинка 398 из 172615"/>
          <p:cNvPicPr/>
          <p:nvPr/>
        </p:nvPicPr>
        <p:blipFill>
          <a:blip r:embed="rId3"/>
          <a:stretch/>
        </p:blipFill>
        <p:spPr>
          <a:xfrm>
            <a:off x="3203640" y="4076640"/>
            <a:ext cx="2047680" cy="137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515772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ё мудрость не забудеш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Тише ходишь, дальше будешь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Костяна" её рубах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зёт без страха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Картинка 873 из 8187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27640" y="2349360"/>
            <a:ext cx="3816360" cy="3052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5280" y="414972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250920" y="1484280"/>
            <a:ext cx="4895640" cy="41752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Львёнок и Черепаха пели песенк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580536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ппликация из с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презентации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новые рисун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hlinkClick r:id="rId2"/>
              </a:rPr>
              <a:t>http://900igr.net/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hlinkClick r:id="rId3"/>
              </a:rPr>
              <a:t>datas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hlinkClick r:id="rId5"/>
              </a:rPr>
              <a:t>literatura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hlinkClick r:id="rId7"/>
              </a:rPr>
              <a:t>Gabdulla-Tukaj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hlinkClick r:id="rId8"/>
              </a:rPr>
              <a:t>/0015-015-Gabdulla-Tukaj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hlinkClick r:id="rId9"/>
              </a:rPr>
              <a:t>http://img-fotki.yandex.ru/get/5112/44774248.f0/0_67782_10227f96_X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жения черепаш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 u="sng">
                <a:solidFill>
                  <a:srgbClr val="008000"/>
                </a:solidFill>
                <a:uFillTx/>
                <a:latin typeface="Arial"/>
                <a:hlinkClick r:id="rId10"/>
              </a:rPr>
              <a:t>http://file.mobilmusic.ru/de/67/2d/825698.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http://i022.radikal.ru/0804/6e/c93db85093f7.jpg, http://i3.imgbb.ru/img8/e/2/a/e2a71e22024785dc3f49a6c9199684b4_h.jpg, http://www.journals.ru/attach/215/21425/993689.jpg, http://s43.radikal.ru/i102/1002/54/f5ec6ddfe46c.jpg, http://img-fotki.yandex.ru/get/5310/119528728.d98/0_a4fd0_ef326f09_X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ru.wikipedia.org/wiki/%D7%E5%F0%E5%EF%E0%F5%E8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кипе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нциклопедия символов -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ymbolarium.ru/index.php/Черепа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материалы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37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стерска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95280" y="1413000"/>
            <a:ext cx="23763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ягкая игрушка «Черепашк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оскутная черепашка (пэчвор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репашка в технике нетканый гобел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4311720" cy="460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1944720" cy="1487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79280" y="4581360"/>
            <a:ext cx="2016360" cy="1587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79280" y="2708280"/>
            <a:ext cx="20178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Техника безопас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197000"/>
            <a:ext cx="8713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ТБ при работе с иголками и булав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Шейте с напёрст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Храните иголки и булавки в определённом месте (специальной коробке, подушечк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Запрещается брать иглу в рот, вкалывать ее в плать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Нельзя откусывать нитку зуб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Не пользуйтесь для шитья ржавой иголк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ТБ при работе с ножницам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Храните ножницы в определённом мес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Кладите их сомкнутыми остриями от себ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Нельзя держать ножницы острыми концами ввер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Передавать ножницы кольцами впер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ТБ при работе с утюг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Не оставляйте включённый утюг в сети без присмо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Включайте и выключайте утюг сухими ру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Ставьте утюг на асбестовую, мраморную или керамическую подстав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Следите за нормальной работой утюга, обо всех неисправностях сообщайте учител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Следите за тем, чтобы подошва утюга не касалась шну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Отключайте утюг только за вилку. В помещениях с бетонными полами во время утюжки обязательно стойте на резиновом коври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0" t="0" r="17514" b="0"/>
          <a:stretch/>
        </p:blipFill>
        <p:spPr>
          <a:xfrm>
            <a:off x="5435640" y="3284640"/>
            <a:ext cx="35290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87640" y="69228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териалы и инстру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916280"/>
            <a:ext cx="31687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ля изготовления мягкой игрушки и игрушки из лоскута нам понадоб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скуты х/б тка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усственный мех или дра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жницы, швейные булавки и иглы, нитки для шитья, портновский ме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блоны, выкрой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урнитура для игруш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риал для наби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1844640"/>
            <a:ext cx="345744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ля изготовления игрушки в технике нетканого гобелена нам понадобя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кань двунитка, бортов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а (подрамник или пяльц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тки вязаль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жницы, маркер, шабло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ей П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ла ковро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Рис.1. Игла "/>
          <p:cNvPicPr/>
          <p:nvPr/>
        </p:nvPicPr>
        <p:blipFill>
          <a:blip r:embed="rId2"/>
          <a:stretch/>
        </p:blipFill>
        <p:spPr>
          <a:xfrm>
            <a:off x="5796000" y="4941720"/>
            <a:ext cx="2724120" cy="65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419640" y="2781360"/>
            <a:ext cx="1838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Мягкая игрушка «Черепашка»</a:t>
            </a:r>
            <a:br>
              <a:rPr sz="4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Приложение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5256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ьте необходимый для работы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284720" y="2852640"/>
            <a:ext cx="4641840" cy="2638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302868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3970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кроите детали игрушки.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облюдайте правила ТБ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4035240" cy="3029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859280" y="5084640"/>
            <a:ext cx="3970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шейте петельным швом верхние детали панциря, убирая мех во внут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508720" y="765000"/>
            <a:ext cx="2625480" cy="1731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435640" y="2637000"/>
            <a:ext cx="2736720" cy="24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3640" y="4220640"/>
            <a:ext cx="447516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соедините боковые части панциря, пришейте донышко игрушки, оставив место для выворачивания и наби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92720" y="1628640"/>
            <a:ext cx="3313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шейте детали головы и л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4032000" cy="3646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859280" y="2924280"/>
            <a:ext cx="40356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88000" y="3933720"/>
            <a:ext cx="3994200" cy="2705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3600360" cy="2703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7280" y="2060280"/>
            <a:ext cx="5076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ейте детали синтепоном и соедините их потайными стежк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ормите вашу игрушку, проявив всю свою выдумку и фантаз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933720"/>
            <a:ext cx="432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ушка может быть выполнена из драпа. Так как детали лап достаточно мелкие, их можно соединить по лицевой стороне аккуратным петельным ш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508720" y="260280"/>
            <a:ext cx="19447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11:31:41Z</dcterms:created>
  <dc:creator>NATA</dc:creator>
  <dc:description/>
  <dc:language>en-US</dc:language>
  <cp:lastModifiedBy>NATA</cp:lastModifiedBy>
  <dcterms:modified xsi:type="dcterms:W3CDTF">2012-07-16T09:07:48Z</dcterms:modified>
  <cp:revision>52</cp:revision>
  <dc:subject/>
  <dc:title>Слайд 1</dc:title>
</cp:coreProperties>
</file>