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3.jpeg" ContentType="image/jpeg"/>
  <Override PartName="/ppt/media/image50.png" ContentType="image/png"/>
  <Override PartName="/ppt/media/image1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71B-7E9A-4AA3-8230-1CDBB028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2E5-8575-4CE2-B52C-D9FFBA6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BFC-CC84-4E68-8B37-9AF74831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DF3-71F3-4CB5-AA52-7F8F7568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B08-35F4-4A60-AE26-C3F212B5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A55-9060-4ACB-AB9D-937CD6E6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237-512F-4DE0-A006-EBD1CAD0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6EE-8495-4F8C-B05B-93C6998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9A8-0C95-470F-89BC-6DF2B98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2CA-75E2-4B24-B069-92992C9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72A-FC86-49A5-994F-AB2B1D8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E51-4F29-4F36-A4E6-ABF3B5C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27E9-A5CB-40F3-A971-731690C9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voyrebenok.ru/pasha-stihi.shtml" TargetMode="External"/><Relationship Id="rId3" Type="http://schemas.openxmlformats.org/officeDocument/2006/relationships/hyperlink" Target="http://www.tvoyrebenok.ru/pasha-stihi.shtml" TargetMode="External"/><Relationship Id="rId4" Type="http://schemas.openxmlformats.org/officeDocument/2006/relationships/hyperlink" Target="http://www.tvoyrebenok.ru/pasha-stihi.shtml" TargetMode="External"/><Relationship Id="rId5" Type="http://schemas.openxmlformats.org/officeDocument/2006/relationships/hyperlink" Target="http://www.tvoyrebenok.ru/pasha-stihi.shtml" TargetMode="External"/><Relationship Id="rId6" Type="http://schemas.openxmlformats.org/officeDocument/2006/relationships/hyperlink" Target="http://www.tvoyrebenok.ru/pasha-stihi.shtml" TargetMode="External"/><Relationship Id="rId7" Type="http://schemas.openxmlformats.org/officeDocument/2006/relationships/hyperlink" Target="http://www.tvoyrebenok.ru/pasha.shtml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380880"/>
            <a:ext cx="6324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асхальны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рафон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54100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Verdana"/>
              </a:rPr>
              <a:t>Автор проекта: Чупрова Валентина Максимовна - учитель технологии МОУ «Лицей №40» г. Петрозаводска 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190188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37360" cy="535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00200" y="762120"/>
            <a:ext cx="6200640" cy="527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455148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685800"/>
            <a:ext cx="7137360" cy="535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66756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71600" y="10098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58672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ff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шая школа</a:t>
            </a:r>
            <a:endParaRPr b="0" lang="en-US" sz="1800" spc="1" strike="noStrike">
              <a:ln w="9360">
                <a:solidFill>
                  <a:srgbClr val="6666cc"/>
                </a:solidFill>
                <a:miter/>
              </a:ln>
              <a:solidFill>
                <a:srgbClr val="ff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дарки к празднику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асхи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391320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00200" y="76212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e170a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здничные </a:t>
            </a:r>
            <a:endParaRPr b="0" lang="en-US" sz="1800" spc="1" strike="noStrike">
              <a:ln w="9360">
                <a:solidFill>
                  <a:srgbClr val="be170a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e170a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ятия</a:t>
            </a:r>
            <a:endParaRPr b="0" lang="en-US" sz="1800" spc="1" strike="noStrike">
              <a:ln w="9360">
                <a:solidFill>
                  <a:srgbClr val="be170a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5105520" cy="266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780000" cy="525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4840" y="838080"/>
            <a:ext cx="390672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858000" cy="536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467028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6883200" cy="543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4830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336852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30492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be170a"/>
                </a:solidFill>
                <a:latin typeface="Times New Roman"/>
              </a:rPr>
              <a:t>Выставк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be170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be170a"/>
                </a:solidFill>
                <a:latin typeface="Times New Roman"/>
              </a:rPr>
              <a:t>"Весеннее настроение"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be170a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29736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6019920"/>
            <a:ext cx="5715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a44dcb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ский сад</a:t>
            </a:r>
            <a:endParaRPr b="0" lang="en-US" sz="1800" spc="1" strike="noStrike">
              <a:ln w="9360">
                <a:solidFill>
                  <a:srgbClr val="6666cc"/>
                </a:solidFill>
                <a:miter/>
              </a:ln>
              <a:solidFill>
                <a:srgbClr val="a44dcb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1144440"/>
            <a:ext cx="6248520" cy="465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380880"/>
            <a:ext cx="5029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стреча птиц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1933560" cy="152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17220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98472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76720" y="91440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90920" y="533520"/>
            <a:ext cx="4432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838080"/>
            <a:ext cx="6172200" cy="511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489720" cy="46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5143680" cy="511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6908760" cy="518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685800"/>
            <a:ext cx="492444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00240" y="291960"/>
            <a:ext cx="5672160" cy="610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1520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756480" cy="5213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83280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6400800" cy="525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266688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Из страны далекой ласточки летят,</a:t>
            </a:r>
            <a:br>
              <a:rPr sz="2800"/>
            </a:b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Весело щебечут, людям говорят:</a:t>
            </a:r>
            <a:br>
              <a:rPr sz="2800"/>
            </a:b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"Люди, пробудитесь! К вам весна идет,</a:t>
            </a:r>
            <a:br>
              <a:rPr sz="2800"/>
            </a:b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А с весной - и Пасха радость вам нес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27480" cy="624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914400"/>
            <a:ext cx="5410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be1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voyrebeno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sha-stihi.shtml</a:t>
            </a: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асха</a:t>
            </a:r>
            <a:r>
              <a:rPr b="1" lang="ru-RU" sz="1800" spc="-1" strike="noStrike">
                <a:solidFill>
                  <a:srgbClr val="be1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/ Детские стихи к Пас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be1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Анимация. Картинки в янд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В презентации использованы авторские фотоматериалы, которые были созданы в процессе проведения праздничного мероприятия «Пасхальный марафон» в МОУ «Лицей №40» в марте- апреле 201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7061400" cy="529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4300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Радость весенних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раздников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28800" y="6019920"/>
            <a:ext cx="601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00a4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льная школа</a:t>
            </a:r>
            <a:endParaRPr b="0" lang="en-US" sz="1800" spc="1" strike="noStrike">
              <a:ln w="9360">
                <a:solidFill>
                  <a:srgbClr val="6666cc"/>
                </a:solidFill>
                <a:miter/>
              </a:ln>
              <a:solidFill>
                <a:srgbClr val="00a4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40040" y="1447920"/>
            <a:ext cx="300060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6933960" cy="508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756480" cy="506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4-29T16:3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