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3.jpeg" ContentType="image/jpeg"/>
  <Override PartName="/ppt/media/image50.png" ContentType="image/png"/>
  <Override PartName="/ppt/media/image12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7.jpeg" ContentType="image/jpeg"/>
  <Override PartName="/ppt/media/image38.jpeg" ContentType="image/jpe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23C-9C4A-4F36-84CE-C024FD4F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5C3-B473-44D7-8812-2EDCD31A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1FD-E896-4368-9D71-F7053A68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69D-AE14-4C91-8F23-E000664F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9E3-3063-4712-840B-7CACF56F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710-174D-408E-8D74-D9E33368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2F4-592A-42B5-9FDB-BB9F126C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E36-8325-4D18-A217-C506C872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0AAA-E37B-4F4E-B1E8-7EB750C5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9ED-A7A9-4558-AFE1-A6AA571B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5BF-21FE-4925-8DFC-BB56FE53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0DB-4439-435E-BBA1-392DEC4C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92F0-A515-40BC-9EFB-428F0B8B9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voyrebenok.ru/pasha-stihi.shtml" TargetMode="External"/><Relationship Id="rId3" Type="http://schemas.openxmlformats.org/officeDocument/2006/relationships/hyperlink" Target="http://www.tvoyrebenok.ru/pasha-stihi.shtml" TargetMode="External"/><Relationship Id="rId4" Type="http://schemas.openxmlformats.org/officeDocument/2006/relationships/hyperlink" Target="http://www.tvoyrebenok.ru/pasha-stihi.shtml" TargetMode="External"/><Relationship Id="rId5" Type="http://schemas.openxmlformats.org/officeDocument/2006/relationships/hyperlink" Target="http://www.tvoyrebenok.ru/pasha-stihi.shtml" TargetMode="External"/><Relationship Id="rId6" Type="http://schemas.openxmlformats.org/officeDocument/2006/relationships/hyperlink" Target="http://www.tvoyrebenok.ru/pasha-stihi.shtml" TargetMode="External"/><Relationship Id="rId7" Type="http://schemas.openxmlformats.org/officeDocument/2006/relationships/hyperlink" Target="http://www.tvoyrebenok.ru/pasha.shtml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62320" y="380880"/>
            <a:ext cx="63244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асхальный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рафон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541008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e170a"/>
                </a:solidFill>
                <a:latin typeface="Verdana"/>
              </a:rPr>
              <a:t>Автор проекта: Чупрова Валентина Максимовна - учитель технологии МОУ «Лицей №40» г. Петрозаводска Республики Кар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76520" y="2666880"/>
            <a:ext cx="1901880" cy="251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95280" y="762120"/>
            <a:ext cx="6908760" cy="518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7137360" cy="535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600200" y="762120"/>
            <a:ext cx="6200640" cy="527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371600" y="914400"/>
            <a:ext cx="660384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14600" y="533520"/>
            <a:ext cx="455148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95280" y="685800"/>
            <a:ext cx="7137360" cy="535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47920" y="914400"/>
            <a:ext cx="6667560" cy="515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6908760" cy="518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371600" y="1009800"/>
            <a:ext cx="6908760" cy="518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00200" y="586728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cc"/>
                  </a:solidFill>
                  <a:miter/>
                </a:ln>
                <a:solidFill>
                  <a:srgbClr val="ff292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ршая школа</a:t>
            </a:r>
            <a:endParaRPr b="0" lang="en-US" sz="1800" spc="1" strike="noStrike">
              <a:ln w="9360">
                <a:solidFill>
                  <a:srgbClr val="6666cc"/>
                </a:solidFill>
                <a:miter/>
              </a:ln>
              <a:solidFill>
                <a:srgbClr val="ff292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30492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Подарки к празднику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Пасхи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76720" y="1066680"/>
            <a:ext cx="3913200" cy="4648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600200" y="762120"/>
            <a:ext cx="6400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e170a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здничные </a:t>
            </a:r>
            <a:endParaRPr b="0" lang="en-US" sz="1800" spc="1" strike="noStrike">
              <a:ln w="9360">
                <a:solidFill>
                  <a:srgbClr val="be170a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e170a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нятия</a:t>
            </a:r>
            <a:endParaRPr b="0" lang="en-US" sz="1800" spc="1" strike="noStrike">
              <a:ln w="9360">
                <a:solidFill>
                  <a:srgbClr val="be170a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5105520" cy="2665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6680160" cy="501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800600" y="838080"/>
            <a:ext cx="3780000" cy="5257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74840" y="838080"/>
            <a:ext cx="3906720" cy="525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16292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6858000" cy="536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0" y="457200"/>
            <a:ext cx="467028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47920" y="762120"/>
            <a:ext cx="6883200" cy="543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483000" cy="4876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90720" y="914400"/>
            <a:ext cx="336852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43000" y="304920"/>
            <a:ext cx="6858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be170a"/>
                </a:solidFill>
                <a:latin typeface="Times New Roman"/>
              </a:rPr>
              <a:t>Выставка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be170a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be170a"/>
                </a:solidFill>
                <a:latin typeface="Times New Roman"/>
              </a:rPr>
              <a:t>"Весеннее настроение"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be170a"/>
              </a:solidFill>
              <a:latin typeface="Times New Roman"/>
              <a:ea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038480" y="1752480"/>
            <a:ext cx="297360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828800" y="6019920"/>
            <a:ext cx="5715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cc"/>
                  </a:solidFill>
                  <a:miter/>
                </a:ln>
                <a:solidFill>
                  <a:srgbClr val="a44dcb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тский сад</a:t>
            </a:r>
            <a:endParaRPr b="0" lang="en-US" sz="1800" spc="1" strike="noStrike">
              <a:ln w="9360">
                <a:solidFill>
                  <a:srgbClr val="6666cc"/>
                </a:solidFill>
                <a:miter/>
              </a:ln>
              <a:solidFill>
                <a:srgbClr val="a44dcb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1144440"/>
            <a:ext cx="6248520" cy="4653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33520" y="380880"/>
            <a:ext cx="5029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Встреча птиц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858000" y="762120"/>
            <a:ext cx="1933560" cy="1523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6172200" cy="4657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6680160" cy="501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6984720" cy="523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76720" y="914400"/>
            <a:ext cx="400032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90920" y="533520"/>
            <a:ext cx="443232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828800" y="838080"/>
            <a:ext cx="6172200" cy="5116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00200" y="762120"/>
            <a:ext cx="6489720" cy="466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09680" y="685800"/>
            <a:ext cx="5143680" cy="511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43000" y="838080"/>
            <a:ext cx="6908760" cy="5181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14600" y="685800"/>
            <a:ext cx="492444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838080"/>
            <a:ext cx="6680160" cy="501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00240" y="291960"/>
            <a:ext cx="5672160" cy="610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7315200" cy="500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6756480" cy="5213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6680160" cy="501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6832800" cy="512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47920" y="685800"/>
            <a:ext cx="6400800" cy="525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2666880"/>
            <a:ext cx="525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170a"/>
                </a:solidFill>
                <a:latin typeface="Comic Sans MS"/>
              </a:rPr>
              <a:t>Из страны далекой ласточки летят,</a:t>
            </a:r>
            <a:br>
              <a:rPr sz="2800"/>
            </a:br>
            <a:r>
              <a:rPr b="0" lang="en-US" sz="2800" spc="-1" strike="noStrike">
                <a:solidFill>
                  <a:srgbClr val="be170a"/>
                </a:solidFill>
                <a:latin typeface="Comic Sans MS"/>
              </a:rPr>
              <a:t>Весело щебечут, людям говорят:</a:t>
            </a:r>
            <a:br>
              <a:rPr sz="2800"/>
            </a:br>
            <a:r>
              <a:rPr b="0" lang="en-US" sz="2800" spc="-1" strike="noStrike">
                <a:solidFill>
                  <a:srgbClr val="be170a"/>
                </a:solidFill>
                <a:latin typeface="Comic Sans MS"/>
              </a:rPr>
              <a:t>"Люди, пробудитесь! К вам весна идет,</a:t>
            </a:r>
            <a:br>
              <a:rPr sz="2800"/>
            </a:br>
            <a:r>
              <a:rPr b="0" lang="en-US" sz="2800" spc="-1" strike="noStrike">
                <a:solidFill>
                  <a:srgbClr val="be170a"/>
                </a:solidFill>
                <a:latin typeface="Comic Sans MS"/>
              </a:rPr>
              <a:t>А с весной - и Пасха радость вам нес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228600"/>
            <a:ext cx="4227480" cy="6248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914400"/>
            <a:ext cx="54104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e170a"/>
                </a:solidFill>
                <a:latin typeface="Arial"/>
              </a:rPr>
              <a:t>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be17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tvoyrebenok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asha-stihi.shtml</a:t>
            </a:r>
            <a:r>
              <a:rPr b="0" lang="ru-RU" sz="1800" spc="-1" strike="noStrike">
                <a:solidFill>
                  <a:srgbClr val="be170a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Пасха</a:t>
            </a:r>
            <a:r>
              <a:rPr b="1" lang="ru-RU" sz="1800" spc="-1" strike="noStrike">
                <a:solidFill>
                  <a:srgbClr val="be170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be170a"/>
                </a:solidFill>
                <a:latin typeface="Arial"/>
              </a:rPr>
              <a:t>/ Детские стихи к Пас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be17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e170a"/>
                </a:solidFill>
                <a:latin typeface="Arial"/>
              </a:rPr>
              <a:t>Анимация. Картинки в янде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e170a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be170a"/>
                </a:solidFill>
                <a:latin typeface="Arial"/>
              </a:rPr>
              <a:t>В презентации использованы авторские фотоматериалы, которые были созданы в процессе проведения праздничного мероприятия «Пасхальный марафон» в МОУ «Лицей №40» в марте- апреле 2012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95280" y="762120"/>
            <a:ext cx="7061400" cy="529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143000" y="30492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Радость весенних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праздников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28800" y="6019920"/>
            <a:ext cx="6019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cc"/>
                  </a:solidFill>
                  <a:miter/>
                </a:ln>
                <a:solidFill>
                  <a:srgbClr val="00a4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чальная школа</a:t>
            </a:r>
            <a:endParaRPr b="0" lang="en-US" sz="1800" spc="1" strike="noStrike">
              <a:ln w="9360">
                <a:solidFill>
                  <a:srgbClr val="6666cc"/>
                </a:solidFill>
                <a:miter/>
              </a:ln>
              <a:solidFill>
                <a:srgbClr val="00a4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740040" y="1447920"/>
            <a:ext cx="3000600" cy="3886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838080"/>
            <a:ext cx="6933960" cy="508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95280" y="76212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371600" y="914400"/>
            <a:ext cx="6756480" cy="506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2-04-29T16:38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