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36.jpeg" ContentType="image/jpeg"/>
  <Override PartName="/ppt/media/image20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831-DA8E-4DD3-B8DE-DBED7E7F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411-6CE7-42D6-87EF-5F0B9AD6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130-0691-4986-9C5A-A424DB18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83A-4B97-4F0E-A4EA-22BFA833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6BE-75DA-4315-A10F-B9AFE638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F4B-C2D6-4D6F-BA43-F2E54DBD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F3F-4E28-415A-907A-21FF3F20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420-E02C-4341-9815-A494D030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854-0475-4A3A-B18D-BB67B45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717-FD66-49DB-BA75-F7AB993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1AA-EB5B-4625-9B36-D33312E7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E43-97E8-4783-B967-59710DF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F3B9-CD7F-40E7-B971-F005F9060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zazell.com/wp-content/uploads/2010/03/0rv7ymspwe04rb9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grushka.kz/vip80/pas1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otohost.ru/t/600/400/25035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attach/c/2/73/639/73639551_4098761_l_12090647_1_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kuharka.ru/_foto/img/1112994516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dfon.ru/image/133923-800x600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static2.gooddays.ru/photos/0008/1294/j104589_12373596811_preview.jpg?1303631395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g15.nnm.ru/7/5/b/b/3/b2b5f33480c2b38c7c99b821610_prev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rozhdeniem.ru/assets/images/4aprel/1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farm1.static.flickr.com/49/129107480_1589c0f058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g1.liveinternet.ru/images/attach/c/2/73/538/73538441_3925073_1117734103938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4 из 1682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5867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собы декорирования яиц на пасх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9560" y="3809520"/>
            <a:ext cx="28191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ахомова Ольга Викторо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учитель технологии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МБОУ гимназия  имени Ф.К. Салманова г. Сургу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декорирования яйца в технике «Квиллинг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266720" y="1599840"/>
            <a:ext cx="44197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работы нам необходимо: линейка – шаблоны, цветная бумага, клей, ножницы, зубочистки, пластмассовое яйцо, клей-пистолет, клей П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66720" y="4038480"/>
            <a:ext cx="403884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заем бумагу на полоски шириной 5-10 мм и скручиваем с помощью зубочистки в рол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2" descr="C:\Users\Роман\AppData\Local\Microsoft\Windows\Temporary Internet Files\Content.Word\DSCF3696.jpg"/>
          <p:cNvPicPr/>
          <p:nvPr/>
        </p:nvPicPr>
        <p:blipFill>
          <a:blip r:embed="rId1"/>
          <a:stretch/>
        </p:blipFill>
        <p:spPr>
          <a:xfrm>
            <a:off x="685800" y="1600200"/>
            <a:ext cx="2852640" cy="1603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C:\Users\Роман\AppData\Local\Microsoft\Windows\Temporary Internet Files\Content.Word\DSCF3699.jpg"/>
          <p:cNvPicPr/>
          <p:nvPr/>
        </p:nvPicPr>
        <p:blipFill>
          <a:blip r:embed="rId2"/>
          <a:stretch/>
        </p:blipFill>
        <p:spPr>
          <a:xfrm>
            <a:off x="685800" y="3809880"/>
            <a:ext cx="28195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9880" y="837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аметр роллов делаем  5-10 м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0" y="281916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клеиваем клеем ПВ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5181480"/>
            <a:ext cx="40384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ся работа будет состоять из одинаковых роллов , сформированных в форме «капля»- это листик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2" descr="C:\Users\Роман\AppData\Local\Microsoft\Windows\Temporary Internet Files\Content.Word\DSCF3701.jpg"/>
          <p:cNvPicPr/>
          <p:nvPr/>
        </p:nvPicPr>
        <p:blipFill>
          <a:blip r:embed="rId1"/>
          <a:stretch/>
        </p:blipFill>
        <p:spPr>
          <a:xfrm>
            <a:off x="762120" y="685800"/>
            <a:ext cx="2747880" cy="1542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C:\Users\Роман\AppData\Local\Microsoft\Windows\Temporary Internet Files\Content.Word\DSCF3703.jpg"/>
          <p:cNvPicPr/>
          <p:nvPr/>
        </p:nvPicPr>
        <p:blipFill>
          <a:blip r:embed="rId2"/>
          <a:stretch/>
        </p:blipFill>
        <p:spPr>
          <a:xfrm>
            <a:off x="762120" y="2514600"/>
            <a:ext cx="28191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C:\Users\Роман\AppData\Local\Microsoft\Windows\Temporary Internet Files\Content.Word\DSCF3707.jpg"/>
          <p:cNvPicPr/>
          <p:nvPr/>
        </p:nvPicPr>
        <p:blipFill>
          <a:blip r:embed="rId3"/>
          <a:stretch/>
        </p:blipFill>
        <p:spPr>
          <a:xfrm>
            <a:off x="838080" y="480060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43040" y="8377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клеивания яйца необходимо сделать листочки разные по цвет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0" y="2666520"/>
            <a:ext cx="4038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будем  склеивать цветы из полученных лист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4800600"/>
            <a:ext cx="40384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аются вот такие замечательные и разноцветные цве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C:\Users\Роман\AppData\Local\Microsoft\Windows\Temporary Internet Files\Content.Word\DSCF3702.jpg"/>
          <p:cNvPicPr/>
          <p:nvPr/>
        </p:nvPicPr>
        <p:blipFill>
          <a:blip r:embed="rId1"/>
          <a:stretch/>
        </p:blipFill>
        <p:spPr>
          <a:xfrm>
            <a:off x="609480" y="609480"/>
            <a:ext cx="297180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C:\Users\Роман\AppData\Local\Microsoft\Windows\Temporary Internet Files\Content.Word\DSCF3708.jpg"/>
          <p:cNvPicPr/>
          <p:nvPr/>
        </p:nvPicPr>
        <p:blipFill>
          <a:blip r:embed="rId2"/>
          <a:srcRect l="0" t="0" r="-231" b="0"/>
          <a:stretch/>
        </p:blipFill>
        <p:spPr>
          <a:xfrm>
            <a:off x="609480" y="2666880"/>
            <a:ext cx="297180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C:\Users\Роман\AppData\Local\Microsoft\Windows\Temporary Internet Files\Content.Word\DSCF3710.jpg"/>
          <p:cNvPicPr/>
          <p:nvPr/>
        </p:nvPicPr>
        <p:blipFill>
          <a:blip r:embed="rId3"/>
          <a:stretch/>
        </p:blipFill>
        <p:spPr>
          <a:xfrm>
            <a:off x="609480" y="4800600"/>
            <a:ext cx="2971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1120" y="11426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ующим этапом начинаем оклеивать яйцо с помощью термоклея, равномерно распределяя их по поверх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114440" y="3962160"/>
            <a:ext cx="44197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олняем композицию бусинами. Продумываем  подставку под яйцо  и наш сувенир на Пасху гот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C:\Users\Роман\AppData\Local\Microsoft\Windows\Temporary Internet Files\Content.Word\DSCF3712.jpg"/>
          <p:cNvPicPr/>
          <p:nvPr/>
        </p:nvPicPr>
        <p:blipFill>
          <a:blip r:embed="rId1"/>
          <a:stretch/>
        </p:blipFill>
        <p:spPr>
          <a:xfrm>
            <a:off x="838080" y="838080"/>
            <a:ext cx="3149640" cy="1770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C:\Users\Роман\AppData\Local\Microsoft\Windows\Temporary Internet Files\Content.Word\DSCF3733.jpg"/>
          <p:cNvPicPr/>
          <p:nvPr/>
        </p:nvPicPr>
        <p:blipFill>
          <a:blip r:embed="rId2"/>
          <a:stretch/>
        </p:blipFill>
        <p:spPr>
          <a:xfrm>
            <a:off x="1447920" y="3352680"/>
            <a:ext cx="1724040" cy="24735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C:\Users\Роман\AppData\Local\Microsoft\Windows\Temporary Internet Files\Content.Word\DSCF3733.jpg"/>
          <p:cNvPicPr/>
          <p:nvPr/>
        </p:nvPicPr>
        <p:blipFill>
          <a:blip r:embed="rId3"/>
          <a:stretch/>
        </p:blipFill>
        <p:spPr>
          <a:xfrm>
            <a:off x="1447920" y="3352680"/>
            <a:ext cx="17240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560" y="762120"/>
            <a:ext cx="464796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давних времен хранится в Православной Церкви благочестивый обычай дарить в праздник Пасхи яйца. Этот обычай произошел от святой равноапостольной Марии Магдалины, когда она, по Вознесении Господнем, пришла в Рим для проповеди Евангелия, предстала пред императором Тиверием и, поднеся ему красное яйцо, сказала: "Христос воскресе!" начиная таким образом свою проповедь. По примеру равноапостольной Марии Магдалины мы теперь дарим в Пасху красные яйца, исповедуя животворящую смерть и Воскресения Господа - два события, которые Пасха соединяет в себ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Картинка 94 из 168238"/>
          <p:cNvPicPr/>
          <p:nvPr/>
        </p:nvPicPr>
        <p:blipFill>
          <a:blip r:embed="rId1"/>
          <a:stretch/>
        </p:blipFill>
        <p:spPr>
          <a:xfrm>
            <a:off x="5638680" y="1219320"/>
            <a:ext cx="3054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Картинка 257 из 168242"/>
          <p:cNvPicPr/>
          <p:nvPr/>
        </p:nvPicPr>
        <p:blipFill>
          <a:blip r:embed="rId1"/>
          <a:stretch/>
        </p:blipFill>
        <p:spPr>
          <a:xfrm>
            <a:off x="6019920" y="3581280"/>
            <a:ext cx="2417760" cy="289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www.baby.ru/storage/8/e/f/2/1975679.323567.jpeg"/>
          <p:cNvPicPr/>
          <p:nvPr/>
        </p:nvPicPr>
        <p:blipFill>
          <a:blip r:embed="rId2"/>
          <a:stretch/>
        </p:blipFill>
        <p:spPr>
          <a:xfrm>
            <a:off x="914400" y="1219320"/>
            <a:ext cx="3705120" cy="3504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790960"/>
            <a:ext cx="47246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уемые ресурсы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tranamasterov.ru/node/131163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1143000" y="609480"/>
            <a:ext cx="7162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те  обратимся к настоящему времени и бросим беглый взгляд на празднование "велика дня" на Матушке-Руси. При пении тропаря просветимся торжеством, и друг друга обнимем, начинается троекратное лобызанье и приветствие друг друга словами "Христос Воскресе" и ответным "Воистину Воскресе", причем отдаривают друг друга яйцами, называемые в зависимости от способа окраски: расписные – “писанками", крашеные – “крашенками". Отличие их в том, что для крашенки использовали вареные яйца, которые потом съедались, а для писанок – сырые и обязательно оплодотворенные. Позднее появились яйца из дерева (их называли “яйчатами"), фарфора, серебра, с украшениями из эмали, бисера, драгоценных камней. Способов окраски яиц множество, в них традиции переплетаются с фантазией, выдумкой исполнителей. Особенным уважением пользуется в народе пасхальное яйцо, полученное первым: оно обладает способностью открывать нечистую силу, оно никогда не испортится до следующего года. Разумеется, речь идет о тех яйцах, что изготавливаются из дерева и камня, стекла, хрусталя и фарфора и предназначены для хранения в “красном углу" – перед иконами и лампа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grushka.kz/vip80/pa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3623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http://img0.liveinternet.ru/images/attach/c/1/57/172/57172737_1270014452_42079004_a01700e977c1.jpg"/>
          <p:cNvPicPr/>
          <p:nvPr/>
        </p:nvPicPr>
        <p:blipFill>
          <a:blip r:embed="rId3"/>
          <a:stretch/>
        </p:blipFill>
        <p:spPr>
          <a:xfrm>
            <a:off x="4876920" y="1828800"/>
            <a:ext cx="3367080" cy="288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некоторые способы декорирования яиц на пасх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7760" y="53341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леивание яиц зернами, крупой, бисе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можно украсить яйца лентами, тесьмой или круже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Картинка 297 из 168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828800"/>
            <a:ext cx="2666880" cy="267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Картинка 5 из 33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981080"/>
            <a:ext cx="288612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Картинка 21 из 334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9880" y="4343400"/>
            <a:ext cx="2819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307 из 1682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2590560" cy="193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артинка 338 из 1682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191120"/>
            <a:ext cx="3124080" cy="2338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Картинка 343 из 16825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1770120"/>
            <a:ext cx="2666880" cy="1996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можно расписывать крас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Картинка 462 из 1682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905120"/>
            <a:ext cx="3057480" cy="380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а 293 из 1682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1911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654 из 16825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2438280"/>
            <a:ext cx="2209680" cy="2946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 оплетенные бисе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Картинка 989 из 168238"/>
          <p:cNvPicPr/>
          <p:nvPr/>
        </p:nvPicPr>
        <p:blipFill>
          <a:blip r:embed="rId7"/>
          <a:stretch/>
        </p:blipFill>
        <p:spPr>
          <a:xfrm>
            <a:off x="4038480" y="1752480"/>
            <a:ext cx="1789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артинка 707 из 168249"/>
          <p:cNvPicPr/>
          <p:nvPr/>
        </p:nvPicPr>
        <p:blipFill>
          <a:blip r:embed="rId1"/>
          <a:stretch/>
        </p:blipFill>
        <p:spPr>
          <a:xfrm>
            <a:off x="533520" y="3276720"/>
            <a:ext cx="2431800" cy="3031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йца можно декорировать  в технике "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упаж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Картинка 16 из 6358"/>
          <p:cNvPicPr/>
          <p:nvPr/>
        </p:nvPicPr>
        <p:blipFill>
          <a:blip r:embed="rId2"/>
          <a:stretch/>
        </p:blipFill>
        <p:spPr>
          <a:xfrm>
            <a:off x="3429000" y="2057400"/>
            <a:ext cx="1981080" cy="285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Картинка 24 из 6355"/>
          <p:cNvPicPr/>
          <p:nvPr/>
        </p:nvPicPr>
        <p:blipFill>
          <a:blip r:embed="rId3"/>
          <a:stretch/>
        </p:blipFill>
        <p:spPr>
          <a:xfrm>
            <a:off x="5791320" y="3276720"/>
            <a:ext cx="2674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, которые получились у на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Users\Роман\Desktop\DSCF3611.JPG"/>
          <p:cNvPicPr/>
          <p:nvPr/>
        </p:nvPicPr>
        <p:blipFill>
          <a:blip r:embed="rId1"/>
          <a:stretch/>
        </p:blipFill>
        <p:spPr>
          <a:xfrm>
            <a:off x="4267080" y="3962520"/>
            <a:ext cx="1676520" cy="2485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Роман\Desktop\DSCF3550.JPG"/>
          <p:cNvPicPr/>
          <p:nvPr/>
        </p:nvPicPr>
        <p:blipFill>
          <a:blip r:embed="rId2"/>
          <a:stretch/>
        </p:blipFill>
        <p:spPr>
          <a:xfrm>
            <a:off x="1295280" y="4191120"/>
            <a:ext cx="238608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Роман\Desktop\DSCF3537.JPG"/>
          <p:cNvPicPr/>
          <p:nvPr/>
        </p:nvPicPr>
        <p:blipFill>
          <a:blip r:embed="rId3"/>
          <a:stretch/>
        </p:blipFill>
        <p:spPr>
          <a:xfrm>
            <a:off x="6858000" y="3886200"/>
            <a:ext cx="1600200" cy="253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C:\Users\Роман\Desktop\DSCF3723.JPG"/>
          <p:cNvPicPr/>
          <p:nvPr/>
        </p:nvPicPr>
        <p:blipFill>
          <a:blip r:embed="rId4"/>
          <a:stretch/>
        </p:blipFill>
        <p:spPr>
          <a:xfrm rot="15552600">
            <a:off x="120960" y="1724040"/>
            <a:ext cx="2784600" cy="1932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C:\Users\Роман\AppData\Local\Microsoft\Windows\Temporary Internet Files\Content.Word\DSCF3586.jpg"/>
          <p:cNvPicPr/>
          <p:nvPr/>
        </p:nvPicPr>
        <p:blipFill>
          <a:blip r:embed="rId5"/>
          <a:stretch/>
        </p:blipFill>
        <p:spPr>
          <a:xfrm>
            <a:off x="3200400" y="1828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C:\Users\Роман\Desktop\DSCF3576.JPG"/>
          <p:cNvPicPr/>
          <p:nvPr/>
        </p:nvPicPr>
        <p:blipFill>
          <a:blip r:embed="rId6"/>
          <a:stretch/>
        </p:blipFill>
        <p:spPr>
          <a:xfrm rot="17240400">
            <a:off x="5421960" y="1725840"/>
            <a:ext cx="27954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C:\Users\4CFA~1\AppData\Local\Temp\Rar$DI08.398\20120428_095602.jpg"/>
          <p:cNvPicPr/>
          <p:nvPr/>
        </p:nvPicPr>
        <p:blipFill>
          <a:blip r:embed="rId1"/>
          <a:stretch/>
        </p:blipFill>
        <p:spPr>
          <a:xfrm>
            <a:off x="304920" y="685800"/>
            <a:ext cx="2954160" cy="26478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C:\Users\4CFA~1\AppData\Local\Temp\Rar$DI00.339\20120428_095457.jpg"/>
          <p:cNvPicPr/>
          <p:nvPr/>
        </p:nvPicPr>
        <p:blipFill>
          <a:blip r:embed="rId2"/>
          <a:stretch/>
        </p:blipFill>
        <p:spPr>
          <a:xfrm rot="6640800">
            <a:off x="6578280" y="4448160"/>
            <a:ext cx="254628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C:\Users\Роман\AppData\Local\Microsoft\Windows\Temporary Internet Files\Content.Word\DSCF3739.jpg"/>
          <p:cNvPicPr/>
          <p:nvPr/>
        </p:nvPicPr>
        <p:blipFill>
          <a:blip r:embed="rId3"/>
          <a:stretch/>
        </p:blipFill>
        <p:spPr>
          <a:xfrm rot="14839200">
            <a:off x="820440" y="4220640"/>
            <a:ext cx="2151000" cy="189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C:\Users\Роман\AppData\Local\Microsoft\Windows\Temporary Internet Files\Content.Word\DSCF3735.jpg"/>
          <p:cNvPicPr/>
          <p:nvPr/>
        </p:nvPicPr>
        <p:blipFill>
          <a:blip r:embed="rId4"/>
          <a:stretch/>
        </p:blipFill>
        <p:spPr>
          <a:xfrm>
            <a:off x="3505320" y="53352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C:\Users\Роман\AppData\Local\Microsoft\Windows\Temporary Internet Files\Content.Word\DSCF3741.jpg"/>
          <p:cNvPicPr/>
          <p:nvPr/>
        </p:nvPicPr>
        <p:blipFill>
          <a:blip r:embed="rId5"/>
          <a:stretch/>
        </p:blipFill>
        <p:spPr>
          <a:xfrm rot="16544400">
            <a:off x="6363720" y="1081080"/>
            <a:ext cx="2471400" cy="1854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C:\Users\Роман\AppData\Local\Microsoft\Windows\Temporary Internet Files\Content.Word\DSCF3574.jpg"/>
          <p:cNvPicPr/>
          <p:nvPr/>
        </p:nvPicPr>
        <p:blipFill>
          <a:blip r:embed="rId6"/>
          <a:stretch/>
        </p:blipFill>
        <p:spPr>
          <a:xfrm>
            <a:off x="5257800" y="36576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C:\Users\Роман\AppData\Local\Microsoft\Windows\Temporary Internet Files\Content.Word\DSCF3733.jpg"/>
          <p:cNvPicPr/>
          <p:nvPr/>
        </p:nvPicPr>
        <p:blipFill>
          <a:blip r:embed="rId7"/>
          <a:stretch/>
        </p:blipFill>
        <p:spPr>
          <a:xfrm>
            <a:off x="3200400" y="3657600"/>
            <a:ext cx="17240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3:22:34Z</dcterms:created>
  <dc:creator>Роман</dc:creator>
  <dc:description/>
  <dc:language>en-US</dc:language>
  <cp:lastModifiedBy>User</cp:lastModifiedBy>
  <dcterms:modified xsi:type="dcterms:W3CDTF">2012-05-07T05:46:52Z</dcterms:modified>
  <cp:revision>30</cp:revision>
  <dc:subject/>
  <dc:title>Способы декорирования яиц на пасху</dc:title>
</cp:coreProperties>
</file>