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CF2D-00EE-43D0-9C6D-574C6A45F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532E-27CA-4778-8348-6ED532CE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5E4B-0067-4B63-B7C8-A37DEC276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5018-5895-4942-927C-DF5724A6A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05A5-4B75-40C5-A6CE-6CE86A2C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61FB-CF2B-4986-8CB5-73E800E3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B055-705B-4202-AA5D-532DBA45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8AEA-4275-417E-9513-ADFBED53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8DFC-2400-46CB-8ED4-63B4A56A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B95D-2A2A-4957-82AA-EADE8DD8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665C-C0A6-442E-8826-F50CACBE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BFBA-0A5F-4D6F-A086-ACD6A9B8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5083-7E8A-4E14-AB8D-5903B628DB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6.pn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Monotype Corsiva"/>
              </a:rPr>
              <a:t>Пасхальный торт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7" descr="DSC02875.JPG"/>
          <p:cNvPicPr/>
          <p:nvPr/>
        </p:nvPicPr>
        <p:blipFill>
          <a:blip r:embed="rId1"/>
          <a:stretch/>
        </p:blipFill>
        <p:spPr>
          <a:xfrm>
            <a:off x="476280" y="1316160"/>
            <a:ext cx="4003560" cy="5097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64832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Разработала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Учитель технологии первой квалификационной категори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Брянцева Кунсула Хусаиновн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Город Екатеринбург . МБОУ Лицей № 100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Срезать лишнее, сверху обмазать взбитыми сливк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DSC02871.JPG"/>
          <p:cNvPicPr/>
          <p:nvPr/>
        </p:nvPicPr>
        <p:blipFill>
          <a:blip r:embed="rId1"/>
          <a:stretch/>
        </p:blipFill>
        <p:spPr>
          <a:xfrm>
            <a:off x="395280" y="1600200"/>
            <a:ext cx="820908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Приготовить украшения из сахарной мастики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DSC02872.JPG"/>
          <p:cNvPicPr/>
          <p:nvPr/>
        </p:nvPicPr>
        <p:blipFill>
          <a:blip r:embed="rId1"/>
          <a:stretch/>
        </p:blipFill>
        <p:spPr>
          <a:xfrm>
            <a:off x="468360" y="1773360"/>
            <a:ext cx="82072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При помощи различных кулинарных форм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3" descr="DSC02873.JPG"/>
          <p:cNvPicPr/>
          <p:nvPr/>
        </p:nvPicPr>
        <p:blipFill>
          <a:blip r:embed="rId1"/>
          <a:stretch/>
        </p:blipFill>
        <p:spPr>
          <a:xfrm>
            <a:off x="468360" y="1197000"/>
            <a:ext cx="82072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Украшаем мелкими цветочками (ромашки, фиалки и т.д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3" descr="DSC05884.JPG"/>
          <p:cNvPicPr/>
          <p:nvPr/>
        </p:nvPicPr>
        <p:blipFill>
          <a:blip r:embed="rId1"/>
          <a:stretch/>
        </p:blipFill>
        <p:spPr>
          <a:xfrm>
            <a:off x="468360" y="1600200"/>
            <a:ext cx="813600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Получились вот такие красивые фиалки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3" descr="DSC05885.JPG"/>
          <p:cNvPicPr/>
          <p:nvPr/>
        </p:nvPicPr>
        <p:blipFill>
          <a:blip r:embed="rId1"/>
          <a:stretch/>
        </p:blipFill>
        <p:spPr>
          <a:xfrm>
            <a:off x="468360" y="1600200"/>
            <a:ext cx="8280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Далее украшаем верхнюю часть «яйца», большими листьями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3" descr="DSC05882.JPG"/>
          <p:cNvPicPr/>
          <p:nvPr/>
        </p:nvPicPr>
        <p:blipFill>
          <a:blip r:embed="rId1"/>
          <a:stretch/>
        </p:blipFill>
        <p:spPr>
          <a:xfrm>
            <a:off x="395280" y="1600200"/>
            <a:ext cx="82803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Monotype Corsiva"/>
              </a:rPr>
              <a:t>Рисуем  веточки растопленным шоколадом , при помощи кондитерских мешочков. (можно из целлофановых мешочков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DSC05887.JPG"/>
          <p:cNvPicPr/>
          <p:nvPr/>
        </p:nvPicPr>
        <p:blipFill>
          <a:blip r:embed="rId1"/>
          <a:stretch/>
        </p:blipFill>
        <p:spPr>
          <a:xfrm>
            <a:off x="539640" y="1600200"/>
            <a:ext cx="80647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Начинаем украшать цветочками, листочками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Фантазируйте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3" descr="DSC05890.JPG"/>
          <p:cNvPicPr/>
          <p:nvPr/>
        </p:nvPicPr>
        <p:blipFill>
          <a:blip r:embed="rId1"/>
          <a:stretch/>
        </p:blipFill>
        <p:spPr>
          <a:xfrm>
            <a:off x="539640" y="1600200"/>
            <a:ext cx="799308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Вид сверх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Содержимое 3" descr="DSC05893.JPG"/>
          <p:cNvPicPr/>
          <p:nvPr/>
        </p:nvPicPr>
        <p:blipFill>
          <a:blip r:embed="rId1"/>
          <a:stretch/>
        </p:blipFill>
        <p:spPr>
          <a:xfrm>
            <a:off x="468360" y="1600200"/>
            <a:ext cx="806436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С праздником Светлой Пасхи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DSC02874.JPG"/>
          <p:cNvPicPr/>
          <p:nvPr/>
        </p:nvPicPr>
        <p:blipFill>
          <a:blip r:embed="rId1"/>
          <a:stretch/>
        </p:blipFill>
        <p:spPr>
          <a:xfrm>
            <a:off x="2627280" y="1600200"/>
            <a:ext cx="3641760" cy="47084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пасхальные яйца картинки 1.jpeg"/>
          <p:cNvPicPr/>
          <p:nvPr/>
        </p:nvPicPr>
        <p:blipFill>
          <a:blip r:embed="rId2"/>
          <a:stretch/>
        </p:blipFill>
        <p:spPr>
          <a:xfrm>
            <a:off x="468360" y="3213000"/>
            <a:ext cx="1787400" cy="11746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5" descr="кулич.jpg"/>
          <p:cNvPicPr/>
          <p:nvPr/>
        </p:nvPicPr>
        <p:blipFill>
          <a:blip r:embed="rId3"/>
          <a:stretch/>
        </p:blipFill>
        <p:spPr>
          <a:xfrm>
            <a:off x="6732720" y="3314880"/>
            <a:ext cx="1726920" cy="112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Пасхальная трапе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В течение Великой Субботы и после пасхального богослужения в храмах освещают куличи, творожные пасхи, яйца и все, что приготовлено к праздничному столу  для разговения после Великого поста. Пасхальные яйца верующие дарят друг другу как символ чудесного появления на свет- Воскресения Христов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Monotype Corsiva"/>
              </a:rPr>
              <a:t>Открыты царские врата пред нам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Monotype Corsiva"/>
              </a:rPr>
              <a:t>Святой огонь сияет от свеч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Monotype Corsiva"/>
              </a:rPr>
              <a:t>Цветные яйца, пасхи, кулич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Monotype Corsiva"/>
              </a:rPr>
              <a:t>Еще темно, но солнышко играет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Monotype Corsiva"/>
              </a:rPr>
              <a:t>Играет всеми красками небес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Monotype Corsiva"/>
              </a:rPr>
              <a:t>И радостно друг другу повторяе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Monotype Corsiva"/>
              </a:rPr>
              <a:t>«Христос воскрес!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Monotype Corsiva"/>
              </a:rPr>
              <a:t>«Востину воскрес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3" descr="DSC05941.JPG"/>
          <p:cNvPicPr/>
          <p:nvPr/>
        </p:nvPicPr>
        <p:blipFill>
          <a:blip r:embed="rId1"/>
          <a:stretch/>
        </p:blipFill>
        <p:spPr>
          <a:xfrm>
            <a:off x="4140360" y="3933720"/>
            <a:ext cx="4608360" cy="2297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Пусть благодать в душе царит, и щедрость сердца не увянет, Господь спасет и сохранит, и благоденствие подарит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одержимое 3" descr="DSC05937.JPG"/>
          <p:cNvPicPr/>
          <p:nvPr/>
        </p:nvPicPr>
        <p:blipFill>
          <a:blip r:embed="rId1"/>
          <a:stretch/>
        </p:blipFill>
        <p:spPr>
          <a:xfrm>
            <a:off x="208080" y="1773360"/>
            <a:ext cx="7070760" cy="906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одержимое 3" descr="пасхальные яйца2.jpeg"/>
          <p:cNvPicPr/>
          <p:nvPr/>
        </p:nvPicPr>
        <p:blipFill>
          <a:blip r:embed="rId1"/>
          <a:stretch/>
        </p:blipFill>
        <p:spPr>
          <a:xfrm>
            <a:off x="468360" y="2044800"/>
            <a:ext cx="3095640" cy="18889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пасхальные яйца3.jpeg"/>
          <p:cNvPicPr/>
          <p:nvPr/>
        </p:nvPicPr>
        <p:blipFill>
          <a:blip r:embed="rId2"/>
          <a:stretch/>
        </p:blipFill>
        <p:spPr>
          <a:xfrm>
            <a:off x="6516720" y="2205000"/>
            <a:ext cx="1727280" cy="21607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пасхальные яйца картинки 1.jpeg"/>
          <p:cNvPicPr/>
          <p:nvPr/>
        </p:nvPicPr>
        <p:blipFill>
          <a:blip r:embed="rId3"/>
          <a:stretch/>
        </p:blipFill>
        <p:spPr>
          <a:xfrm rot="684600">
            <a:off x="3604680" y="2004480"/>
            <a:ext cx="2981520" cy="155124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6" descr="кулич.jpg"/>
          <p:cNvPicPr/>
          <p:nvPr/>
        </p:nvPicPr>
        <p:blipFill>
          <a:blip r:embed="rId4"/>
          <a:stretch/>
        </p:blipFill>
        <p:spPr>
          <a:xfrm rot="672000">
            <a:off x="3634920" y="3763440"/>
            <a:ext cx="3530520" cy="21448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DSC05940.JPG"/>
          <p:cNvPicPr/>
          <p:nvPr/>
        </p:nvPicPr>
        <p:blipFill>
          <a:blip r:embed="rId5"/>
          <a:stretch/>
        </p:blipFill>
        <p:spPr>
          <a:xfrm>
            <a:off x="-122400" y="3816360"/>
            <a:ext cx="3786480" cy="270684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8" descr="1ландыши.jpeg"/>
          <p:cNvPicPr/>
          <p:nvPr/>
        </p:nvPicPr>
        <p:blipFill>
          <a:blip r:embed="rId6"/>
          <a:stretch/>
        </p:blipFill>
        <p:spPr>
          <a:xfrm rot="826800">
            <a:off x="7039080" y="5102280"/>
            <a:ext cx="1695240" cy="14907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9" descr="21л.jpeg"/>
          <p:cNvPicPr/>
          <p:nvPr/>
        </p:nvPicPr>
        <p:blipFill>
          <a:blip r:embed="rId7"/>
          <a:stretch/>
        </p:blipFill>
        <p:spPr>
          <a:xfrm>
            <a:off x="2987640" y="5716440"/>
            <a:ext cx="14400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Технология приготовления бисквитного тест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DSC02864.JPG"/>
          <p:cNvPicPr/>
          <p:nvPr/>
        </p:nvPicPr>
        <p:blipFill>
          <a:blip r:embed="rId1"/>
          <a:stretch/>
        </p:blipFill>
        <p:spPr>
          <a:xfrm>
            <a:off x="395280" y="1773360"/>
            <a:ext cx="81374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-387720"/>
            <a:ext cx="8964720" cy="19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На 1кг. торта: 8 яиц, 1 стакан сахара, 1стакан мук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3" descr="DSC02865.JPG"/>
          <p:cNvPicPr/>
          <p:nvPr/>
        </p:nvPicPr>
        <p:blipFill>
          <a:blip r:embed="rId1"/>
          <a:stretch/>
        </p:blipFill>
        <p:spPr>
          <a:xfrm>
            <a:off x="611280" y="1052640"/>
            <a:ext cx="7913520" cy="5329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Белки отделить от желтков. Белки взбивать до устойчивой пики. Далее добавить 1стакан сахара, потом влить желтки. Постепенно добавлять муку, перемешивая снизу ввер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DSC02866.JPG"/>
          <p:cNvPicPr/>
          <p:nvPr/>
        </p:nvPicPr>
        <p:blipFill>
          <a:blip r:embed="rId1"/>
          <a:stretch/>
        </p:blipFill>
        <p:spPr>
          <a:xfrm>
            <a:off x="539640" y="1600200"/>
            <a:ext cx="7777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80360" cy="85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Получится  вот такое тест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DSC02867.JPG"/>
          <p:cNvPicPr/>
          <p:nvPr/>
        </p:nvPicPr>
        <p:blipFill>
          <a:blip r:embed="rId1"/>
          <a:stretch/>
        </p:blipFill>
        <p:spPr>
          <a:xfrm>
            <a:off x="395280" y="1600200"/>
            <a:ext cx="82803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Положить тесто в маленькие круглые формы на пергамент, выпекать при температуре 175градусо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DSC02868.JPG"/>
          <p:cNvPicPr/>
          <p:nvPr/>
        </p:nvPicPr>
        <p:blipFill>
          <a:blip r:embed="rId1"/>
          <a:stretch/>
        </p:blipFill>
        <p:spPr>
          <a:xfrm>
            <a:off x="324000" y="1600200"/>
            <a:ext cx="835164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Каждый корж разрезать вдоль, промазать взбитыми сливками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DSC02869.JPG"/>
          <p:cNvPicPr/>
          <p:nvPr/>
        </p:nvPicPr>
        <p:blipFill>
          <a:blip r:embed="rId1"/>
          <a:stretch/>
        </p:blipFill>
        <p:spPr>
          <a:xfrm>
            <a:off x="395280" y="1600200"/>
            <a:ext cx="820908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ь ягоды клубники, сложить в форме яйц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DSC02870.JPG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47800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Клубника.jpeg"/>
          <p:cNvPicPr/>
          <p:nvPr/>
        </p:nvPicPr>
        <p:blipFill>
          <a:blip r:embed="rId2"/>
          <a:stretch/>
        </p:blipFill>
        <p:spPr>
          <a:xfrm>
            <a:off x="444600" y="4432320"/>
            <a:ext cx="267660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03:41:22Z</dcterms:created>
  <dc:creator>admin</dc:creator>
  <dc:description/>
  <dc:language>en-US</dc:language>
  <cp:lastModifiedBy>Ольга</cp:lastModifiedBy>
  <dcterms:modified xsi:type="dcterms:W3CDTF">2012-04-26T07:14:24Z</dcterms:modified>
  <cp:revision>44</cp:revision>
  <dc:subject/>
  <dc:title>Пасхальный торт</dc:title>
</cp:coreProperties>
</file>