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AFF7-79A1-4AA2-AD67-4D90C677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9EFF-9AE8-4291-90E3-BAD33B6E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BF28-67B1-4DC0-AD37-4DFF8C1C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B5F6-7F6F-4BAA-8B32-16EDF729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47F-B8E1-4902-9AFB-89893A4B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7B21-7F38-4D3D-942B-94333117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4DEF-E2C0-43C8-BA52-43D2EAFD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8F7-C83C-49A5-A644-7353547B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30FB-46F8-4E0E-BC73-BF2D0B89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AC40-8CE9-4B49-98C7-5863E512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6697-297A-4943-9EB9-32C2457A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0A80-1D7F-4904-84AA-87A70936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5C4C-057E-40A3-A250-989E5380B0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default.jpg"/>
          <p:cNvPicPr/>
          <p:nvPr/>
        </p:nvPicPr>
        <p:blipFill>
          <a:blip r:embed="rId1"/>
          <a:stretch/>
        </p:blipFill>
        <p:spPr>
          <a:xfrm>
            <a:off x="-30240" y="0"/>
            <a:ext cx="9204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143000" y="1214280"/>
            <a:ext cx="70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32523"/>
                </a:solidFill>
                <a:latin typeface="Garamond"/>
              </a:rPr>
              <a:t>КУКЛЫ НА ВЕСН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1"/>
          <p:cNvSpPr/>
          <p:nvPr/>
        </p:nvSpPr>
        <p:spPr>
          <a:xfrm>
            <a:off x="1428840" y="2571840"/>
            <a:ext cx="5572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2"/>
          <p:cNvSpPr/>
          <p:nvPr/>
        </p:nvSpPr>
        <p:spPr>
          <a:xfrm>
            <a:off x="1428840" y="2928960"/>
            <a:ext cx="5643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Times New Roman"/>
              </a:rPr>
              <a:t>«Из всех существующих в мире загад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Times New Roman"/>
              </a:rPr>
              <a:t>тайна куклы – самая загадочна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Times New Roman"/>
              </a:rPr>
              <a:t>без понимания сущности кукл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Times New Roman"/>
              </a:rPr>
              <a:t>невозможно понять и человека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М.Е. Салтыков-Щедр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1357200" y="53578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Часть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FloraMasterPr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714240" y="428760"/>
            <a:ext cx="78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ВЫПОЛНЕНИЯ КУКЛЫ ПАСХ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500040" y="12142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ля Пасхальной куколки нам понадобятся Белый прямоугольник х/б ткани, кусочки х/б ткани красных тонов, ватка, нитки, огарочек восковой свечечки, белый сухарик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1285920" y="2428920"/>
            <a:ext cx="59292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FloraMasterPr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3071880" cy="164304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4214880" y="64296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кладываем прямоугольник белой ткани втрое - получится длинная поло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500040" y="2357280"/>
            <a:ext cx="3071880" cy="1714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4214880" y="25718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кручиваем полосу в "бочоночек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4"/>
          <a:stretch/>
        </p:blipFill>
        <p:spPr>
          <a:xfrm>
            <a:off x="500040" y="4429080"/>
            <a:ext cx="3048120" cy="1857600"/>
          </a:xfrm>
          <a:prstGeom prst="rect">
            <a:avLst/>
          </a:prstGeom>
          <a:ln w="0">
            <a:noFill/>
          </a:ln>
        </p:spPr>
      </p:pic>
      <p:sp>
        <p:nvSpPr>
          <p:cNvPr id="56" name="TextBox 7"/>
          <p:cNvSpPr/>
          <p:nvPr/>
        </p:nvSpPr>
        <p:spPr>
          <a:xfrm>
            <a:off x="4214880" y="471492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еревязываем ниточкой чуть выше середины "бочоночк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FloraMasterPr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500040" y="428760"/>
            <a:ext cx="2803680" cy="1643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500040" y="2500200"/>
            <a:ext cx="2857680" cy="173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4"/>
          <a:stretch/>
        </p:blipFill>
        <p:spPr>
          <a:xfrm>
            <a:off x="500040" y="4686480"/>
            <a:ext cx="2786040" cy="167148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3929040" y="57168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 центр красного квадрата кладем шарик ват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3857760" y="2714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Затягиваем ниточк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3857760" y="492912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справляем уголочки и делаем ладош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FloraMasterPr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857160" y="428760"/>
            <a:ext cx="2691000" cy="1571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3"/>
          <a:stretch/>
        </p:blipFill>
        <p:spPr>
          <a:xfrm>
            <a:off x="5072040" y="428760"/>
            <a:ext cx="2548080" cy="1571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4"/>
          <a:stretch/>
        </p:blipFill>
        <p:spPr>
          <a:xfrm>
            <a:off x="785880" y="2214720"/>
            <a:ext cx="2714400" cy="178596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4000680" y="2143080"/>
            <a:ext cx="44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ладем в середину "бочоночек" -тельце куколки, и плотно приставляем его к голов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5"/>
          <a:stretch/>
        </p:blipFill>
        <p:spPr>
          <a:xfrm>
            <a:off x="642960" y="4429080"/>
            <a:ext cx="2905200" cy="1928880"/>
          </a:xfrm>
          <a:prstGeom prst="rect">
            <a:avLst/>
          </a:prstGeom>
          <a:ln w="0">
            <a:noFill/>
          </a:ln>
        </p:spPr>
      </p:pic>
      <p:sp>
        <p:nvSpPr>
          <p:cNvPr id="70" name="TextBox 7"/>
          <p:cNvSpPr/>
          <p:nvPr/>
        </p:nvSpPr>
        <p:spPr>
          <a:xfrm>
            <a:off x="4071960" y="4714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ладем на "бочоночек" ватку - это будет грудь, так что ваты не жалейте - пусть будет пышногрудая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FloraMasterPr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1000080" y="428760"/>
            <a:ext cx="2571840" cy="1928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4929120" y="500040"/>
            <a:ext cx="2548080" cy="191124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785880" y="2571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пускаем, поднятый ранее, верхний слой ткани и формируем грудь. Завязываем талию ниточкой, фиксируя груд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4"/>
          <a:stretch/>
        </p:blipFill>
        <p:spPr>
          <a:xfrm>
            <a:off x="928800" y="342900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5"/>
          <a:stretch/>
        </p:blipFill>
        <p:spPr>
          <a:xfrm>
            <a:off x="4857840" y="3500280"/>
            <a:ext cx="2690640" cy="1911600"/>
          </a:xfrm>
          <a:prstGeom prst="rect">
            <a:avLst/>
          </a:prstGeom>
          <a:ln w="0">
            <a:noFill/>
          </a:ln>
        </p:spPr>
      </p:pic>
      <p:sp>
        <p:nvSpPr>
          <p:cNvPr id="77" name="TextBox 7"/>
          <p:cNvSpPr/>
          <p:nvPr/>
        </p:nvSpPr>
        <p:spPr>
          <a:xfrm>
            <a:off x="857160" y="578628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ворачиваем куколку к нам спинкой и одеваем юбочк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857160" y="607212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Фиксируем ниточк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FloraMasterPr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857160" y="428760"/>
            <a:ext cx="2476440" cy="1643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4857840" y="428760"/>
            <a:ext cx="2476440" cy="164304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357120" y="221472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ереворачиваем куколку к нам личиком. Завязываем фартучек. Опускаем ег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4"/>
          <a:stretch/>
        </p:blipFill>
        <p:spPr>
          <a:xfrm>
            <a:off x="785880" y="2643120"/>
            <a:ext cx="2571840" cy="1839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5"/>
          <a:stretch/>
        </p:blipFill>
        <p:spPr>
          <a:xfrm>
            <a:off x="4857840" y="2643120"/>
            <a:ext cx="2571840" cy="1720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6"/>
          <a:stretch/>
        </p:blipFill>
        <p:spPr>
          <a:xfrm>
            <a:off x="857160" y="4857840"/>
            <a:ext cx="2381400" cy="17859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3857760" y="4929120"/>
            <a:ext cx="45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вязываем куколке «подкосыночку» и косыноч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FloraMasterPr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642960" y="428760"/>
            <a:ext cx="2548080" cy="1911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4952880" y="500040"/>
            <a:ext cx="2381400" cy="178596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500040" y="242892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 котомку куколке кладем ватку и белый сухарик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571680" y="2714760"/>
            <a:ext cx="53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Завязываем узелок-котом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4"/>
          <a:stretch/>
        </p:blipFill>
        <p:spPr>
          <a:xfrm>
            <a:off x="642960" y="3286080"/>
            <a:ext cx="2500200" cy="333396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3643200" y="3929040"/>
            <a:ext cx="471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 одной ручке куколки привязываем котомочку, к другой - свечечку, а на шею одеваем красивые бусы. Куколка готов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17:54:38Z</dcterms:created>
  <dc:creator>Sul</dc:creator>
  <dc:description/>
  <dc:language>en-US</dc:language>
  <cp:lastModifiedBy>Ольга</cp:lastModifiedBy>
  <dcterms:modified xsi:type="dcterms:W3CDTF">2012-04-24T16:00:18Z</dcterms:modified>
  <cp:revision>4</cp:revision>
  <dc:subject/>
  <dc:title>Слайд 1</dc:title>
</cp:coreProperties>
</file>