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288C-A695-435F-8F76-66E2FC33DC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D48A-9944-45A5-86AC-C743C62FAC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0B7-9215-4501-ABDF-612D4088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B6C-82A6-4FE7-A218-3A1E3388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85C-8D03-4E0B-BE60-631BA8DF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5C9-0D47-41A4-A9B1-4749C087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355-FEAA-48C1-875E-4BD2F75A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057-4FB9-49BB-983D-A342DA69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6BF-FFD7-4737-8D8A-4D44F74D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4F0-F7B3-4CE3-9CCA-35169CD8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E35-A298-420E-83CA-82621C69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919-12AC-4533-A3A0-4AC246E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1C8-0207-458E-9030-C4B43D02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8C3-5318-4707-9AC3-53CFF38A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9760-EE8A-4422-90BB-4D241415A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ngratulatorycard.ru/frameforphoto/3/small1560foto20.png" TargetMode="External"/><Relationship Id="rId3" Type="http://schemas.openxmlformats.org/officeDocument/2006/relationships/hyperlink" Target="http://www.congratulatorycard.ru/frameforphoto/3/small1560foto20.png" TargetMode="External"/><Relationship Id="rId4" Type="http://schemas.openxmlformats.org/officeDocument/2006/relationships/hyperlink" Target="http://www.congratulatorycard.ru/frameforphoto/3/small1560foto20.png" TargetMode="External"/><Relationship Id="rId5" Type="http://schemas.openxmlformats.org/officeDocument/2006/relationships/hyperlink" Target="http://www.congratulatorycard.ru/frameforphoto/3/small1560foto20.png" TargetMode="External"/><Relationship Id="rId6" Type="http://schemas.openxmlformats.org/officeDocument/2006/relationships/hyperlink" Target="http://www.congratulatorycard.ru/frameforphoto/3/small1560foto20.png" TargetMode="External"/><Relationship Id="rId7" Type="http://schemas.openxmlformats.org/officeDocument/2006/relationships/hyperlink" Target="http://www.congratulatorycard.ru/frameforphoto/3/small1560foto20.png" TargetMode="External"/><Relationship Id="rId8" Type="http://schemas.openxmlformats.org/officeDocument/2006/relationships/hyperlink" Target="http://img0.liveinternet.ru/images/attach/c/1/56/882/56882348_1269432565_78a53f9cecad.png" TargetMode="External"/><Relationship Id="rId9" Type="http://schemas.openxmlformats.org/officeDocument/2006/relationships/hyperlink" Target="http://img0.liveinternet.ru/images/attach/c/1/56/882/56882348_1269432565_78a53f9cecad.png" TargetMode="External"/><Relationship Id="rId10" Type="http://schemas.openxmlformats.org/officeDocument/2006/relationships/hyperlink" Target="http://img0.liveinternet.ru/images/attach/c/1/56/882/56882348_1269432565_78a53f9cecad.png" TargetMode="External"/><Relationship Id="rId11" Type="http://schemas.openxmlformats.org/officeDocument/2006/relationships/hyperlink" Target="http://img0.liveinternet.ru/images/attach/c/1/56/882/56882348_1269432565_78a53f9cecad.png" TargetMode="External"/><Relationship Id="rId12" Type="http://schemas.openxmlformats.org/officeDocument/2006/relationships/hyperlink" Target="http://img0.liveinternet.ru/images/attach/c/1/56/882/56882348_1269432565_78a53f9cecad.png" TargetMode="External"/><Relationship Id="rId13" Type="http://schemas.openxmlformats.org/officeDocument/2006/relationships/hyperlink" Target="http://img0.liveinternet.ru/images/attach/c/1/56/882/56882348_1269432565_78a53f9cecad.png" TargetMode="External"/><Relationship Id="rId14" Type="http://schemas.openxmlformats.org/officeDocument/2006/relationships/hyperlink" Target="http://img1.liveinternet.ru/images/attach/c/1/56/925/56925038_1269516409_Risunoko.png" TargetMode="External"/><Relationship Id="rId15" Type="http://schemas.openxmlformats.org/officeDocument/2006/relationships/hyperlink" Target="http://img1.liveinternet.ru/images/attach/c/1/56/925/56925038_1269516409_Risunoko.png" TargetMode="External"/><Relationship Id="rId16" Type="http://schemas.openxmlformats.org/officeDocument/2006/relationships/hyperlink" Target="http://img1.liveinternet.ru/images/attach/c/1/56/925/56925038_1269516409_Risunoko.png" TargetMode="External"/><Relationship Id="rId17" Type="http://schemas.openxmlformats.org/officeDocument/2006/relationships/hyperlink" Target="http://img1.liveinternet.ru/images/attach/c/1/56/925/56925038_1269516409_Risunoko.png" TargetMode="External"/><Relationship Id="rId18" Type="http://schemas.openxmlformats.org/officeDocument/2006/relationships/hyperlink" Target="http://img1.liveinternet.ru/images/attach/c/1/56/925/56925038_1269516409_Risunoko.png" TargetMode="External"/><Relationship Id="rId19" Type="http://schemas.openxmlformats.org/officeDocument/2006/relationships/hyperlink" Target="http://img1.liveinternet.ru/images/attach/c/1/56/925/56925038_1269516409_Risunoko.png" TargetMode="External"/><Relationship Id="rId20" Type="http://schemas.openxmlformats.org/officeDocument/2006/relationships/hyperlink" Target="http://img1.liveinternet.ru/images/attach/c/1/56/925/56925038_1269516409_Risunoko.png" TargetMode="External"/><Relationship Id="rId21" Type="http://schemas.openxmlformats.org/officeDocument/2006/relationships/hyperlink" Target="http://img1.liveinternet.ru/images/attach/c/1/56/925/56925038_1269516409_Risunoko.png" TargetMode="External"/><Relationship Id="rId22" Type="http://schemas.openxmlformats.org/officeDocument/2006/relationships/hyperlink" Target="http://img1.liveinternet.ru/images/attach/c/1/56/925/56925038_1269516409_Risunoko.png" TargetMode="External"/><Relationship Id="rId23" Type="http://schemas.openxmlformats.org/officeDocument/2006/relationships/hyperlink" Target="http://img1.liveinternet.ru/images/attach/c/1/56/925/56925038_1269516409_Risunoko.png" TargetMode="External"/><Relationship Id="rId24" Type="http://schemas.openxmlformats.org/officeDocument/2006/relationships/hyperlink" Target="http://img1.liveinternet.ru/images/attach/c/1/56/925/56925038_1269516409_Risunoko.png" TargetMode="External"/><Relationship Id="rId25" Type="http://schemas.openxmlformats.org/officeDocument/2006/relationships/hyperlink" Target="http://img1.liveinternet.ru/images/attach/c/1/56/925/56925038_1269516409_Risunoko.png" TargetMode="External"/><Relationship Id="rId26" Type="http://schemas.openxmlformats.org/officeDocument/2006/relationships/hyperlink" Target="http://img1.liveinternet.ru/images/attach/c/1/56/925/56925038_1269516409_Risunoko.png" TargetMode="External"/><Relationship Id="rId27" Type="http://schemas.openxmlformats.org/officeDocument/2006/relationships/hyperlink" Target="http://img1.liveinternet.ru/images/attach/c/1/56/925/56925038_1269516409_Risunoko.png" TargetMode="External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2"/>
          <a:stretch/>
        </p:blipFill>
        <p:spPr>
          <a:xfrm>
            <a:off x="3633840" y="719280"/>
            <a:ext cx="5186160" cy="4028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284720" y="4221000"/>
            <a:ext cx="4680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стер-класс учителя технолог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БОУ СОШ №16 г.Балако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ратовск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апаевой Светланы Владимиров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Doroga_dobra.mp3" descr=""/>
          <p:cNvPicPr/>
          <p:nvPr/>
        </p:nvPicPr>
        <p:blipFill>
          <a:blip r:embed="rId3"/>
          <a:stretch/>
        </p:blipFill>
        <p:spPr>
          <a:xfrm>
            <a:off x="250920" y="6119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"/>
          <p:cNvPicPr/>
          <p:nvPr/>
        </p:nvPicPr>
        <p:blipFill>
          <a:blip r:embed="rId4"/>
          <a:stretch/>
        </p:blipFill>
        <p:spPr>
          <a:xfrm>
            <a:off x="3924360" y="5622840"/>
            <a:ext cx="52149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2"/>
          <a:stretch/>
        </p:blipFill>
        <p:spPr>
          <a:xfrm>
            <a:off x="4643280" y="1738440"/>
            <a:ext cx="3057840" cy="35985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4643280" y="1052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асхальный зайчик гот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335640" y="5291280"/>
            <a:ext cx="244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2"/>
          <a:stretch/>
        </p:blipFill>
        <p:spPr>
          <a:xfrm>
            <a:off x="4500720" y="1835280"/>
            <a:ext cx="3720960" cy="3600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4427640" y="907920"/>
            <a:ext cx="379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боту выполнила ученица 2 класса Капаева Викт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335640" y="5291280"/>
            <a:ext cx="244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708360" y="765000"/>
            <a:ext cx="4896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н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congratulatorycard.ru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frameforphoto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3/small1560foto20.pn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айд 2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img0.liveinternet.ru/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images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attach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/c/1//56/882/56882348_1269432565_78a53f9cecad.pn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айд 3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://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img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1.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liveinternet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.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ru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images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attach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/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c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1//56/925/56925038_1269516409_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isunok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узыка «Дорога добр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тографии из личного архива Капаевой С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59"/>
          <p:cNvPicPr/>
          <p:nvPr/>
        </p:nvPicPr>
        <p:blipFill>
          <a:blip r:embed="rId28"/>
          <a:srcRect l="34638" t="58563" r="33338" b="2112"/>
          <a:stretch/>
        </p:blipFill>
        <p:spPr>
          <a:xfrm>
            <a:off x="6335640" y="5291280"/>
            <a:ext cx="244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3851280" y="836640"/>
            <a:ext cx="460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асха́льный за́яц (кролик) — пасхальный символ в культуре некоторых стран Западной Европы. В современности пасхального зайца можно встретить в разнообразных проявлениях. Это и шоколадные зайцы всевозможных форм, марципановые зайцы, формы для кексов в виде зайцев, и просто кролики, которых охотно дарят на пасх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2"/>
          <a:stretch/>
        </p:blipFill>
        <p:spPr>
          <a:xfrm>
            <a:off x="5230800" y="3860640"/>
            <a:ext cx="3913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067280" y="907920"/>
            <a:ext cx="41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схальным утром, рано-ран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саду кто-то гулял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 сонных кустов стряхнул рос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 травушку примял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схальный зайчик приходи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всем не просто та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н к пасхе яйца принос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о где они?! Итак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Г. Нойман-Хеклер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511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3780000" y="2468520"/>
            <a:ext cx="4146480" cy="35989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4211640" y="836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Материалы и инструмент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салфетка из ткани квадратной формы или платочек, пасхальное яйцо (большое и маленькое), резинки 6 шту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335640" y="5202360"/>
            <a:ext cx="2617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2"/>
          <a:stretch/>
        </p:blipFill>
        <p:spPr>
          <a:xfrm>
            <a:off x="3727440" y="2774880"/>
            <a:ext cx="383220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4140360" y="836640"/>
            <a:ext cx="44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Собрать 2  верхних уголка салфетки для ушек и закрепить резинкой.  В середину вложить головку,  это может быть маленькое перепелиное яйцо, грецкий орешек или круглая  конфе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227640" y="5373720"/>
            <a:ext cx="26654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2"/>
          <a:stretch/>
        </p:blipFill>
        <p:spPr>
          <a:xfrm>
            <a:off x="4167360" y="1628640"/>
            <a:ext cx="4360680" cy="3600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175280" y="1052640"/>
            <a:ext cx="46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Голову закрепить резинкой (ше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313320" y="5138640"/>
            <a:ext cx="2506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3436920" cy="3600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4067280" y="105264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о бокам сформировать лапки-ручки, закрепить резин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372360" y="5106960"/>
            <a:ext cx="2520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2"/>
          <a:stretch/>
        </p:blipFill>
        <p:spPr>
          <a:xfrm>
            <a:off x="4572000" y="1689120"/>
            <a:ext cx="3297240" cy="3598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4427640" y="98100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В середину вложить пасхальное яичко (животик зай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443640" y="5229360"/>
            <a:ext cx="244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4427640" y="2084400"/>
            <a:ext cx="333540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4356000" y="116064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Сформировать нижние лапки, закрепить резин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443640" y="5229360"/>
            <a:ext cx="244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7:24:00Z</dcterms:created>
  <dc:creator>MadGrave</dc:creator>
  <dc:description/>
  <dc:language>en-US</dc:language>
  <cp:lastModifiedBy>Ольга</cp:lastModifiedBy>
  <dcterms:modified xsi:type="dcterms:W3CDTF">2012-03-16T19:29:13Z</dcterms:modified>
  <cp:revision>12</cp:revision>
  <dc:subject/>
  <dc:title>Презентация PowerPoint</dc:title>
</cp:coreProperties>
</file>