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1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8.gif" ContentType="image/gif"/>
  <Override PartName="/ppt/media/image9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9A8-4B94-47EC-9FC9-EBF8F369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954-23DE-44EA-AF33-2FFB165D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164-6AA3-4315-87BF-75639385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1AC-BB90-45E1-8CAA-CD4C804D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D486-9722-4A23-9871-CAF3D0AC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E76C-5F20-46E2-A7CC-2383D5CE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11F0-7063-48AB-A8E4-0CE415D8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E662-586E-4675-91E9-3973A1BA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E53B-E927-4DB1-9D85-3312A539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346A-8347-4568-A130-0A445849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1270-21D2-4BF5-AAF8-B469EFEE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A61-2D79-4C74-9043-0EFD9453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5089-7886-40B1-B480-A67579F9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BA87-6718-4034-B7CE-C2052459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1E1A-3192-41BC-9908-7394C529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6D15-E110-4F03-B94F-1836D3BA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D45C-EA96-4B45-9661-F36E23D1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DDB-B948-4655-BCBB-6B3EBDD4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362-AD47-4E32-A82F-C93EA523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EEA-C5FD-4E4D-B0E2-A131AC3A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767-5BCD-45D7-9DD4-BEA96108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051-FB57-404E-B9F5-9D4F532A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CE8-4DB2-4D39-B0D1-F01255E6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A1F-5972-4710-81CF-B42941C3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dc5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c567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dc5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6666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78CA-F323-4013-A553-B002E2FC96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5c567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adc5b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5c567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adc5b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c5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C26E-D475-40E9-8EAC-8FBE9FCAE08C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c567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dc5b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c567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dc5b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5c5674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adc5b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c5674"/>
                </a:solidFill>
                <a:latin typeface="Times New Roman"/>
              </a:rPr>
              <a:t>Вязаная шаль:</a:t>
            </a:r>
            <a:br>
              <a:rPr sz="4800"/>
            </a:br>
            <a:r>
              <a:rPr b="0" lang="en-US" sz="3600" spc="-1" strike="noStrike">
                <a:solidFill>
                  <a:srgbClr val="5c5674"/>
                </a:solidFill>
                <a:latin typeface="Times New Roman"/>
              </a:rPr>
              <a:t>технология выполн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440" y="495252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c5674"/>
                </a:solidFill>
                <a:latin typeface="Arial"/>
              </a:rPr>
              <a:t>Автор: Ямбикова Светлана Владиславовна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c5674"/>
                </a:solidFill>
                <a:latin typeface="Arial"/>
              </a:rPr>
              <a:t>преподаватель технологии ГОУ СПО «Ичалковский педагогический колледж м.С.М.Кирова» Республика Мордов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2720" y="30492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674"/>
                </a:solidFill>
                <a:latin typeface="Times New Roman"/>
              </a:rPr>
              <a:t>Интернет-выставка-конкурс «Себя украшу я сам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638680" y="3695760"/>
            <a:ext cx="3048120" cy="2286000"/>
          </a:xfrm>
          <a:prstGeom prst="rect">
            <a:avLst/>
          </a:prstGeom>
          <a:ln w="57240">
            <a:solidFill>
              <a:srgbClr val="5c5674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068840" y="685440"/>
            <a:ext cx="29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dc5b8"/>
                </a:solidFill>
                <a:latin typeface="Times New Roman"/>
              </a:rPr>
              <a:t>Номинация «Аксессуа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5674"/>
                </a:solidFill>
                <a:latin typeface="Times New Roman"/>
              </a:rPr>
              <a:t>Этапы разработ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674"/>
                </a:solidFill>
                <a:latin typeface="Times New Roman"/>
              </a:rPr>
              <a:t>1. Анализ литературы, Интернет-сай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674"/>
                </a:solidFill>
                <a:latin typeface="Times New Roman"/>
              </a:rPr>
              <a:t>2. Выбор модели, определение схемы вязания крючк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674"/>
                </a:solidFill>
                <a:latin typeface="Times New Roman"/>
              </a:rPr>
              <a:t>3. Подбор пряж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674"/>
                </a:solidFill>
                <a:latin typeface="Times New Roman"/>
              </a:rPr>
              <a:t>4. Вязание элементов по схем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674"/>
                </a:solidFill>
                <a:latin typeface="Times New Roman"/>
              </a:rPr>
              <a:t>5. Соединение элементов в единое цел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674"/>
                </a:solidFill>
                <a:latin typeface="Times New Roman"/>
              </a:rPr>
              <a:t>6. Выполнение кайм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674"/>
                </a:solidFill>
                <a:latin typeface="Times New Roman"/>
              </a:rPr>
              <a:t>7. Окончательная отдел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62120" cy="691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590400">
            <a:off x="5257800" y="2742840"/>
            <a:ext cx="3276720" cy="2455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674"/>
                </a:solidFill>
                <a:latin typeface="Times New Roman"/>
              </a:rPr>
              <a:t>Вязание крючком элементов по круговой схе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674"/>
                </a:solidFill>
                <a:latin typeface="Times New Roman"/>
              </a:rPr>
              <a:t>Вывязываем 78 квадратов и 13 треугольни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181480" y="2666880"/>
            <a:ext cx="3021120" cy="3048120"/>
          </a:xfrm>
          <a:prstGeom prst="rect">
            <a:avLst/>
          </a:prstGeom>
          <a:ln w="28440">
            <a:solidFill>
              <a:srgbClr val="5c5674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66680" y="2590920"/>
            <a:ext cx="3124440" cy="3124080"/>
          </a:xfrm>
          <a:prstGeom prst="rect">
            <a:avLst/>
          </a:prstGeom>
          <a:ln w="28440">
            <a:solidFill>
              <a:srgbClr val="5c5674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419720" y="3429000"/>
            <a:ext cx="530280" cy="1147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5674"/>
                </a:solidFill>
                <a:latin typeface="Times New Roman"/>
              </a:rPr>
              <a:t>Условные обознач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60958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5674"/>
                </a:solidFill>
                <a:latin typeface="Times New Roman"/>
              </a:rPr>
              <a:t>Воздушная пет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5674"/>
                </a:solidFill>
                <a:latin typeface="Times New Roman"/>
              </a:rPr>
              <a:t>Соединительный столб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5674"/>
                </a:solidFill>
                <a:latin typeface="Times New Roman"/>
              </a:rPr>
              <a:t>Столбик без наки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5674"/>
                </a:solidFill>
                <a:latin typeface="Times New Roman"/>
              </a:rPr>
              <a:t>Столбик с накид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5674"/>
                </a:solidFill>
                <a:latin typeface="Times New Roman"/>
              </a:rPr>
              <a:t>Столбик с двумя накид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5674"/>
                </a:solidFill>
                <a:latin typeface="Times New Roman"/>
              </a:rPr>
              <a:t>Пико (3 в.п.,, 1 соед.столбик в 1 воздушную петлю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503280" cy="2286000"/>
          </a:xfrm>
          <a:prstGeom prst="rect">
            <a:avLst/>
          </a:prstGeom>
          <a:ln w="12600">
            <a:solidFill>
              <a:srgbClr val="5c5674"/>
            </a:solidFill>
            <a:miter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674"/>
                </a:solidFill>
                <a:latin typeface="Times New Roman"/>
              </a:rPr>
              <a:t>Соединение элементов в единое целое по схеме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04920" y="19810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34120" y="4267080"/>
            <a:ext cx="3352680" cy="1955880"/>
          </a:xfrm>
          <a:prstGeom prst="rect">
            <a:avLst/>
          </a:prstGeom>
          <a:ln w="28440">
            <a:solidFill>
              <a:srgbClr val="5c5674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952880" y="19432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5674"/>
                </a:solidFill>
                <a:latin typeface="Times New Roman"/>
              </a:rPr>
              <a:t>Соединение ромбов и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567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5c5674"/>
                </a:solidFill>
                <a:latin typeface="Times New Roman"/>
              </a:rPr>
              <a:t>между собой выполняют при помощи полустолб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5674"/>
                </a:solidFill>
                <a:latin typeface="Times New Roman"/>
              </a:rPr>
              <a:t>Выполнение кайм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5043240" cy="3782880"/>
          </a:xfrm>
          <a:prstGeom prst="rect">
            <a:avLst/>
          </a:prstGeom>
          <a:ln w="28440">
            <a:solidFill>
              <a:srgbClr val="5c5674"/>
            </a:solidFill>
            <a:miter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19720" y="762120"/>
            <a:ext cx="4495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c5674"/>
                </a:solidFill>
                <a:latin typeface="Times New Roman"/>
              </a:rPr>
              <a:t>Тёплые уютные вещи создают ощущение защищённости, тепла, уюта.</a:t>
            </a:r>
            <a:br>
              <a:rPr sz="2400"/>
            </a:br>
            <a:r>
              <a:rPr b="1" i="1" lang="en-US" sz="2400" spc="-1" strike="noStrike">
                <a:solidFill>
                  <a:srgbClr val="5c5674"/>
                </a:solidFill>
                <a:latin typeface="Times New Roman"/>
              </a:rPr>
              <a:t>А вязание вносит равновесие, успокаивает.</a:t>
            </a:r>
            <a:br>
              <a:rPr sz="2400"/>
            </a:br>
            <a:r>
              <a:rPr b="1" i="1" lang="en-US" sz="2400" spc="-1" strike="noStrike">
                <a:solidFill>
                  <a:srgbClr val="5c5674"/>
                </a:solidFill>
                <a:latin typeface="Times New Roman"/>
              </a:rPr>
              <a:t>Возможно, это именно то, чего нам не хватает в современный стремительный век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19720" y="472392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c5674"/>
                </a:solidFill>
                <a:latin typeface="Times New Roman"/>
              </a:rPr>
              <a:t>Желаю Ва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c5674"/>
                </a:solidFill>
                <a:latin typeface="Times New Roman"/>
              </a:rPr>
              <a:t>приятной работы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1371600"/>
            <a:ext cx="3151440" cy="4662360"/>
          </a:xfrm>
          <a:prstGeom prst="rect">
            <a:avLst/>
          </a:prstGeom>
          <a:ln w="28440">
            <a:solidFill>
              <a:srgbClr val="5c5674"/>
            </a:solidFill>
            <a:miter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3-25T21:58:5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