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F7E-52CF-4336-A4FF-35A061A2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907-E53D-4630-8274-BA25B524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986-C556-4093-AC9E-1A636234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465-3DF4-40B5-ACA5-83159E76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AAE-8E0D-458D-A870-455959D3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C0C-F7CF-46D0-9BA1-944A1E31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8EB-5F68-4D6C-86B8-0C528FED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31A-A2B2-408C-B386-DDC8F488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7AD-D76E-44BA-8255-EBCE4A99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483-705E-4CFC-B053-1EB9FE29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6B2-BC9B-4FEA-B4DA-6DEB61B9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E5B-2177-4C9D-9040-5152E241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27C0-C493-48CA-B635-00C9C4BF8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002.radikal.ru/i199/1002/ee/779b283b4c2f.jpg" TargetMode="External"/><Relationship Id="rId3" Type="http://schemas.openxmlformats.org/officeDocument/2006/relationships/hyperlink" Target="http://s002.radikal.ru/i199/1002/ee/779b283b4c2f.jpg" TargetMode="External"/><Relationship Id="rId4" Type="http://schemas.openxmlformats.org/officeDocument/2006/relationships/hyperlink" Target="http://s002.radikal.ru/i199/1002/ee/779b283b4c2f.jpg" TargetMode="External"/><Relationship Id="rId5" Type="http://schemas.openxmlformats.org/officeDocument/2006/relationships/hyperlink" Target="http://s002.radikal.ru/i199/1002/ee/779b283b4c2f.jpg" TargetMode="External"/><Relationship Id="rId6" Type="http://schemas.openxmlformats.org/officeDocument/2006/relationships/hyperlink" Target="http://s002.radikal.ru/i199/1002/ee/779b283b4c2f.jpg" TargetMode="External"/><Relationship Id="rId7" Type="http://schemas.openxmlformats.org/officeDocument/2006/relationships/hyperlink" Target="http://s002.radikal.ru/i199/1002/ee/779b283b4c2f.jpg" TargetMode="External"/><Relationship Id="rId8" Type="http://schemas.openxmlformats.org/officeDocument/2006/relationships/hyperlink" Target="http://s002.radikal.ru/i199/1002/ee/779b283b4c2f.jpg" TargetMode="External"/><Relationship Id="rId9" Type="http://schemas.openxmlformats.org/officeDocument/2006/relationships/hyperlink" Target="http://s002.radikal.ru/i199/1002/ee/779b283b4c2f.jpg" TargetMode="External"/><Relationship Id="rId10" Type="http://schemas.openxmlformats.org/officeDocument/2006/relationships/hyperlink" Target="http://s002.radikal.ru/i199/1002/ee/779b283b4c2f.jpg" TargetMode="External"/><Relationship Id="rId11" Type="http://schemas.openxmlformats.org/officeDocument/2006/relationships/hyperlink" Target="http://s002.radikal.ru/i199/1002/ee/779b283b4c2f.jpg" TargetMode="External"/><Relationship Id="rId12" Type="http://schemas.openxmlformats.org/officeDocument/2006/relationships/hyperlink" Target="http://s002.radikal.ru/i199/1002/ee/779b283b4c2f.jpg" TargetMode="External"/><Relationship Id="rId13" Type="http://schemas.openxmlformats.org/officeDocument/2006/relationships/hyperlink" Target="http://s002.radikal.ru/i199/1002/ee/779b283b4c2f.jpg" TargetMode="External"/><Relationship Id="rId14" Type="http://schemas.openxmlformats.org/officeDocument/2006/relationships/hyperlink" Target="http://s002.radikal.ru/i199/1002/ee/779b283b4c2f.jpg" TargetMode="External"/><Relationship Id="rId15" Type="http://schemas.openxmlformats.org/officeDocument/2006/relationships/hyperlink" Target="http://s002.radikal.ru/i199/1002/ee/779b283b4c2f.jpg" TargetMode="External"/><Relationship Id="rId16" Type="http://schemas.openxmlformats.org/officeDocument/2006/relationships/hyperlink" Target="http://s002.radikal.ru/i199/1002/ee/779b283b4c2f.jpg" TargetMode="External"/><Relationship Id="rId17" Type="http://schemas.openxmlformats.org/officeDocument/2006/relationships/hyperlink" Target="http://s002.radikal.ru/i199/1002/ee/779b283b4c2f.jpg" TargetMode="External"/><Relationship Id="rId18" Type="http://schemas.openxmlformats.org/officeDocument/2006/relationships/hyperlink" Target="http://s002.radikal.ru/i199/1002/ee/779b283b4c2f.jpg" TargetMode="External"/><Relationship Id="rId19" Type="http://schemas.openxmlformats.org/officeDocument/2006/relationships/hyperlink" Target="http://s002.radikal.ru/i199/1002/ee/779b283b4c2f.jpg" TargetMode="External"/><Relationship Id="rId20" Type="http://schemas.openxmlformats.org/officeDocument/2006/relationships/hyperlink" Target="http://s002.radikal.ru/i199/1002/ee/779b283b4c2f.jpg" TargetMode="External"/><Relationship Id="rId21" Type="http://schemas.openxmlformats.org/officeDocument/2006/relationships/hyperlink" Target="http://s002.radikal.ru/i199/1002/ee/779b283b4c2f.jpg" TargetMode="External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2050920" y="1784520"/>
            <a:ext cx="69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alibri"/>
              </a:rPr>
              <a:t>Номинация «Украшен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Calibri"/>
              </a:rPr>
              <a:t>Изделие - ожерелье «Розовые мечт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Calibri"/>
              </a:rPr>
              <a:t>Техника - вязание крюч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Calibri"/>
              </a:rPr>
              <a:t>Работа учителя технологии МОУ «СОШ №16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Calibri"/>
              </a:rPr>
              <a:t>г.Балаково Саратов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alibri"/>
              </a:rPr>
              <a:t>Капаевой Светланы</a:t>
            </a:r>
            <a:r>
              <a:rPr b="1" i="1" lang="en-US" sz="24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990099"/>
                </a:solidFill>
                <a:latin typeface="Calibri"/>
              </a:rPr>
              <a:t>Владимиров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2"/>
          <a:stretch/>
        </p:blipFill>
        <p:spPr>
          <a:xfrm>
            <a:off x="2195640" y="1052640"/>
            <a:ext cx="59227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826920" y="1922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                       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Ход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24000" y="1413000"/>
            <a:ext cx="85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тупить к сборке. Аккуратно, один ряд 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им, снять петельки с портновских булавок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адить их на застежку для бус сначала 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й, а затем с другой стороны. Туго завяз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5519880" cy="4140360"/>
          </a:xfrm>
          <a:prstGeom prst="rect">
            <a:avLst/>
          </a:prstGeom>
          <a:ln w="936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324000" y="1413000"/>
            <a:ext cx="856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жерелье готово!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2916360" y="1125360"/>
            <a:ext cx="3290760" cy="3959280"/>
          </a:xfrm>
          <a:prstGeom prst="rect">
            <a:avLst/>
          </a:prstGeom>
          <a:ln w="9360">
            <a:solidFill>
              <a:srgbClr val="b83d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826920" y="1922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835280" y="1424160"/>
            <a:ext cx="7041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н 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Calibri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Calibri"/>
                <a:hlinkClick r:id="rId3"/>
              </a:rPr>
              <a:t>://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Calibri"/>
                <a:hlinkClick r:id="rId4"/>
              </a:rPr>
              <a:t>s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Calibri"/>
                <a:hlinkClick r:id="rId5"/>
              </a:rPr>
              <a:t>002.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Calibri"/>
                <a:hlinkClick r:id="rId6"/>
              </a:rPr>
              <a:t>radikal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Calibri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Calibri"/>
                <a:hlinkClick r:id="rId8"/>
              </a:rPr>
              <a:t>ru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Calibri"/>
                <a:hlinkClick r:id="rId9"/>
              </a:rPr>
              <a:t>/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Calibri"/>
                <a:hlinkClick r:id="rId10"/>
              </a:rPr>
              <a:t>i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Calibri"/>
                <a:hlinkClick r:id="rId11"/>
              </a:rPr>
              <a:t>199/1002/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Calibri"/>
                <a:hlinkClick r:id="rId12"/>
              </a:rPr>
              <a:t>ee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Calibri"/>
                <a:hlinkClick r:id="rId13"/>
              </a:rPr>
              <a:t>/779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Calibri"/>
                <a:hlinkClick r:id="rId14"/>
              </a:rPr>
              <a:t>b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Calibri"/>
                <a:hlinkClick r:id="rId15"/>
              </a:rPr>
              <a:t>283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Calibri"/>
                <a:hlinkClick r:id="rId16"/>
              </a:rPr>
              <a:t>b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Calibri"/>
                <a:hlinkClick r:id="rId17"/>
              </a:rPr>
              <a:t>4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Calibri"/>
                <a:hlinkClick r:id="rId18"/>
              </a:rPr>
              <a:t>c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Calibri"/>
                <a:hlinkClick r:id="rId19"/>
              </a:rPr>
              <a:t>2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Calibri"/>
                <a:hlinkClick r:id="rId20"/>
              </a:rPr>
              <a:t>f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Calibri"/>
                <a:hlinkClick r:id="rId21"/>
              </a:rPr>
              <a:t>.</a:t>
            </a:r>
            <a:r>
              <a:rPr b="0" lang="en-US" sz="2400" spc="-1" strike="noStrike" u="sng">
                <a:solidFill>
                  <a:srgbClr val="990099"/>
                </a:solidFill>
                <a:uFillTx/>
                <a:latin typeface="Calibri"/>
              </a:rPr>
              <a:t>jpg</a:t>
            </a:r>
            <a:r>
              <a:rPr b="0" lang="en-US" sz="2400" spc="-1" strike="noStrike">
                <a:solidFill>
                  <a:srgbClr val="9900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ея: Страна Мастеро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stranamasterov.ru/node/848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тографии из личного архива Капаевой С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тер-кла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формат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персональном сайте «Обслуживающий труд»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ot.ucoz.ru/load/master_klass/ozherele_quot_rozovye_mechty_quot/7-1-0-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619280" y="1922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Материалы и инструмен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179280" y="1413000"/>
            <a:ext cx="8745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ска (диаметр 1,6 – 2,0мм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5-40 метро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ючок № 3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сер белого цвет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сер розового цвета (2 оттенка) 30-40 грамм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сины белого и розового цве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очек для бу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нтиметровая лен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тновские булав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фото 1"/>
          <p:cNvPicPr/>
          <p:nvPr/>
        </p:nvPicPr>
        <p:blipFill>
          <a:blip r:embed="rId2"/>
          <a:stretch/>
        </p:blipFill>
        <p:spPr>
          <a:xfrm>
            <a:off x="4361040" y="981000"/>
            <a:ext cx="4314600" cy="3238560"/>
          </a:xfrm>
          <a:prstGeom prst="rect">
            <a:avLst/>
          </a:prstGeom>
          <a:ln w="936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826920" y="1922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                          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Ход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108000" y="1413000"/>
            <a:ext cx="90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низать бисер на леску в любом порядк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и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,5 м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ажно: леску не отрезать –  на этой леске  вяжется изделие!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5280120" cy="3959280"/>
          </a:xfrm>
          <a:prstGeom prst="rect">
            <a:avLst/>
          </a:prstGeom>
          <a:ln w="9360">
            <a:solidFill>
              <a:srgbClr val="b83d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826920" y="1922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                       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Ход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95280" y="141300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ступить от самого начала лески 5 см и завяз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зелок с петель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2"/>
          <a:stretch/>
        </p:blipFill>
        <p:spPr>
          <a:xfrm>
            <a:off x="2411280" y="1052640"/>
            <a:ext cx="5280120" cy="3960720"/>
          </a:xfrm>
          <a:prstGeom prst="rect">
            <a:avLst/>
          </a:prstGeom>
          <a:ln w="9360">
            <a:solidFill>
              <a:srgbClr val="b83d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826920" y="1922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                       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Ход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24000" y="1413000"/>
            <a:ext cx="856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еть в эту петельку крючок,  подвину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иже к узелку 2 бисеринки и связ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душную петель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2"/>
          <a:stretch/>
        </p:blipFill>
        <p:spPr>
          <a:xfrm>
            <a:off x="2500200" y="1197000"/>
            <a:ext cx="5280120" cy="3959280"/>
          </a:xfrm>
          <a:prstGeom prst="rect">
            <a:avLst/>
          </a:prstGeom>
          <a:ln w="9360">
            <a:solidFill>
              <a:srgbClr val="b83d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826920" y="1922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                       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Ход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24000" y="1413000"/>
            <a:ext cx="85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язать  в следующем порядке: петелька 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серинками, петелька с 3 бисеринкам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воздушные пет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2"/>
          <a:stretch/>
        </p:blipFill>
        <p:spPr>
          <a:xfrm>
            <a:off x="2484360" y="1197000"/>
            <a:ext cx="5280120" cy="3959280"/>
          </a:xfrm>
          <a:prstGeom prst="rect">
            <a:avLst/>
          </a:prstGeom>
          <a:ln w="9360">
            <a:solidFill>
              <a:srgbClr val="b83d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826920" y="1922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                       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Ход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324000" y="1413000"/>
            <a:ext cx="856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зав отрезок 40 см сделать переход и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 воздушных пе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2"/>
          <a:stretch/>
        </p:blipFill>
        <p:spPr>
          <a:xfrm>
            <a:off x="2484360" y="1197000"/>
            <a:ext cx="5280120" cy="3959280"/>
          </a:xfrm>
          <a:prstGeom prst="rect">
            <a:avLst/>
          </a:prstGeom>
          <a:ln w="9360">
            <a:solidFill>
              <a:srgbClr val="b83d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826920" y="1922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                       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Ход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979640" y="777960"/>
            <a:ext cx="691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олжить вязание, каждый раз увеличивая длину цепочки между 5-ю пустыми петельками на 1,5…2 см: первый отрезок  40 см + 5 воздушных петель, следующий -  42 см + 5 воздушных петель и т.д. Связать 9-12 отрез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ончить последний отрез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почки  5-ю воздушны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тельками, отступить от н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 см, обрезать леску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язать узел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2"/>
          <a:stretch/>
        </p:blipFill>
        <p:spPr>
          <a:xfrm>
            <a:off x="108000" y="2708280"/>
            <a:ext cx="4559400" cy="3421080"/>
          </a:xfrm>
          <a:prstGeom prst="rect">
            <a:avLst/>
          </a:prstGeom>
          <a:ln w="9360">
            <a:solidFill>
              <a:srgbClr val="b83d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826920" y="1922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                       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Ход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324000" y="1413000"/>
            <a:ext cx="85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ожить  связанную цепочку зигзагом на тка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подушке. В местах с  «переходами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5 воздушных петель) закрепить  цепочк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тновскими булав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2627280" y="981000"/>
            <a:ext cx="5280120" cy="3959280"/>
          </a:xfrm>
          <a:prstGeom prst="rect">
            <a:avLst/>
          </a:prstGeom>
          <a:ln w="9360">
            <a:solidFill>
              <a:srgbClr val="b83d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3:10:22Z</dcterms:created>
  <dc:creator>MadGrave</dc:creator>
  <dc:description/>
  <dc:language>en-US</dc:language>
  <cp:lastModifiedBy>Admin</cp:lastModifiedBy>
  <dcterms:modified xsi:type="dcterms:W3CDTF">2011-03-26T19:14:49Z</dcterms:modified>
  <cp:revision>18</cp:revision>
  <dc:subject/>
  <dc:title>Презентация PowerPoint</dc:title>
</cp:coreProperties>
</file>